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266E-0988-4D36-A3CD-0B9599031B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 потрібно проектувати життєдіяльність особистості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ування - створення проекції того, що буде зроблено в майбутнь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можна сформувати успішну особистість б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ектованої діяльності, бо саме через неї можна включити потрібні  ціл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вітній проц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5334-3D13-4F54-B99E-54A273B939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0DFB-A380-4F7F-8F1D-E97C76494C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ш настрі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ка по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у пили? А ча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цюєм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2E80-C0F6-4B73-BBF4-3BD8A17459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003B-AA2A-4889-BC89-907937B45D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 потрібно проектувати життєдіяльність особистості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ування - створення проекції того, що буде зроблено в майбутнь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можна сформувати успішну особистість б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ектованої діяльності, бо саме через неї можна включити потрібні  ціл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вітній проц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42ED-0BAE-4105-83AD-E5A154F29B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39FB-F669-457D-BFE4-34896DE21E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 потрібно проектувати життєдіяльність особистості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ування - створення проекції того, що буде зроблено в майбутнь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можна сформувати успішну особистість б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ектованої діяльності, бо саме через неї можна включити потрібні  ціл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вітній проц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ADBE-E370-4F2E-B15D-7D57FE171F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 потрібно проектувати життєдіяльність особистості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ування - створення проекції того, що буде зроблено в майбутнь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можна сформувати успішну особистість б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ектованої діяльності, бо саме через неї можна включити потрібні  ціл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вітній проц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D786-CE1D-42DB-B26F-E69C6E16FF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Як ви почувалися на тренінгу (палец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Чи було те, що для Вас особисто було корисним? (так, ні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 Вас є три папірця, трьох кольорі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а зеленому – напишіть ту інформацію чи знання, що будете використовува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а жовтому – те, що потребує Вашого переосмислен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а червоному – те, що було зайв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езентуєм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DB9D-007B-4055-B15B-769492B377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958F-2164-467A-83BF-F8E980007194}" type="slidenum"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A3DF-C621-45CF-877A-08277FF5C7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CBC5-0DB9-4B53-A779-19A80AEB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945D-E463-45D3-B606-CDEB4B7A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403CB-1524-4179-80A7-F81F297A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35C19-5D00-488D-8C44-CECE824B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802B8-F496-444D-BCF3-E014405D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CB3CC-3C06-4627-A373-F3285787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E44CC-9230-428D-9A3B-BA24F872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6FFEE-671C-423C-9E2A-3B219524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750E9-C130-4D99-A74F-947C7F21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60E8B-53EA-406F-AD7D-D81A7894A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72504-A18B-4216-8747-C770976C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03313-591C-4AFA-ADEC-CA6194829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0EDF-4198-4DCB-A538-523C125C0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45939-378E-437A-8287-9904353E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E66B77-CB95-4DD6-9EA0-45F7E2F4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CA300-4CC7-47BB-B915-CF0DD3A3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9324CB-6B2A-497E-8B49-DB0F9C2B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03E0A-2D4F-409B-9028-59286E4C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042AC-8D48-4CB3-A7C8-71A7450D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BEC1B-BF6B-420F-B45E-8C3642A7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384CF4-7738-48D4-881F-7256D42C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3DCEA-2F53-4DF4-BD7B-ABADD579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6894A-A231-46FB-9A71-3ACBAA8F0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F8C9-4030-4955-B7A7-2D5D0B2FA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59F63A-3A17-417F-B5AC-DC618C43E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5F31A-7B9F-4F6B-95CE-05422D8C9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E2929-7778-4380-A831-3C4B1189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4115F-6EA7-4E52-B021-2A346AAA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9E9BB-2EF3-4A68-98A9-2E40CE46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50708-58BC-4404-BE49-5289A62B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1A7CD-9D63-46DD-B08D-43D727CA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DC010-CCEA-44E3-A1A0-6A444C17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2180F-3863-4032-B106-070E51E1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23B9A-585E-467B-8813-4DB49561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CA45-2103-4F6B-A2A9-3489634F0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0C61E-C9CA-4B72-8370-06C132AC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3C9CE-2600-4991-A105-6A48FF110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48DD4-B653-4F5E-8AB0-521926B3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AE4B4-5524-41FB-A264-580E57595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ED281A-5F2F-454F-B347-3B4D433A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9A8F43-58AB-4CC9-84C9-F9A82149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DE84F2-DE24-49C3-8B77-8CB08F42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B37672-70D4-45E1-B696-148DD265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51D3A-0B3B-4841-90BA-4CDE063E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2E6C2E-8F64-4087-96E7-E90FD35C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DCD1-674E-4303-94D3-309ACF1A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942ACF-CDCB-49B8-858A-A0CA9992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83A46D-BC61-407A-8FE7-C56A76D0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C5301-9FFA-4A09-A0BC-E8BD1C6A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C9BBFC-A650-45BC-B11C-00CCE537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2D480-709B-4E64-B3C0-4782F8D7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198995-C46E-408C-9B27-20E61FAC9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786F73-4DBF-4B9C-B21A-D6E9AEE7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6F0B3E-2E32-4FEA-888B-44BED1D7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6C9B21-9388-46E6-9AA9-2EDF809E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7C77DB-30F4-42E3-A43D-3E68931D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0DA3-434E-4C3E-9DBE-CCEB17A6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BFAE39-3C7D-4BA3-9568-47DA9C79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7BA84D-0106-4E84-BE4F-D7EF17F8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E8C299-EA92-499D-9EEB-8E0EA895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655CD1-FC07-4E94-9B87-B555F923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5A784A-6676-4B0C-A2C4-75CBC55D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F8AAC0-8967-4979-9A59-B1DAEE9AE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5E147B-9B38-4CC0-B3D4-06725AC3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39AB-CFF4-461C-9F53-4E9BF801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FEF9-8184-4936-9F7E-E2997D28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05F1-6754-4612-99D9-8946205B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DCFB-900E-4643-9EB7-4CA9148F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E951-9945-4982-83E7-D14A6FDC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307F-CD34-46D7-A7D2-94AFB4DA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54BD-B5C4-4685-AEC1-3522D5BC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47E9-0854-477B-8E7C-B56A258B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6F92-09CE-42DD-A654-A6CD0A5C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13F7-99D4-43E5-8580-520478B15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BA7BF-B8D1-4FF3-8C1C-49ABCF0A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A5A11-DE8D-40B9-8A9E-46AD0456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E7BE7-0828-43D6-9990-0F433FAB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E80BA-5369-40DD-954E-132C3028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4ECCA-ECFA-47EF-9283-5EF3D09B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DA97-9846-4490-A707-1FA7C5D7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7A645-C92E-4CBD-874A-C11A3FB8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FD339-CB9D-4F77-9CB5-A89FE14E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BD703-E849-403D-819F-1B6684C3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DBD19-E79F-4529-8F04-B811A4A5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6324F-0B13-4E39-8AF8-3C055B92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C3FDD-11FA-4951-93C0-F4136C237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DC410-3FCF-434E-8218-A53AA9D2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045A9-A080-4DCC-900E-32EDAB157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FA080-1F0F-46D6-B2C2-80E211D3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CB963-10AB-4BA9-AEBA-754CE3ED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E293-7A9B-4C20-910D-E7BDAF20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0F188-463B-477E-B61F-8C8FF997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23B3C-8A60-4E73-9058-D5B14628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91F3A-9B19-4070-AEB4-559AABE4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45B4B-B142-451F-935B-AE4AC030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2CCAA-7E0F-4791-B6A3-7AA13C57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FDBAE-BC21-47A6-BAB4-3E61B248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367DB-FD5A-4506-BC38-E5E1A27E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9644A-9C9A-4197-95E4-13134CD61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1D04A-E0AD-4986-8E48-5D3EDC0A3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DE718-B53F-4EA1-8A1E-C8F34DB22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2B65-E1B4-432D-9D94-FEDBC067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99128-5CB1-4C5C-BA47-D57E2EB2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039DB-5780-4AED-8FDE-057B1384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EA7AC-7290-4D16-A2E8-4306A990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045EB-91AA-42C4-BE14-0CD8F153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68E84-4E22-4F82-A903-24D3AA10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01F3B-49F0-4E90-812B-125F013C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30F8E-2F7C-48AE-BD6B-566B00A7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2BEEF-DC63-4914-9110-12A063D6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6B263-48C9-4EDA-8D28-A4F4BE52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5B8D3-93B0-453B-A8FC-DC585AC00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3394-BD3B-4570-92B8-B557D122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0826C-BC3D-488E-9069-78DFCB5FA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CFE2B-FD67-45E0-A6C8-E60B9994F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FAC87-31C3-45DB-A228-16C3C77D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C2F5D-463B-4C7A-8BD9-2A790CA3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11BB7-79A2-4916-853A-0230CFF4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271D8-BCAA-472C-A3AB-1B98C614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C9A8A-A259-427B-AAA2-217EDAAB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8CD7A-5EB1-4D2E-A6F8-4B5C3338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1BAB3-353E-4564-BB15-D86FC660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6734E-5779-436C-B4AA-CBCAF5AB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FC37-C209-4DC3-B434-D6199627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F9934-2224-48FF-88EF-B11876E8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F69CF-E8AE-4329-A72C-E61EC4EF4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15B01-7B40-481C-A728-3FC6024F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582BF-8963-449F-9425-BDDB2A1E8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1B1E7-F21C-45B0-BFD6-E3CC1E9B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784AB-482E-4FC7-BFBD-E315BE98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7CE10-E2BB-4990-BA78-17518D2D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476EF-B1FE-4ABD-9690-C31DF6CD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BD1E0-3535-470E-A40A-976D00BB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72F76-B1C7-447A-976D-66694074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5F42-E1E4-4BFA-88C9-4F66A2A8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ECE7E-3480-4B35-951D-AB627C5D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31775-3219-435D-ACB1-0741AF90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A6F9A-58C3-48C1-B7F2-3FF0B727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B8517-8AC1-4927-9F7F-8102A5A59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DDA9E-69F7-4071-B88B-3B30E09DA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DA97A-065E-4FE1-AE80-98E50BFF9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42E2C-3903-4FC4-BA5D-5763ACE6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7D051-9287-41F2-A2DE-754177EC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C252C-B9DF-4FA6-A8AE-42FE4862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7EACB-61D9-4F53-AB95-A9F7B35F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9E86-ADC3-49F5-9E5B-96A735F1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0E66E-7518-454C-8A9D-0DB4FF99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3034A-97C7-4C84-9EA2-80897521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B4FB0-397A-4348-9672-2DBB1B65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25815-2332-42E1-AC4F-B521C637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F8461-5457-4EBA-98C5-EB6DE9A6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1ABCD-425D-4DCB-B331-41D15125A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E441B-1F23-4BE3-BC06-749F6905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00F5B-1A85-4D99-BE6C-DED4F444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4FFCA-682B-4C4B-9220-D72F0B7D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B474F-FCB7-44D7-B114-CE614A7E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0E3D-CD02-4662-973C-3D96EFFCE0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C342-4A8E-466B-B5D8-BCDEC436DC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C557-ADE0-4D4C-8F75-DD043A4D24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41AE-1146-47B7-BA65-E713D0E909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6670-7F5C-4801-843D-B67B791EF5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8"/>
          <p:cNvSpPr/>
          <p:nvPr/>
        </p:nvSpPr>
        <p:spPr>
          <a:xfrm>
            <a:off x="6019920" y="5934240"/>
            <a:ext cx="28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5930640" y="63846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124080" y="6476760"/>
            <a:ext cx="18288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C683-7BEF-47D3-87BD-A0C158E998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2D51-05AA-4294-924D-4BC1F1E688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6192-D8DD-4A41-BDAD-1FEC851BD0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E1B2-01BD-472D-833D-960B13612C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C31B-BBC8-4EFC-9432-7DB843D34A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28D0-CD21-47AB-9705-04ADB89C4D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007C-58DA-4EBA-9CE7-CC732C9FAF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075F-6EAD-4988-9729-8091CD325D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56944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ffffff"/>
                </a:solidFill>
                <a:uFillTx/>
                <a:latin typeface="Arial"/>
              </a:rPr>
              <a:t>Менеджмент знань для забезпечення якості освіти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3" name="Rectangle 5"/>
          <p:cNvSpPr/>
          <p:nvPr/>
        </p:nvSpPr>
        <p:spPr>
          <a:xfrm>
            <a:off x="250920" y="4527720"/>
            <a:ext cx="522108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Модерато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ОЯ РЯБОВА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відувач кафедри менеджменту освіти та права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ЗВО “Університет менеджменту освіти” НАПН Украї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Box 1"/>
          <p:cNvSpPr/>
          <p:nvPr/>
        </p:nvSpPr>
        <p:spPr>
          <a:xfrm>
            <a:off x="7020000" y="6237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І-Ф-20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43444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заклади освіти надають комплекс освітніх послуг, який спрямований на задоволення потреб споживачів, що пов’язаний зі зміною їх </a:t>
            </a:r>
            <a:r>
              <a:rPr b="1" lang="uk-UA" sz="3200" spc="-1" strike="noStrike">
                <a:solidFill>
                  <a:srgbClr val="eab85e"/>
                </a:solidFill>
                <a:latin typeface="Arial"/>
              </a:rPr>
              <a:t>освітнього рівня чи професійної підготовки</a:t>
            </a: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, і забезпечений ресурсами цього закладу 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0" name="Стрелка вниз 5"/>
          <p:cNvSpPr/>
          <p:nvPr/>
        </p:nvSpPr>
        <p:spPr>
          <a:xfrm>
            <a:off x="0" y="4149720"/>
            <a:ext cx="9144000" cy="100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09ee2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Цей комплекс послуг називаю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Овал 6"/>
          <p:cNvSpPr/>
          <p:nvPr/>
        </p:nvSpPr>
        <p:spPr>
          <a:xfrm>
            <a:off x="324000" y="5300640"/>
            <a:ext cx="8137440" cy="1368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Освітня програ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Заголовок 1"/>
          <p:cNvSpPr/>
          <p:nvPr/>
        </p:nvSpPr>
        <p:spPr>
          <a:xfrm>
            <a:off x="6588000" y="189000"/>
            <a:ext cx="2325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ccecff"/>
                </a:solidFill>
                <a:latin typeface="Arial"/>
              </a:rPr>
              <a:t>порозуміємо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587640" y="188640"/>
            <a:ext cx="23259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ccecff"/>
                </a:solidFill>
                <a:latin typeface="Arial"/>
              </a:rPr>
              <a:t>порозуміємося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4" name="Заголовок 1"/>
          <p:cNvSpPr/>
          <p:nvPr/>
        </p:nvSpPr>
        <p:spPr>
          <a:xfrm>
            <a:off x="3240" y="1160640"/>
            <a:ext cx="8913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2f2f2"/>
                </a:solidFill>
                <a:latin typeface="Arial"/>
              </a:rPr>
              <a:t>ЯКІСТЬ ОСВІТИ- </a:t>
            </a:r>
            <a:r>
              <a:rPr b="0" i="1" lang="uk-UA" sz="2800" spc="-1" strike="noStrike">
                <a:solidFill>
                  <a:srgbClr val="f2f2f2"/>
                </a:solidFill>
                <a:latin typeface="Arial"/>
              </a:rPr>
              <a:t>відповідність результатів навчання вимогам, встановленим законодавством, відповідним стандартом освіти та/або договором про надання освітніх послу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Заголовок 1"/>
          <p:cNvSpPr/>
          <p:nvPr/>
        </p:nvSpPr>
        <p:spPr>
          <a:xfrm>
            <a:off x="208080" y="3392640"/>
            <a:ext cx="89136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eab85e"/>
                </a:solidFill>
                <a:latin typeface="Arial"/>
              </a:rPr>
              <a:t>ЯКІСТЬ ОСВІТНЬОЇ ДІЯЛЬНОСТІ </a:t>
            </a:r>
            <a:r>
              <a:rPr b="0" i="1" lang="uk-UA" sz="2800" spc="-1" strike="noStrike">
                <a:solidFill>
                  <a:srgbClr val="f2f2f2"/>
                </a:solidFill>
                <a:latin typeface="Arial"/>
              </a:rPr>
              <a:t>- </a:t>
            </a:r>
            <a:r>
              <a:rPr b="0" lang="uk-UA" sz="2800" spc="-1" strike="noStrike">
                <a:solidFill>
                  <a:srgbClr val="709ee2"/>
                </a:solidFill>
                <a:latin typeface="Arial"/>
              </a:rPr>
              <a:t>рівень організації, забезпечення та реалізації освітнього процесу, що забезпечує здобуття особами якісної освіти та відповідає вимогам, встановленим законодавством та/або договором про надання освітніх послу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Заголовок 1"/>
          <p:cNvSpPr/>
          <p:nvPr/>
        </p:nvSpPr>
        <p:spPr>
          <a:xfrm>
            <a:off x="2187720" y="6165720"/>
            <a:ext cx="693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ccecff"/>
                </a:solidFill>
                <a:latin typeface="Arial"/>
              </a:rPr>
              <a:t>ЗУ « Про освіту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80640" y="732960"/>
            <a:ext cx="81630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ab85e"/>
                </a:solidFill>
                <a:latin typeface="Arial"/>
              </a:rPr>
              <a:t>Забезпечення якості надання освітніх послуг ґрунтується на задоволенні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08000" y="1947960"/>
            <a:ext cx="90360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09ee2"/>
                </a:solidFill>
                <a:latin typeface="Arial"/>
              </a:rPr>
              <a:t>ОСВІТНІХ ПОТРЕБ користувачів (споживачів, стейкхолдерів): 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09ee2"/>
                </a:solidFill>
                <a:latin typeface="Arial"/>
              </a:rPr>
              <a:t>1. Реалізація замовлення Держави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09ee2"/>
                </a:solidFill>
                <a:latin typeface="Arial"/>
              </a:rPr>
              <a:t>2. Врахування запитів громади (регіональне замовлення)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09ee2"/>
                </a:solidFill>
                <a:latin typeface="Arial"/>
              </a:rPr>
              <a:t>3. Орієнтація на потреби учасників освітнього процесу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99" name="Заголовок 1"/>
          <p:cNvSpPr/>
          <p:nvPr/>
        </p:nvSpPr>
        <p:spPr>
          <a:xfrm>
            <a:off x="6593040" y="-19080"/>
            <a:ext cx="2325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ccecff"/>
                </a:solidFill>
                <a:latin typeface="Arial"/>
              </a:rPr>
              <a:t>порозуміємо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Рисунок 5" descr=""/>
          <p:cNvPicPr/>
          <p:nvPr/>
        </p:nvPicPr>
        <p:blipFill>
          <a:blip r:embed="rId1"/>
          <a:srcRect l="21338" t="16384" r="5500" b="11805"/>
          <a:stretch/>
        </p:blipFill>
        <p:spPr>
          <a:xfrm>
            <a:off x="0" y="17640"/>
            <a:ext cx="9144000" cy="5859360"/>
          </a:xfrm>
          <a:prstGeom prst="rect">
            <a:avLst/>
          </a:prstGeom>
          <a:ln w="0">
            <a:noFill/>
          </a:ln>
        </p:spPr>
      </p:pic>
      <p:sp>
        <p:nvSpPr>
          <p:cNvPr id="601" name="Скругленный прямоугольник 6"/>
          <p:cNvSpPr/>
          <p:nvPr/>
        </p:nvSpPr>
        <p:spPr>
          <a:xfrm>
            <a:off x="3708360" y="6308640"/>
            <a:ext cx="5111640" cy="549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68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1e54"/>
                </a:solidFill>
                <a:latin typeface="Arial"/>
              </a:rPr>
              <a:t>Нова українська школа: основи Стандарту осві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Схема 5" descr=""/>
          <p:cNvPicPr/>
          <p:nvPr/>
        </p:nvPicPr>
        <p:blipFill>
          <a:blip r:embed="rId1"/>
          <a:stretch/>
        </p:blipFill>
        <p:spPr>
          <a:xfrm>
            <a:off x="212760" y="212760"/>
            <a:ext cx="87184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Group 2"/>
          <p:cNvGrpSpPr/>
          <p:nvPr/>
        </p:nvGrpSpPr>
        <p:grpSpPr>
          <a:xfrm>
            <a:off x="0" y="549360"/>
            <a:ext cx="8892720" cy="4478400"/>
            <a:chOff x="0" y="549360"/>
            <a:chExt cx="8892720" cy="4478400"/>
          </a:xfrm>
        </p:grpSpPr>
        <p:sp>
          <p:nvSpPr>
            <p:cNvPr id="604" name="Oval 3"/>
            <p:cNvSpPr/>
            <p:nvPr/>
          </p:nvSpPr>
          <p:spPr>
            <a:xfrm>
              <a:off x="0" y="981720"/>
              <a:ext cx="1878120" cy="356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e237e"/>
                  </a:solidFill>
                  <a:latin typeface="Times New Roman"/>
                  <a:ea typeface="Times New Roman"/>
                </a:rPr>
                <a:t>ЯКІСТЬ ОСВІТ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AutoShape 5"/>
            <p:cNvSpPr/>
            <p:nvPr/>
          </p:nvSpPr>
          <p:spPr>
            <a:xfrm>
              <a:off x="5085720" y="549360"/>
              <a:ext cx="285840" cy="4478400"/>
            </a:xfrm>
            <a:custGeom>
              <a:avLst/>
              <a:gdLst>
                <a:gd name="textAreaLeft" fmla="*/ 83880 w 285840"/>
                <a:gd name="textAreaRight" fmla="*/ 286200 w 285840"/>
                <a:gd name="textAreaTop" fmla="*/ 366480 h 4478400"/>
                <a:gd name="textAreaBottom" fmla="*/ 4111920 h 447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769"/>
                    <a:pt x="0" y="3537"/>
                  </a:cubicBezTo>
                  <a:lnTo>
                    <a:pt x="0" y="18063"/>
                  </a:lnTo>
                  <a:cubicBezTo>
                    <a:pt x="0" y="19832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Oval 6"/>
            <p:cNvSpPr/>
            <p:nvPr/>
          </p:nvSpPr>
          <p:spPr>
            <a:xfrm>
              <a:off x="5226120" y="549360"/>
              <a:ext cx="3341880" cy="96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e237e"/>
                  </a:solidFill>
                  <a:latin typeface="Times New Roman"/>
                  <a:ea typeface="Times New Roman"/>
                </a:rPr>
                <a:t>Якість умо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Oval 7"/>
            <p:cNvSpPr/>
            <p:nvPr/>
          </p:nvSpPr>
          <p:spPr>
            <a:xfrm>
              <a:off x="5371920" y="2274840"/>
              <a:ext cx="3341880" cy="96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e237e"/>
                  </a:solidFill>
                  <a:latin typeface="Times New Roman"/>
                  <a:ea typeface="Times New Roman"/>
                </a:rPr>
                <a:t>Якість процесу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Oval 8"/>
            <p:cNvSpPr/>
            <p:nvPr/>
          </p:nvSpPr>
          <p:spPr>
            <a:xfrm>
              <a:off x="5371920" y="4062600"/>
              <a:ext cx="3341880" cy="96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e237e"/>
                  </a:solidFill>
                  <a:latin typeface="Times New Roman"/>
                  <a:ea typeface="Times New Roman"/>
                </a:rPr>
                <a:t>Якість результату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AutoShape 9"/>
            <p:cNvSpPr/>
            <p:nvPr/>
          </p:nvSpPr>
          <p:spPr>
            <a:xfrm>
              <a:off x="8713800" y="549360"/>
              <a:ext cx="178920" cy="4478400"/>
            </a:xfrm>
            <a:custGeom>
              <a:avLst/>
              <a:gdLst>
                <a:gd name="textAreaLeft" fmla="*/ 0 w 178920"/>
                <a:gd name="textAreaRight" fmla="*/ 125640 w 178920"/>
                <a:gd name="textAreaTop" fmla="*/ 186480 h 4478400"/>
                <a:gd name="textAreaBottom" fmla="*/ 4291920 h 447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Oval 3"/>
            <p:cNvSpPr/>
            <p:nvPr/>
          </p:nvSpPr>
          <p:spPr>
            <a:xfrm>
              <a:off x="2697120" y="981720"/>
              <a:ext cx="1878120" cy="356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5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e237e"/>
                  </a:solidFill>
                  <a:latin typeface="Times New Roman"/>
                  <a:ea typeface="Times New Roman"/>
                </a:rPr>
                <a:t>ОСВІТНІ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e237e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800" spc="-1" strike="noStrike">
                  <a:solidFill>
                    <a:srgbClr val="0e237e"/>
                  </a:solidFill>
                  <a:latin typeface="Times New Roman"/>
                  <a:ea typeface="Times New Roman"/>
                </a:rPr>
                <a:t>ПОТРЕБ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e237e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800" spc="-1" strike="noStrike">
                  <a:solidFill>
                    <a:srgbClr val="0e237e"/>
                  </a:solidFill>
                  <a:latin typeface="Times New Roman"/>
                  <a:ea typeface="Times New Roman"/>
                </a:rPr>
                <a:t>СПОЖИ-ВАЧІ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1" name="Rectangle 2"/>
          <p:cNvSpPr/>
          <p:nvPr/>
        </p:nvSpPr>
        <p:spPr>
          <a:xfrm>
            <a:off x="468360" y="0"/>
            <a:ext cx="8675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ФОРМУЛА ЯКОСТІ ОСВІ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Равно 12"/>
          <p:cNvSpPr/>
          <p:nvPr/>
        </p:nvSpPr>
        <p:spPr>
          <a:xfrm>
            <a:off x="1908000" y="2205000"/>
            <a:ext cx="648000" cy="1152720"/>
          </a:xfrm>
          <a:custGeom>
            <a:avLst/>
            <a:gdLst/>
            <a:ahLst/>
            <a:rect l="l" t="t" r="r" b="b"/>
            <a:pathLst>
              <a:path w="647700" h="1152525">
                <a:moveTo>
                  <a:pt x="85853" y="237420"/>
                </a:moveTo>
                <a:lnTo>
                  <a:pt x="561847" y="237420"/>
                </a:lnTo>
                <a:lnTo>
                  <a:pt x="561847" y="508494"/>
                </a:lnTo>
                <a:lnTo>
                  <a:pt x="85853" y="508494"/>
                </a:lnTo>
                <a:lnTo>
                  <a:pt x="85853" y="237420"/>
                </a:lnTo>
                <a:close/>
                <a:moveTo>
                  <a:pt x="85853" y="644031"/>
                </a:moveTo>
                <a:lnTo>
                  <a:pt x="561847" y="644031"/>
                </a:lnTo>
                <a:lnTo>
                  <a:pt x="561847" y="915105"/>
                </a:lnTo>
                <a:lnTo>
                  <a:pt x="85853" y="915105"/>
                </a:lnTo>
                <a:lnTo>
                  <a:pt x="85853" y="64403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Умножение 13"/>
          <p:cNvSpPr/>
          <p:nvPr/>
        </p:nvSpPr>
        <p:spPr>
          <a:xfrm>
            <a:off x="4500720" y="2276640"/>
            <a:ext cx="698400" cy="914400"/>
          </a:xfrm>
          <a:custGeom>
            <a:avLst/>
            <a:gdLst/>
            <a:ahLst/>
            <a:rect l="l" t="t" r="r" b="b"/>
            <a:pathLst>
              <a:path w="698500" h="914400">
                <a:moveTo>
                  <a:pt x="102485" y="269480"/>
                </a:moveTo>
                <a:lnTo>
                  <a:pt x="233039" y="169752"/>
                </a:lnTo>
                <a:lnTo>
                  <a:pt x="349250" y="321882"/>
                </a:lnTo>
                <a:lnTo>
                  <a:pt x="465461" y="169752"/>
                </a:lnTo>
                <a:lnTo>
                  <a:pt x="596015" y="269480"/>
                </a:lnTo>
                <a:lnTo>
                  <a:pt x="452618" y="457200"/>
                </a:lnTo>
                <a:lnTo>
                  <a:pt x="596015" y="644920"/>
                </a:lnTo>
                <a:lnTo>
                  <a:pt x="465461" y="744648"/>
                </a:lnTo>
                <a:lnTo>
                  <a:pt x="349250" y="592518"/>
                </a:lnTo>
                <a:lnTo>
                  <a:pt x="233039" y="744648"/>
                </a:lnTo>
                <a:lnTo>
                  <a:pt x="102485" y="644920"/>
                </a:lnTo>
                <a:lnTo>
                  <a:pt x="245882" y="457200"/>
                </a:lnTo>
                <a:lnTo>
                  <a:pt x="102485" y="26948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Плюс 14"/>
          <p:cNvSpPr/>
          <p:nvPr/>
        </p:nvSpPr>
        <p:spPr>
          <a:xfrm>
            <a:off x="6443640" y="1557360"/>
            <a:ext cx="914400" cy="504720"/>
          </a:xfrm>
          <a:custGeom>
            <a:avLst/>
            <a:gdLst/>
            <a:ahLst/>
            <a:rect l="l" t="t" r="r" b="b"/>
            <a:pathLst>
              <a:path w="914400" h="504825">
                <a:moveTo>
                  <a:pt x="121204" y="193045"/>
                </a:moveTo>
                <a:lnTo>
                  <a:pt x="397833" y="193045"/>
                </a:lnTo>
                <a:lnTo>
                  <a:pt x="397833" y="66915"/>
                </a:lnTo>
                <a:lnTo>
                  <a:pt x="516567" y="66915"/>
                </a:lnTo>
                <a:lnTo>
                  <a:pt x="516567" y="193045"/>
                </a:lnTo>
                <a:lnTo>
                  <a:pt x="793196" y="193045"/>
                </a:lnTo>
                <a:lnTo>
                  <a:pt x="793196" y="311780"/>
                </a:lnTo>
                <a:lnTo>
                  <a:pt x="516567" y="311780"/>
                </a:lnTo>
                <a:lnTo>
                  <a:pt x="516567" y="437910"/>
                </a:lnTo>
                <a:lnTo>
                  <a:pt x="397833" y="437910"/>
                </a:lnTo>
                <a:lnTo>
                  <a:pt x="397833" y="311780"/>
                </a:lnTo>
                <a:lnTo>
                  <a:pt x="121204" y="311780"/>
                </a:lnTo>
                <a:lnTo>
                  <a:pt x="121204" y="19304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Плюс 15"/>
          <p:cNvSpPr/>
          <p:nvPr/>
        </p:nvSpPr>
        <p:spPr>
          <a:xfrm>
            <a:off x="6443640" y="3429000"/>
            <a:ext cx="914400" cy="504720"/>
          </a:xfrm>
          <a:custGeom>
            <a:avLst/>
            <a:gdLst/>
            <a:ahLst/>
            <a:rect l="l" t="t" r="r" b="b"/>
            <a:pathLst>
              <a:path w="914400" h="504825">
                <a:moveTo>
                  <a:pt x="121204" y="193045"/>
                </a:moveTo>
                <a:lnTo>
                  <a:pt x="397833" y="193045"/>
                </a:lnTo>
                <a:lnTo>
                  <a:pt x="397833" y="66915"/>
                </a:lnTo>
                <a:lnTo>
                  <a:pt x="516567" y="66915"/>
                </a:lnTo>
                <a:lnTo>
                  <a:pt x="516567" y="193045"/>
                </a:lnTo>
                <a:lnTo>
                  <a:pt x="793196" y="193045"/>
                </a:lnTo>
                <a:lnTo>
                  <a:pt x="793196" y="311780"/>
                </a:lnTo>
                <a:lnTo>
                  <a:pt x="516567" y="311780"/>
                </a:lnTo>
                <a:lnTo>
                  <a:pt x="516567" y="437910"/>
                </a:lnTo>
                <a:lnTo>
                  <a:pt x="397833" y="437910"/>
                </a:lnTo>
                <a:lnTo>
                  <a:pt x="397833" y="311780"/>
                </a:lnTo>
                <a:lnTo>
                  <a:pt x="121204" y="311780"/>
                </a:lnTo>
                <a:lnTo>
                  <a:pt x="121204" y="19304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Прямоугольник 18" descr=""/>
          <p:cNvPicPr/>
          <p:nvPr/>
        </p:nvPicPr>
        <p:blipFill>
          <a:blip r:embed="rId1"/>
          <a:stretch/>
        </p:blipFill>
        <p:spPr>
          <a:xfrm>
            <a:off x="0" y="3786120"/>
            <a:ext cx="3803760" cy="2754360"/>
          </a:xfrm>
          <a:prstGeom prst="rect">
            <a:avLst/>
          </a:prstGeom>
          <a:ln w="0">
            <a:noFill/>
          </a:ln>
        </p:spPr>
      </p:pic>
      <p:pic>
        <p:nvPicPr>
          <p:cNvPr id="617" name="Прямоугольник 19" descr=""/>
          <p:cNvPicPr/>
          <p:nvPr/>
        </p:nvPicPr>
        <p:blipFill>
          <a:blip r:embed="rId2"/>
          <a:stretch/>
        </p:blipFill>
        <p:spPr>
          <a:xfrm>
            <a:off x="2535120" y="4108320"/>
            <a:ext cx="4041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0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4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8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2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Дата 1"/>
          <p:cNvSpPr/>
          <p:nvPr/>
        </p:nvSpPr>
        <p:spPr>
          <a:xfrm>
            <a:off x="304920" y="655308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05.09.20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Нижний колонтитул 2"/>
          <p:cNvSpPr/>
          <p:nvPr/>
        </p:nvSpPr>
        <p:spPr>
          <a:xfrm>
            <a:off x="5943600" y="63244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ябо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0" name="Picture 3" descr=""/>
          <p:cNvPicPr/>
          <p:nvPr/>
        </p:nvPicPr>
        <p:blipFill>
          <a:blip r:embed="rId1"/>
          <a:srcRect l="13215" t="22657" r="32981" b="507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339640" y="122400"/>
            <a:ext cx="61196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ПИТАННЯ…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339640" y="1341000"/>
            <a:ext cx="651204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9ee2"/>
                </a:solidFill>
                <a:latin typeface="Arial"/>
              </a:rPr>
              <a:t>Забезпечення якості:</a:t>
            </a:r>
            <a:endParaRPr b="0" lang="en-US" sz="3200" spc="-1" strike="noStrike">
              <a:solidFill>
                <a:srgbClr val="709ee2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9ee2"/>
                </a:solidFill>
                <a:latin typeface="Arial"/>
              </a:rPr>
              <a:t>ОСВІТИ</a:t>
            </a:r>
            <a:r>
              <a:rPr b="0" lang="ru-RU" sz="3200" spc="-1" strike="noStrike">
                <a:solidFill>
                  <a:srgbClr val="709ee2"/>
                </a:solidFill>
                <a:latin typeface="Arial"/>
              </a:rPr>
              <a:t>…. чи</a:t>
            </a:r>
            <a:endParaRPr b="0" lang="en-US" sz="3200" spc="-1" strike="noStrike">
              <a:solidFill>
                <a:srgbClr val="709ee2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9ee2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9ee2"/>
              </a:solidFill>
              <a:latin typeface="Arial"/>
            </a:endParaRPr>
          </a:p>
          <a:p>
            <a:pPr algn="r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09ee2"/>
                </a:solidFill>
                <a:latin typeface="Arial"/>
              </a:rPr>
              <a:t>ОСВІТНІХ ПОСЛУГ?</a:t>
            </a:r>
            <a:r>
              <a:rPr b="0" lang="ru-RU" sz="2800" spc="-1" strike="noStrike">
                <a:solidFill>
                  <a:srgbClr val="709ee2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pic>
        <p:nvPicPr>
          <p:cNvPr id="623" name="Рисунок 2" descr=""/>
          <p:cNvPicPr/>
          <p:nvPr/>
        </p:nvPicPr>
        <p:blipFill>
          <a:blip r:embed="rId1"/>
          <a:srcRect l="36166" t="22441" r="35612" b="19488"/>
          <a:stretch/>
        </p:blipFill>
        <p:spPr>
          <a:xfrm>
            <a:off x="0" y="2997360"/>
            <a:ext cx="3672000" cy="35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2"/>
          <p:cNvSpPr/>
          <p:nvPr/>
        </p:nvSpPr>
        <p:spPr>
          <a:xfrm>
            <a:off x="1403280" y="1700280"/>
            <a:ext cx="74678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ВАША ДУМКА?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5" name="Рисунок 2" descr=""/>
          <p:cNvPicPr/>
          <p:nvPr/>
        </p:nvPicPr>
        <p:blipFill>
          <a:blip r:embed="rId1"/>
          <a:srcRect l="21222" t="38189" r="58303" b="18499"/>
          <a:stretch/>
        </p:blipFill>
        <p:spPr>
          <a:xfrm>
            <a:off x="179280" y="3333600"/>
            <a:ext cx="2664000" cy="3168720"/>
          </a:xfrm>
          <a:prstGeom prst="rect">
            <a:avLst/>
          </a:prstGeom>
          <a:ln w="0">
            <a:noFill/>
          </a:ln>
        </p:spPr>
      </p:pic>
      <p:sp>
        <p:nvSpPr>
          <p:cNvPr id="626" name="Rectangle 2"/>
          <p:cNvSpPr/>
          <p:nvPr/>
        </p:nvSpPr>
        <p:spPr>
          <a:xfrm>
            <a:off x="3564000" y="3716280"/>
            <a:ext cx="48243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МАЙЖЕ ТОТОЖНІ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16000" y="181080"/>
            <a:ext cx="69343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ccecff"/>
                </a:solidFill>
                <a:latin typeface="Arial"/>
              </a:rPr>
              <a:t>Чинники</a:t>
            </a:r>
            <a:br>
              <a:rPr sz="3200"/>
            </a:br>
            <a:r>
              <a:rPr b="1" i="1" lang="uk-UA" sz="3200" spc="-1" strike="noStrike">
                <a:solidFill>
                  <a:srgbClr val="ccecff"/>
                </a:solidFill>
                <a:latin typeface="Arial"/>
              </a:rPr>
              <a:t>забезпечення якості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8" name="Овал 2"/>
          <p:cNvSpPr/>
          <p:nvPr/>
        </p:nvSpPr>
        <p:spPr>
          <a:xfrm>
            <a:off x="179280" y="1628640"/>
            <a:ext cx="4321440" cy="1871640"/>
          </a:xfrm>
          <a:prstGeom prst="ellipse">
            <a:avLst/>
          </a:prstGeom>
          <a:solidFill>
            <a:srgbClr val="709ee2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озвиток потенціалу кожного учасника освітнього процес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Овал 8"/>
          <p:cNvSpPr/>
          <p:nvPr/>
        </p:nvSpPr>
        <p:spPr>
          <a:xfrm>
            <a:off x="1859040" y="3983040"/>
            <a:ext cx="5761080" cy="2254320"/>
          </a:xfrm>
          <a:prstGeom prst="ellipse">
            <a:avLst/>
          </a:prstGeom>
          <a:solidFill>
            <a:srgbClr val="709ee2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обудова гнучкої системи надання освітніх послуг та системи відстеження якості їх надан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Овал 10"/>
          <p:cNvSpPr/>
          <p:nvPr/>
        </p:nvSpPr>
        <p:spPr>
          <a:xfrm>
            <a:off x="4583160" y="1593720"/>
            <a:ext cx="4319640" cy="1871640"/>
          </a:xfrm>
          <a:prstGeom prst="ellipse">
            <a:avLst/>
          </a:prstGeom>
          <a:solidFill>
            <a:srgbClr val="709ee2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ивчення, формування, задоволення освітніх потреб споживачі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ВІТАЄМОСЯ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!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546" name="Group 83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547" name="AutoShape 84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9874f2"/>
            </a:solidFill>
            <a:ln w="12600">
              <a:solidFill>
                <a:srgbClr val="0e237e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AutoShape 85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9874f2"/>
            </a:solidFill>
            <a:ln w="25560">
              <a:solidFill>
                <a:srgbClr val="0e237e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Text Box 86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Ваш </a:t>
              </a:r>
              <a:r>
                <a:rPr b="0" lang="uk-UA" sz="1800" spc="-1" strike="noStrike">
                  <a:solidFill>
                    <a:srgbClr val="ffffff"/>
                  </a:solidFill>
                  <a:latin typeface="Arial"/>
                </a:rPr>
                <a:t>настрій……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Text Box 87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e237e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1" name="Group 88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552" name="AutoShape 89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709ee2"/>
            </a:solidFill>
            <a:ln w="12600">
              <a:solidFill>
                <a:srgbClr val="0e237e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AutoShape 90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709ee2"/>
            </a:solidFill>
            <a:ln w="25560">
              <a:solidFill>
                <a:srgbClr val="0e237e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Text Box 91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Як погодка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Text Box 92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e237e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6" name="Group 93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557" name="AutoShape 94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3b9d81"/>
            </a:solidFill>
            <a:ln w="12600">
              <a:solidFill>
                <a:srgbClr val="0e237e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AutoShape 95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3b9d81"/>
            </a:solidFill>
            <a:ln w="25560">
              <a:solidFill>
                <a:srgbClr val="0e237e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Text Box 96"/>
            <p:cNvSpPr/>
            <p:nvPr/>
          </p:nvSpPr>
          <p:spPr>
            <a:xfrm>
              <a:off x="2743200" y="3755880"/>
              <a:ext cx="411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ffff"/>
                  </a:solidFill>
                  <a:latin typeface="Arial"/>
                </a:rPr>
                <a:t>Каву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пили? А чай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Text Box 97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e237e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1" name="Group 98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562" name="AutoShape 99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80c040"/>
            </a:solidFill>
            <a:ln w="12600">
              <a:solidFill>
                <a:srgbClr val="0e237e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AutoShape 100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80c040"/>
            </a:solidFill>
            <a:ln w="25560">
              <a:solidFill>
                <a:srgbClr val="0e237e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Text Box 101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ffff"/>
                  </a:solidFill>
                  <a:latin typeface="Arial"/>
                </a:rPr>
                <a:t>Працюємо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Text Box 102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e237e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Выноска со стрелкой вниз 6"/>
          <p:cNvSpPr/>
          <p:nvPr/>
        </p:nvSpPr>
        <p:spPr>
          <a:xfrm>
            <a:off x="4716360" y="620640"/>
            <a:ext cx="3311640" cy="1513080"/>
          </a:xfrm>
          <a:prstGeom prst="downArrowCallout">
            <a:avLst>
              <a:gd name="adj1" fmla="val 24990"/>
              <a:gd name="adj2" fmla="val 24977"/>
              <a:gd name="adj3" fmla="val 25000"/>
              <a:gd name="adj4" fmla="val 64977"/>
            </a:avLst>
          </a:prstGeom>
          <a:solidFill>
            <a:srgbClr val="59c1ff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ffffff"/>
                </a:solidFill>
                <a:uFillTx/>
                <a:latin typeface="Arial"/>
              </a:rPr>
              <a:t>ВИРІШАЛЬНИЙ ЧИН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Скругленный прямоугольник 7"/>
          <p:cNvSpPr/>
          <p:nvPr/>
        </p:nvSpPr>
        <p:spPr>
          <a:xfrm>
            <a:off x="538200" y="2276640"/>
            <a:ext cx="7704000" cy="4105080"/>
          </a:xfrm>
          <a:prstGeom prst="roundRect">
            <a:avLst>
              <a:gd name="adj" fmla="val 16667"/>
            </a:avLst>
          </a:prstGeom>
          <a:solidFill>
            <a:srgbClr val="59c1ff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Формування такої філософії управління в галузі освіти, що пов'язана із розвитком педагогічного персоналу закладу осві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(кадри вирішують УСЕ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Заголовок 1"/>
          <p:cNvSpPr/>
          <p:nvPr/>
        </p:nvSpPr>
        <p:spPr>
          <a:xfrm>
            <a:off x="816120" y="1341360"/>
            <a:ext cx="8327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Яким чином забезпечити зазначен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Заголовок 1"/>
          <p:cNvSpPr/>
          <p:nvPr/>
        </p:nvSpPr>
        <p:spPr>
          <a:xfrm>
            <a:off x="4427640" y="115920"/>
            <a:ext cx="48974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ecff"/>
                </a:solidFill>
                <a:latin typeface="Arial"/>
              </a:rPr>
              <a:t>ВИНИКАЄ ЗАПИТАННЯ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5" name="Рисунок 2" descr=""/>
          <p:cNvPicPr/>
          <p:nvPr/>
        </p:nvPicPr>
        <p:blipFill>
          <a:blip r:embed="rId1"/>
          <a:srcRect l="36166" t="22441" r="35612" b="19488"/>
          <a:stretch/>
        </p:blipFill>
        <p:spPr>
          <a:xfrm>
            <a:off x="2771640" y="3314880"/>
            <a:ext cx="3672000" cy="35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944520" y="3927600"/>
            <a:ext cx="4800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Запровадження інновацій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7" name="Заголовок 1"/>
          <p:cNvSpPr/>
          <p:nvPr/>
        </p:nvSpPr>
        <p:spPr>
          <a:xfrm>
            <a:off x="468360" y="1413000"/>
            <a:ext cx="518328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Розвиток інтелектуального потенціалу закладу осві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Заголовок 1"/>
          <p:cNvSpPr/>
          <p:nvPr/>
        </p:nvSpPr>
        <p:spPr>
          <a:xfrm>
            <a:off x="3948120" y="189000"/>
            <a:ext cx="48960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ecff"/>
                </a:solidFill>
                <a:latin typeface="Arial"/>
              </a:rPr>
              <a:t>ЯКІСТЬ НАДАНН ОСТНІХ ПОСЛУГ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459160" y="333360"/>
            <a:ext cx="64800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НАПРЯМИ ЗАБЕЗПЕЧЕННЯ ЯО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40" name="Схема 5" descr=""/>
          <p:cNvPicPr/>
          <p:nvPr/>
        </p:nvPicPr>
        <p:blipFill>
          <a:blip r:embed="rId1"/>
          <a:stretch/>
        </p:blipFill>
        <p:spPr>
          <a:xfrm>
            <a:off x="249120" y="1054080"/>
            <a:ext cx="871884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763640" y="907920"/>
            <a:ext cx="6934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Провідний чинник забезпечення якості освіти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2" name="Нижний колонтитул 3"/>
          <p:cNvSpPr/>
          <p:nvPr/>
        </p:nvSpPr>
        <p:spPr>
          <a:xfrm>
            <a:off x="971640" y="2565360"/>
            <a:ext cx="734544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ffffff"/>
                </a:solidFill>
                <a:latin typeface="Arial"/>
              </a:rPr>
              <a:t>Людські ресурси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Заголовок 1"/>
          <p:cNvSpPr/>
          <p:nvPr/>
        </p:nvSpPr>
        <p:spPr>
          <a:xfrm>
            <a:off x="195120" y="549360"/>
            <a:ext cx="855360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c00000"/>
                </a:solidFill>
                <a:latin typeface="Arial"/>
              </a:rPr>
              <a:t>Професійна компетентні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c00000"/>
                </a:solidFill>
                <a:latin typeface="Arial"/>
              </a:rPr>
              <a:t>фахівця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ccecff"/>
                </a:solidFill>
                <a:latin typeface="Arial"/>
              </a:rPr>
              <a:t>- </a:t>
            </a:r>
            <a:r>
              <a:rPr b="1" i="1" lang="uk-UA" sz="2800" spc="-1" strike="noStrike">
                <a:solidFill>
                  <a:srgbClr val="ccecff"/>
                </a:solidFill>
                <a:latin typeface="Arial"/>
              </a:rPr>
              <a:t>здатність особи в межах визначених за посадою повноважень застосовувати спеціальні знання, уміння та навички, виявляти відповідні моральні та ділові якості для належного виконання встановлених завдань і обов’язків, навчання, професійного та особистісного розвит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Заголовок 1"/>
          <p:cNvSpPr/>
          <p:nvPr/>
        </p:nvSpPr>
        <p:spPr>
          <a:xfrm>
            <a:off x="2152800" y="6267600"/>
            <a:ext cx="699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Закон України «Про державну службу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11280" y="456840"/>
            <a:ext cx="8151840" cy="513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Створення команди кваліфікованих та компетентних фахівців можливо здійснити за допомогою технології </a:t>
            </a:r>
            <a:r>
              <a:rPr b="1" i="1" lang="uk-UA" sz="3200" spc="-1" strike="noStrike" u="sng">
                <a:solidFill>
                  <a:srgbClr val="ccecff"/>
                </a:solidFill>
                <a:uFillTx/>
                <a:latin typeface="Arial"/>
              </a:rPr>
              <a:t>МЕНЕДЖМЕНТУ ЗНАНЬ </a:t>
            </a:r>
            <a:r>
              <a:rPr b="1" lang="pl-PL" sz="3200" spc="-1" strike="noStrike">
                <a:solidFill>
                  <a:srgbClr val="ccecff"/>
                </a:solidFill>
                <a:latin typeface="Arial"/>
              </a:rPr>
              <a:t>– </a:t>
            </a:r>
            <a:br>
              <a:rPr sz="3200"/>
            </a:br>
            <a:r>
              <a:rPr b="1" lang="pl-PL" sz="3200" spc="-1" strike="noStrike">
                <a:solidFill>
                  <a:srgbClr val="ccecff"/>
                </a:solidFill>
                <a:latin typeface="Arial"/>
              </a:rPr>
              <a:t>(від англ. knowledge management)</a:t>
            </a: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965240" y="188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МЕНЕДЖМЕНТ ЗНАНЬ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7" name="Прямоугольник 5"/>
          <p:cNvSpPr/>
          <p:nvPr/>
        </p:nvSpPr>
        <p:spPr>
          <a:xfrm>
            <a:off x="1828800" y="733320"/>
            <a:ext cx="720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 невід’ємна частина менеджменту будь-якої організаці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Прямоугольник 6"/>
          <p:cNvSpPr/>
          <p:nvPr/>
        </p:nvSpPr>
        <p:spPr>
          <a:xfrm>
            <a:off x="0" y="1844640"/>
            <a:ext cx="7207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иступає системою дій, що пов’язані із формуванням </a:t>
            </a:r>
            <a:r>
              <a:rPr b="1" i="1" lang="uk-UA" sz="2800" spc="-1" strike="noStrike" u="sng">
                <a:solidFill>
                  <a:srgbClr val="ff0000"/>
                </a:solidFill>
                <a:uFillTx/>
                <a:latin typeface="Arial"/>
              </a:rPr>
              <a:t>нових знань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, їх зберіганням, використанням та розповсюдженням в закладі осві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Прямоугольник 7"/>
          <p:cNvSpPr/>
          <p:nvPr/>
        </p:nvSpPr>
        <p:spPr>
          <a:xfrm>
            <a:off x="1692360" y="3770280"/>
            <a:ext cx="7207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uk-UA" sz="2800" spc="-1" strike="noStrike">
                <a:solidFill>
                  <a:srgbClr val="ffffff"/>
                </a:solidFill>
                <a:latin typeface="Arial"/>
              </a:rPr>
              <a:t>є процесом, який забезпечує збереження, розподіл та використання інтелектуального капіталу (інтелектуальних активів) організації, що необхідно для забезпечення її успіху, ефективності та продуктивності діяльност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965240" y="188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МЕНЕДЖМЕНТ ЗНАНЬ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1" name="Прямоугольник 6"/>
          <p:cNvSpPr/>
          <p:nvPr/>
        </p:nvSpPr>
        <p:spPr>
          <a:xfrm>
            <a:off x="1258920" y="981000"/>
            <a:ext cx="7208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часний менеджмент базується на концепції розвитку людського капіталу компанії, як основного ресурсу, що забезпечує їй конкурентні переваги та успі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Прямоугольник 7"/>
          <p:cNvSpPr/>
          <p:nvPr/>
        </p:nvSpPr>
        <p:spPr>
          <a:xfrm>
            <a:off x="826920" y="3770280"/>
            <a:ext cx="8072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uk-UA" sz="2800" spc="-1" strike="noStrike">
                <a:solidFill>
                  <a:srgbClr val="ffffff"/>
                </a:solidFill>
                <a:latin typeface="Arial"/>
              </a:rPr>
              <a:t>Національному стандарті України визначено сутність поняття «знання організації». Зазначається, що це знання, специфічні для організації; їх зазвичай набувають через досвід. В основному, це є інформацією, яку використовують та якою обмінюються задля досягнення цілей організаці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23960" y="299880"/>
            <a:ext cx="6266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Основа знань закладу освіти 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4" name="Скругленный прямоугольник 4"/>
          <p:cNvSpPr/>
          <p:nvPr/>
        </p:nvSpPr>
        <p:spPr>
          <a:xfrm>
            <a:off x="399960" y="1268280"/>
            <a:ext cx="4896000" cy="2737080"/>
          </a:xfrm>
          <a:prstGeom prst="roundRect">
            <a:avLst>
              <a:gd name="adj" fmla="val 16667"/>
            </a:avLst>
          </a:prstGeom>
          <a:solidFill>
            <a:srgbClr val="709ee2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ffffff"/>
                </a:solidFill>
                <a:uFillTx/>
                <a:latin typeface="Arial"/>
              </a:rPr>
              <a:t>ВНУТРІШНІ РЕСУРСИ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(наприклад, інтелектуальна власність; знання, набуті через досвід; уроки, як були засвоєні з невдач і успішних проектів; здобуття та спільне використання незадокументованих знань і досвіду; результати поліпшень у процесах, продукції та послугах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Скругленный прямоугольник 5"/>
          <p:cNvSpPr/>
          <p:nvPr/>
        </p:nvSpPr>
        <p:spPr>
          <a:xfrm>
            <a:off x="3492360" y="4253040"/>
            <a:ext cx="5270760" cy="2128680"/>
          </a:xfrm>
          <a:prstGeom prst="roundRect">
            <a:avLst>
              <a:gd name="adj" fmla="val 16667"/>
            </a:avLst>
          </a:prstGeom>
          <a:solidFill>
            <a:srgbClr val="709ee2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ffffff"/>
                </a:solidFill>
                <a:uFillTx/>
                <a:latin typeface="Arial"/>
              </a:rPr>
              <a:t>ЗОВНІШНІ РЕСУРСИ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(наприклад, стандарти; наукова спільнота; конференції; отримання знань від замовників або зовнішніх постачальникі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484360" y="122040"/>
            <a:ext cx="5975280" cy="3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Основні питання……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50560" y="1444320"/>
            <a:ext cx="878508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Якість освіти – знайома незнайомка</a:t>
            </a:r>
            <a:endParaRPr b="0" lang="en-US" sz="3200" spc="-1" strike="noStrike">
              <a:solidFill>
                <a:srgbClr val="709ee2"/>
              </a:solidFill>
              <a:latin typeface="Arial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9ee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9ee2"/>
                </a:solidFill>
                <a:latin typeface="Arial"/>
              </a:rPr>
              <a:t>Забезпечення якості освіти</a:t>
            </a:r>
            <a:endParaRPr b="0" lang="en-US" sz="3200" spc="-1" strike="noStrike">
              <a:solidFill>
                <a:srgbClr val="709ee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9ee2"/>
              </a:solidFill>
              <a:latin typeface="Arial"/>
            </a:endParaRPr>
          </a:p>
          <a:p>
            <a:pPr marL="339480" indent="-339480" algn="r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9ee2"/>
                </a:solidFill>
                <a:latin typeface="Arial"/>
              </a:rPr>
              <a:t>Менеджмент знань – примха чи інновація…</a:t>
            </a:r>
            <a:endParaRPr b="0" lang="en-US" sz="3200" spc="-1" strike="noStrike">
              <a:solidFill>
                <a:srgbClr val="709ee2"/>
              </a:solidFill>
              <a:latin typeface="Arial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9ee2"/>
              </a:solidFill>
              <a:latin typeface="Arial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9ee2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68" name="Rectangle 2"/>
          <p:cNvSpPr/>
          <p:nvPr/>
        </p:nvSpPr>
        <p:spPr>
          <a:xfrm>
            <a:off x="2243160" y="5300640"/>
            <a:ext cx="65991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 algn="ctr"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000"/>
                </a:solidFill>
                <a:latin typeface="Arial"/>
              </a:rPr>
              <a:t>Вимірювання якості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9" name="Рисунок 4" descr=""/>
          <p:cNvPicPr/>
          <p:nvPr/>
        </p:nvPicPr>
        <p:blipFill>
          <a:blip r:embed="rId1"/>
          <a:stretch/>
        </p:blipFill>
        <p:spPr>
          <a:xfrm>
            <a:off x="0" y="4149720"/>
            <a:ext cx="20509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979640" y="299880"/>
            <a:ext cx="6934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Менеджмент знань складається з таких компонентів: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7" name="Скругленный прямоугольник 4"/>
          <p:cNvSpPr/>
          <p:nvPr/>
        </p:nvSpPr>
        <p:spPr>
          <a:xfrm>
            <a:off x="399960" y="1268280"/>
            <a:ext cx="4896000" cy="865440"/>
          </a:xfrm>
          <a:prstGeom prst="roundRect">
            <a:avLst>
              <a:gd name="adj" fmla="val 16667"/>
            </a:avLst>
          </a:prstGeom>
          <a:solidFill>
            <a:srgbClr val="709ee2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формування нових знань та стимулювання їх прирос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Скругленный прямоугольник 6"/>
          <p:cNvSpPr/>
          <p:nvPr/>
        </p:nvSpPr>
        <p:spPr>
          <a:xfrm>
            <a:off x="4248000" y="2205000"/>
            <a:ext cx="4896000" cy="863640"/>
          </a:xfrm>
          <a:prstGeom prst="roundRect">
            <a:avLst>
              <a:gd name="adj" fmla="val 16667"/>
            </a:avLst>
          </a:prstGeom>
          <a:solidFill>
            <a:srgbClr val="709ee2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аналіз зовнішніх джерел та відбір й акумулювання необхідних знань для організаці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Скругленный прямоугольник 7"/>
          <p:cNvSpPr/>
          <p:nvPr/>
        </p:nvSpPr>
        <p:spPr>
          <a:xfrm>
            <a:off x="366840" y="3141720"/>
            <a:ext cx="4895640" cy="863640"/>
          </a:xfrm>
          <a:prstGeom prst="roundRect">
            <a:avLst>
              <a:gd name="adj" fmla="val 16667"/>
            </a:avLst>
          </a:prstGeom>
          <a:solidFill>
            <a:srgbClr val="709ee2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збереження, класифікація, трансформація, забезпечення доступності зна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Скругленный прямоугольник 8"/>
          <p:cNvSpPr/>
          <p:nvPr/>
        </p:nvSpPr>
        <p:spPr>
          <a:xfrm>
            <a:off x="4246560" y="4076640"/>
            <a:ext cx="4896000" cy="865080"/>
          </a:xfrm>
          <a:prstGeom prst="roundRect">
            <a:avLst>
              <a:gd name="adj" fmla="val 16667"/>
            </a:avLst>
          </a:prstGeom>
          <a:solidFill>
            <a:srgbClr val="709ee2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створення системи обміну знань (досвідом) в межах організаці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Скругленный прямоугольник 9"/>
          <p:cNvSpPr/>
          <p:nvPr/>
        </p:nvSpPr>
        <p:spPr>
          <a:xfrm>
            <a:off x="425520" y="5013360"/>
            <a:ext cx="4895640" cy="863640"/>
          </a:xfrm>
          <a:prstGeom prst="roundRect">
            <a:avLst>
              <a:gd name="adj" fmla="val 16667"/>
            </a:avLst>
          </a:prstGeom>
          <a:solidFill>
            <a:srgbClr val="709ee2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икористання знань під час ухвалення рішень; втілення знань в продуктах, послугах, документах, базах даних та і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Скругленный прямоугольник 10"/>
          <p:cNvSpPr/>
          <p:nvPr/>
        </p:nvSpPr>
        <p:spPr>
          <a:xfrm>
            <a:off x="4248000" y="5894280"/>
            <a:ext cx="4897440" cy="863640"/>
          </a:xfrm>
          <a:prstGeom prst="roundRect">
            <a:avLst>
              <a:gd name="adj" fmla="val 16667"/>
            </a:avLst>
          </a:prstGeom>
          <a:solidFill>
            <a:srgbClr val="709ee2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оцінювання знань, вимірювання і використання нематеріальних активів організаці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Скругленный прямоугольник 2"/>
          <p:cNvSpPr/>
          <p:nvPr/>
        </p:nvSpPr>
        <p:spPr>
          <a:xfrm>
            <a:off x="1979640" y="2492280"/>
            <a:ext cx="5616720" cy="2449440"/>
          </a:xfrm>
          <a:prstGeom prst="roundRect">
            <a:avLst>
              <a:gd name="adj" fmla="val 16667"/>
            </a:avLst>
          </a:prstGeom>
          <a:solidFill>
            <a:srgbClr val="709ee2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ЗАХИСТ ЗНАН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6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9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2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5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1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523960" y="299880"/>
            <a:ext cx="6266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СТРАТЕГІЇ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5" name="Скругленный прямоугольник 4"/>
          <p:cNvSpPr/>
          <p:nvPr/>
        </p:nvSpPr>
        <p:spPr>
          <a:xfrm>
            <a:off x="1692360" y="1063800"/>
            <a:ext cx="7340400" cy="1079280"/>
          </a:xfrm>
          <a:prstGeom prst="roundRect">
            <a:avLst>
              <a:gd name="adj" fmla="val 16667"/>
            </a:avLst>
          </a:prstGeom>
          <a:solidFill>
            <a:srgbClr val="709ee2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стратегія, в основі якої формування та використання знань в межах індивідуальної компетенції (досвід); стратегія, в основі якої формування та використання знань в межах внутрішньої стратегії організації (обмін досвідом, організація, що самонавчаєтьс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Скругленный прямоугольник 6"/>
          <p:cNvSpPr/>
          <p:nvPr/>
        </p:nvSpPr>
        <p:spPr>
          <a:xfrm>
            <a:off x="142920" y="2513160"/>
            <a:ext cx="7342200" cy="1081080"/>
          </a:xfrm>
          <a:prstGeom prst="roundRect">
            <a:avLst>
              <a:gd name="adj" fmla="val 16667"/>
            </a:avLst>
          </a:prstGeom>
          <a:solidFill>
            <a:srgbClr val="709ee2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стратегія, в основі якої формування та використання знань в межах зовнішньої структури (комунікації); стратегія, в основі якої обмін знань в межах індивідуальної компетенції і зовнішньою структурою (взаємодія зі споживачам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Скругленный прямоугольник 7"/>
          <p:cNvSpPr/>
          <p:nvPr/>
        </p:nvSpPr>
        <p:spPr>
          <a:xfrm>
            <a:off x="1803240" y="3962520"/>
            <a:ext cx="7340760" cy="1081080"/>
          </a:xfrm>
          <a:prstGeom prst="roundRect">
            <a:avLst>
              <a:gd name="adj" fmla="val 16667"/>
            </a:avLst>
          </a:prstGeom>
          <a:solidFill>
            <a:srgbClr val="709ee2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стратегія, в основі якої обмін знань в межах індивідуальної компетенції і внутрішньою структуро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Скругленный прямоугольник 8"/>
          <p:cNvSpPr/>
          <p:nvPr/>
        </p:nvSpPr>
        <p:spPr>
          <a:xfrm>
            <a:off x="142920" y="5373720"/>
            <a:ext cx="7342200" cy="973080"/>
          </a:xfrm>
          <a:prstGeom prst="roundRect">
            <a:avLst>
              <a:gd name="adj" fmla="val 16667"/>
            </a:avLst>
          </a:prstGeom>
          <a:solidFill>
            <a:srgbClr val="709ee2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стратегія, в основі якої обмін знань між елементами внутрішньої та зовнішньої структури організації; стратегія, що спирається на рух знань одночасно між усіма видами інтелектуального капітал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965240" y="188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МЕНЕДЖМЕНТ ЗНАНЬ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0" name="Прямоугольник 7"/>
          <p:cNvSpPr/>
          <p:nvPr/>
        </p:nvSpPr>
        <p:spPr>
          <a:xfrm>
            <a:off x="395280" y="907920"/>
            <a:ext cx="87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Для визначення доцільності використання будь-якої стратегії необхідно проводити такі види аналізу внутрішнього та зовнішнього середовища організації як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WOT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- та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ST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- аналізи. Крім того, необхідно чітко уявляти місію організації, знати мету її діяльності, мати план її реалізації та окреслювати індикатори (показники) успіх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203280" y="1699920"/>
            <a:ext cx="5832360" cy="41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Дисертаційне дослідження </a:t>
            </a:r>
            <a:br>
              <a:rPr sz="3200"/>
            </a:b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та менеджмент знань…..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2" name="Rectangle 2"/>
          <p:cNvSpPr/>
          <p:nvPr/>
        </p:nvSpPr>
        <p:spPr>
          <a:xfrm>
            <a:off x="1332000" y="404640"/>
            <a:ext cx="74674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ВАША ДУМКА?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3" name="Рисунок 2" descr=""/>
          <p:cNvPicPr/>
          <p:nvPr/>
        </p:nvPicPr>
        <p:blipFill>
          <a:blip r:embed="rId1"/>
          <a:srcRect l="21222" t="38189" r="58303" b="18499"/>
          <a:stretch/>
        </p:blipFill>
        <p:spPr>
          <a:xfrm>
            <a:off x="179280" y="3333600"/>
            <a:ext cx="2664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Заголовок 1"/>
          <p:cNvSpPr/>
          <p:nvPr/>
        </p:nvSpPr>
        <p:spPr>
          <a:xfrm>
            <a:off x="539640" y="1413000"/>
            <a:ext cx="80139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 algn="ctr"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це показник досягнення успіху в конкретній діяльності або в досягненні конкретних ціл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KPI -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ЦЕ КІЛЬКІСНИЙ ВИМІРНИК ІНДИКАТОРА, ФАКТИЧНО ДОСЯГНУТИХ РЕЗУЛЬТАТ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KPI (Key Performance Indicator)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Заголовок 1"/>
          <p:cNvSpPr/>
          <p:nvPr/>
        </p:nvSpPr>
        <p:spPr>
          <a:xfrm>
            <a:off x="1476360" y="1413000"/>
            <a:ext cx="6408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 algn="ctr">
              <a:lnSpc>
                <a:spcPct val="15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результа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5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затрати ресурсі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5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функціонуванн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5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ефективні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Показники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KPI 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339640" y="122040"/>
            <a:ext cx="611964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ПОРОЗУМІЄМОСЯ…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339640" y="1557000"/>
            <a:ext cx="65120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709ee2"/>
                </a:solidFill>
                <a:latin typeface="Arial"/>
              </a:rPr>
              <a:t>Чи потрібна інформація для написання дисертаційного дослідження….</a:t>
            </a:r>
            <a:endParaRPr b="0" lang="en-US" sz="3200" spc="-1" strike="noStrike">
              <a:solidFill>
                <a:srgbClr val="709ee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9ee2"/>
              </a:solidFill>
              <a:latin typeface="Arial"/>
            </a:endParaRPr>
          </a:p>
        </p:txBody>
      </p:sp>
      <p:pic>
        <p:nvPicPr>
          <p:cNvPr id="680" name="Рисунок 2" descr=""/>
          <p:cNvPicPr/>
          <p:nvPr/>
        </p:nvPicPr>
        <p:blipFill>
          <a:blip r:embed="rId1"/>
          <a:srcRect l="36166" t="22441" r="35612" b="19488"/>
          <a:stretch/>
        </p:blipFill>
        <p:spPr>
          <a:xfrm>
            <a:off x="0" y="2997360"/>
            <a:ext cx="3672000" cy="35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484360" y="122040"/>
            <a:ext cx="5975280" cy="3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Ми розглянули питання……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50560" y="1444320"/>
            <a:ext cx="878508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Якість освіти – знайома незнайомка</a:t>
            </a:r>
            <a:endParaRPr b="0" lang="en-US" sz="3200" spc="-1" strike="noStrike">
              <a:solidFill>
                <a:srgbClr val="709ee2"/>
              </a:solidFill>
              <a:latin typeface="Arial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9ee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9ee2"/>
                </a:solidFill>
                <a:latin typeface="Arial"/>
              </a:rPr>
              <a:t>Забезпечення якості освіти</a:t>
            </a:r>
            <a:endParaRPr b="0" lang="en-US" sz="3200" spc="-1" strike="noStrike">
              <a:solidFill>
                <a:srgbClr val="709ee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9ee2"/>
              </a:solidFill>
              <a:latin typeface="Arial"/>
            </a:endParaRPr>
          </a:p>
          <a:p>
            <a:pPr marL="339480" indent="-339480" algn="r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9ee2"/>
                </a:solidFill>
                <a:latin typeface="Arial"/>
              </a:rPr>
              <a:t>Менеджмент знань – примха чи інновація…</a:t>
            </a:r>
            <a:endParaRPr b="0" lang="en-US" sz="3200" spc="-1" strike="noStrike">
              <a:solidFill>
                <a:srgbClr val="709ee2"/>
              </a:solidFill>
              <a:latin typeface="Arial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9ee2"/>
              </a:solidFill>
              <a:latin typeface="Arial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9ee2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83" name="Rectangle 2"/>
          <p:cNvSpPr/>
          <p:nvPr/>
        </p:nvSpPr>
        <p:spPr>
          <a:xfrm>
            <a:off x="2243160" y="5300640"/>
            <a:ext cx="65991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 algn="ctr"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000"/>
                </a:solidFill>
                <a:latin typeface="Arial"/>
              </a:rPr>
              <a:t>Вимірювання якості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4" name="Рисунок 4" descr=""/>
          <p:cNvPicPr/>
          <p:nvPr/>
        </p:nvPicPr>
        <p:blipFill>
          <a:blip r:embed="rId1"/>
          <a:stretch/>
        </p:blipFill>
        <p:spPr>
          <a:xfrm>
            <a:off x="0" y="4149720"/>
            <a:ext cx="20509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262320" y="620640"/>
            <a:ext cx="3541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Рефлексія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86" name="Рисунок 5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81471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42560" y="1412640"/>
            <a:ext cx="715644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Проблема состоит не в том, как усвоить новые идеи, а в том, как избавиться от старых. (Н.Остен)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433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ecff"/>
                </a:solidFill>
                <a:latin typeface="Arial"/>
              </a:rPr>
              <a:t>Державна політика у сфері освіти ґрунтується на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1" name="Блок-схема: перфолента 7"/>
          <p:cNvSpPr/>
          <p:nvPr/>
        </p:nvSpPr>
        <p:spPr>
          <a:xfrm>
            <a:off x="0" y="981000"/>
            <a:ext cx="8820000" cy="5040360"/>
          </a:xfrm>
          <a:prstGeom prst="flowChartPunchedTape">
            <a:avLst/>
          </a:prstGeom>
          <a:solidFill>
            <a:srgbClr val="59c1ff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овідному принципі сприяння сталому розвитку суспільства шляхом підготовки конкурентоспроможного людського капіталу та створення умов для освіти протягом житт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Нижний колонтитул 9"/>
          <p:cNvSpPr/>
          <p:nvPr/>
        </p:nvSpPr>
        <p:spPr>
          <a:xfrm>
            <a:off x="4716360" y="6308640"/>
            <a:ext cx="38959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України «Про вищу освіту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WordArt 5"/>
          <p:cNvSpPr txBox="1"/>
          <p:nvPr/>
        </p:nvSpPr>
        <p:spPr>
          <a:xfrm>
            <a:off x="179280" y="333360"/>
            <a:ext cx="8964720" cy="61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e237e"/>
                  </a:solidFill>
                  <a:miter/>
                </a:ln>
                <a:gradFill rotWithShape="0">
                  <a:gsLst>
                    <a:gs pos="0">
                      <a:srgbClr val="9874f2"/>
                    </a:gs>
                    <a:gs pos="100000">
                      <a:srgbClr val="3b9d81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Які питання </a:t>
            </a:r>
            <a:endParaRPr b="1" lang="en-US" sz="1800" spc="1" strike="noStrike">
              <a:ln w="19080">
                <a:solidFill>
                  <a:srgbClr val="0e237e"/>
                </a:solidFill>
                <a:miter/>
              </a:ln>
              <a:gradFill rotWithShape="0">
                <a:gsLst>
                  <a:gs pos="0">
                    <a:srgbClr val="9874f2"/>
                  </a:gs>
                  <a:gs pos="100000">
                    <a:srgbClr val="3b9d81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e237e"/>
                  </a:solidFill>
                  <a:miter/>
                </a:ln>
                <a:gradFill rotWithShape="0">
                  <a:gsLst>
                    <a:gs pos="0">
                      <a:srgbClr val="9874f2"/>
                    </a:gs>
                    <a:gs pos="100000">
                      <a:srgbClr val="3b9d81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залишилися поза увагою?</a:t>
            </a:r>
            <a:endParaRPr b="1" lang="en-US" sz="1800" spc="1" strike="noStrike">
              <a:ln w="19080">
                <a:solidFill>
                  <a:srgbClr val="0e237e"/>
                </a:solidFill>
                <a:miter/>
              </a:ln>
              <a:gradFill rotWithShape="0">
                <a:gsLst>
                  <a:gs pos="0">
                    <a:srgbClr val="9874f2"/>
                  </a:gs>
                  <a:gs pos="100000">
                    <a:srgbClr val="3b9d81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433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Нагальною проблемою є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4" name="Блок-схема: перфолента 7"/>
          <p:cNvSpPr/>
          <p:nvPr/>
        </p:nvSpPr>
        <p:spPr>
          <a:xfrm>
            <a:off x="0" y="1700280"/>
            <a:ext cx="8820000" cy="2952720"/>
          </a:xfrm>
          <a:prstGeom prst="flowChartPunchedTape">
            <a:avLst/>
          </a:prstGeom>
          <a:solidFill>
            <a:srgbClr val="59c1ff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уттєве погіршення якості загальної середньої освіти протягом 1992–2016 рок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Нижний колонтитул 9"/>
          <p:cNvSpPr/>
          <p:nvPr/>
        </p:nvSpPr>
        <p:spPr>
          <a:xfrm>
            <a:off x="3203640" y="5805360"/>
            <a:ext cx="54086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Концепція реалізації державної політики у сфері реформування загальної середньої освіти «Нова українська школа» на період до 2029 ро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295280" y="475920"/>
            <a:ext cx="7848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Першочерговим завданням стає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214200" y="2421000"/>
          <a:ext cx="8464680" cy="2205000"/>
        </p:xfrm>
        <a:graphic>
          <a:graphicData uri="http://schemas.openxmlformats.org/drawingml/2006/table">
            <a:tbl>
              <a:tblPr/>
              <a:tblGrid>
                <a:gridCol w="8464680"/>
              </a:tblGrid>
              <a:tr h="22050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БЕЗПЕЧЕННЯ ЯКОСТІ НАДАННЯ ОСВІТНІХ ПОСЛУГ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208240" y="9972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Arial"/>
              </a:rPr>
              <a:t>ПИТАННЯЧКО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79" name="Picture 2" descr="http://cs616219.vk.me/v616219077/1fa81/35hUVYEUWD0.jpg"/>
          <p:cNvPicPr/>
          <p:nvPr/>
        </p:nvPicPr>
        <p:blipFill>
          <a:blip r:embed="rId1"/>
          <a:stretch/>
        </p:blipFill>
        <p:spPr>
          <a:xfrm>
            <a:off x="7237440" y="49528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580" name="Блок-схема: память с посл. доступом 4"/>
          <p:cNvSpPr/>
          <p:nvPr/>
        </p:nvSpPr>
        <p:spPr>
          <a:xfrm>
            <a:off x="395280" y="3919680"/>
            <a:ext cx="5867280" cy="1471320"/>
          </a:xfrm>
          <a:prstGeom prst="flowChartMagneticTape">
            <a:avLst/>
          </a:prstGeom>
          <a:solidFill>
            <a:srgbClr val="92d050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ff"/>
                </a:solidFill>
                <a:latin typeface="Arial"/>
              </a:rPr>
              <a:t>Сутність якості освіт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Блок-схема: память с посл. доступом 5"/>
          <p:cNvSpPr/>
          <p:nvPr/>
        </p:nvSpPr>
        <p:spPr>
          <a:xfrm>
            <a:off x="2816280" y="2030400"/>
            <a:ext cx="5867280" cy="1258920"/>
          </a:xfrm>
          <a:prstGeom prst="flowChartMagneticTape">
            <a:avLst/>
          </a:prstGeom>
          <a:solidFill>
            <a:srgbClr val="92d050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ff"/>
                </a:solidFill>
                <a:latin typeface="Arial"/>
              </a:rPr>
              <a:t>Якщо «так», яким чином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Прямоугольник 2" descr=""/>
          <p:cNvPicPr/>
          <p:nvPr/>
        </p:nvPicPr>
        <p:blipFill>
          <a:blip r:embed="rId2"/>
          <a:stretch/>
        </p:blipFill>
        <p:spPr>
          <a:xfrm>
            <a:off x="1695600" y="731880"/>
            <a:ext cx="6881760" cy="8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5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203280" y="1699920"/>
            <a:ext cx="5832360" cy="41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Продукти </a:t>
            </a:r>
            <a:br>
              <a:rPr sz="3200"/>
            </a:b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дисертаційного дослідження </a:t>
            </a:r>
            <a:br>
              <a:rPr sz="3200"/>
            </a:b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та якість освіти…… треба?..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uk-UA" sz="3200" spc="-1" strike="noStrike" u="sng">
                <a:solidFill>
                  <a:srgbClr val="eab85e"/>
                </a:solidFill>
                <a:uFillTx/>
                <a:latin typeface="Arial"/>
              </a:rPr>
              <a:t>ЇЇ забезпечення</a:t>
            </a:r>
            <a:r>
              <a:rPr b="1" lang="uk-UA" sz="3200" spc="-1" strike="noStrike">
                <a:solidFill>
                  <a:srgbClr val="eab85e"/>
                </a:solidFill>
                <a:latin typeface="Arial"/>
              </a:rPr>
              <a:t>………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4" name="Rectangle 2"/>
          <p:cNvSpPr/>
          <p:nvPr/>
        </p:nvSpPr>
        <p:spPr>
          <a:xfrm>
            <a:off x="1332000" y="404640"/>
            <a:ext cx="74674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ВАША ДУМКА?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Рисунок 2" descr=""/>
          <p:cNvPicPr/>
          <p:nvPr/>
        </p:nvPicPr>
        <p:blipFill>
          <a:blip r:embed="rId1"/>
          <a:srcRect l="21222" t="38189" r="58303" b="18499"/>
          <a:stretch/>
        </p:blipFill>
        <p:spPr>
          <a:xfrm>
            <a:off x="179280" y="3333600"/>
            <a:ext cx="2664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76360" y="907920"/>
            <a:ext cx="6934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Освітні  послуги - це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0" y="1733040"/>
            <a:ext cx="914400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09ee2"/>
                </a:solidFill>
                <a:latin typeface="Arial"/>
              </a:rPr>
              <a:t>система знань, інформації, умінь і навичок, які використовуються з метою задоволення потреб людини, суспільства і держави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marL="308520" indent="-308520" algn="r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09ee2"/>
                </a:solidFill>
                <a:latin typeface="Arial"/>
              </a:rPr>
              <a:t>комплекс визначених законодавством, освітньою програмою та/або договором дій суб’єкта освітньої діяльності, що мають визначену вартість та спрямовані на досягнення здобувачем освіти очікуваних результатів навчання 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marL="308520" indent="-3085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09ee2"/>
              </a:solidFill>
              <a:latin typeface="Arial"/>
            </a:endParaRPr>
          </a:p>
          <a:p>
            <a:pPr marL="308520" indent="-3085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709ee2"/>
                </a:solidFill>
                <a:latin typeface="Arial"/>
              </a:rPr>
              <a:t>ЗУ “Про освіту”</a:t>
            </a:r>
            <a:endParaRPr b="0" lang="en-US" sz="24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88" name="Заголовок 1"/>
          <p:cNvSpPr/>
          <p:nvPr/>
        </p:nvSpPr>
        <p:spPr>
          <a:xfrm>
            <a:off x="6588000" y="189000"/>
            <a:ext cx="2325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ccecff"/>
                </a:solidFill>
                <a:latin typeface="Arial"/>
              </a:rPr>
              <a:t>порозуміємо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6:30:34Z</dcterms:created>
  <dc:creator>Зоя</dc:creator>
  <dc:description/>
  <dc:language>en-US</dc:language>
  <cp:lastModifiedBy>Рябова Зоя</cp:lastModifiedBy>
  <dcterms:modified xsi:type="dcterms:W3CDTF">2019-11-21T07:10:09Z</dcterms:modified>
  <cp:revision>113</cp:revision>
  <dc:subject/>
  <dc:title>Загальна теорія організації</dc:title>
</cp:coreProperties>
</file>