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2D1-E8C7-42AD-A294-FEFD803C53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 потрібно проектувати життєдіяльність особистості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ування - створення проекції того, що буде зроблено в майбутнь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на сформувати успішну особистість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ектованої діяльності, бо саме через неї можна включити потрібні  ціл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вітній проц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751E-CADB-4E74-87F7-0FD5967D60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199D-3307-4F45-9A16-E509CD436E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настрі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а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у пили? А ча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цюєм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66B8-0285-4847-BB58-9A39CEC4F5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5BB-599B-422B-987B-B87673773D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 потрібно проектувати життєдіяльність особистості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ування - створення проекції того, що буде зроблено в майбутнь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на сформувати успішну особистість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ектованої діяльності, бо саме через неї можна включити потрібні  ціл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вітній проц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551E-E078-42FD-83AB-38A2FA9BD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F7CE-C6C3-45FD-B7C8-41454D845C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 потрібно проектувати життєдіяльність особистості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ування - створення проекції того, що буде зроблено в майбутнь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на сформувати успішну особистість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ектованої діяльності, бо саме через неї можна включити потрібні  ціл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вітній проц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CE56-044F-4FED-8BAD-2FA690F393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 потрібно проектувати життєдіяльність особистості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ування - створення проекції того, що буде зроблено в майбутнь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на сформувати успішну особистість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ектованої діяльності, бо саме через неї можна включити потрібні  ціл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вітній проц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A8BF-994F-43ED-A866-04BB69F1D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Як ви почувалися на тренінгу (пал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и було те, що для Вас особисто було корисним? (так, ні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 Вас є три папірця, трьох кольорі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зеленому – напишіть ту інформацію чи знання, що будете використовува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жовтому – те, що потребує Вашого переосмисле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червоному – те, що було зайв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езентує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DDA4-16F4-42BB-A970-42A8D7ED3C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67DB-CF85-462D-839D-4F8F9F04936E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FCE1-4557-46E1-9F1A-29B692DB0C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F5B-7864-4EAA-8A48-E90D72C6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4E6-415E-4B76-99FC-70A53F2B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E01CB-2448-4557-8C82-C10C8FDC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181E1-D801-400D-9C74-71212246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325E4-E918-40B8-BE7D-DB1D0EEC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E9D70-7BDF-466A-B352-24B88860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DAEFC-0CF8-4C55-BC96-991A9643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22035-FD51-4FA5-B245-98DC1DFF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8A472-2D13-488E-B4FB-06BFE2AC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29A60-21E7-473F-9525-D7F7B0F0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272B1-3AF0-4AEB-A7D7-940A6592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7C279-8B83-465B-890C-BD5478A6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B7D-6F35-4872-8349-AD698C05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C9CBF-FC39-4C6F-BF04-B7F4B147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DDBE2-3A61-4DBA-9EAC-D4F2DFF0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BED51-92F7-41A2-9E24-43EE6680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F99B3-33AB-49E9-8DE1-914F340C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B3850-2143-4D3F-A384-2FC45199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A0F16-89BD-4421-96E1-9307DBFD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12642-0098-4B3D-8312-B0DFA2D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1BFB7-936B-4F84-90A4-6835BAEF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D6473-8BA1-4FDE-97F0-A7153246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EBC9A-5A1F-4E2D-A2A3-7943B8A3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DE9-D22F-4195-81B9-1845307A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6C026-D830-4C0F-8231-0B6C86EE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FE618-0BF8-4339-86CF-C16EB62B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89903-D503-4E18-BF4A-F8F578F7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46361-D8E2-406B-A736-DD4464BB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83848-A998-414D-8C9B-FB12C544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38D62-5976-43A6-A4C2-9452894C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44447-2FCE-46F0-8935-DBE7A9ED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85E17-E058-4F54-AAA6-7D054618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0D2F0-9E12-4AE1-91C0-C36AC8D5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BBA51-F637-408B-807F-A78602E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1536-FE03-4C05-B090-B9D0F60F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AAB1F-E339-485A-A216-09D6CFC5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D8872-B42E-495C-989E-ABD0B5AC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90CAE-83B9-4BCC-B226-23525F06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5DA36-EF04-41C7-946D-9F79569E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32926-2DDD-4035-9381-89F35A17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BD357-F091-4B1C-9070-0033A426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B305F-029A-4711-93B3-FDAE51E5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0A553-1B91-479D-B025-87036191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E4E70-4559-488D-823D-DAD70C00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2E324-C5D5-4508-AFDC-B8C5985A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FFEF-A0EB-432E-B16D-18F74DA6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A6212-59F4-41FA-B374-5F2CB2DE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28C47-C2C0-4B06-9A0E-865EA009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67AE9-AE5C-43B4-943C-9D5F235C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4981D-CA4E-4BE9-9A7B-5CA7638D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2392C-518A-479A-9F83-7C3989FB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337AB-89DA-46D6-828E-848B9F7A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FF2B5-71CA-48AE-8E61-18EC5048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7BBF3-007C-4307-956D-8D7C2D70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9500B-730D-47FD-8E3A-5E75ACFF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4FAC2-5C75-4ACF-8362-C63F114A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1AD7-2714-4269-8DA2-769D0C27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DDC44-1725-4270-BD34-FCC2851F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00A52-E448-4A37-9DAF-C3214E2E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A5CFA-17C2-4619-B7AF-80822A40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C54C7-DF40-452E-88E2-675977A5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44AB0-B6A4-4BDE-87B7-D1175359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60A3B-E069-44D3-BD7B-8E23A1C4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DD35F-2438-4CCE-90DC-35F29643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91A3-8A26-4053-8505-09D683D5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E6F9-7836-459D-B80A-4AEA6DFB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8281-7261-435B-9C2C-593A1A92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7C2F-5DD3-4EF8-82F8-75769844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618-4C77-4589-AB5B-DA2E7A14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AC33-43C5-41D2-9E16-D052ABC5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61DC-90C6-4203-8179-34ACB37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0060-CF10-4437-B3AE-EB0B74EB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9C34-827E-4E91-BD29-2DDDD444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F204-A8AC-4D80-A6E3-BC540ED5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BACD-2422-4077-B544-717C75A4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5A35-BCD0-4382-BAD9-4FB3C7DE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5719-8202-477F-B364-D1CCA9F2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D2DA-0B37-4C2C-BCDC-BF0C3C6D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AA30-EB79-4077-82CC-A90D4338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CEF-8B43-4505-BF01-09B5BBAD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AB37-02AC-4A07-BA9D-A4DA99FC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1A5E-BC20-4BE1-9B17-08B03198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BB4C-0977-4F50-A98D-048ED08C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64B0-DB6D-4252-83F2-BAA10C4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63CE-8A7B-4E2F-9C15-BF383D56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19660-37A2-4EA2-80D7-D687E575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7750-ED2E-459D-8D92-4A55616C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9149B-8144-4BCE-9975-A2880257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AB32-9136-4BFD-8183-E9A1E321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7713-9954-4493-AAAC-8068B2D9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EDE-A016-41DF-A7BE-95246086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B956-0B8C-466C-B98C-5E22B91D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F905-3503-4B9F-A616-B709E2A6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DFA5C-8072-4229-99FF-C00EBDF4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273CD-D3E9-43B7-AE7A-59F9BB50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F750-59AF-497F-9C07-7EA9EC5D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FAFDB-5403-415B-BB14-AA7658E0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8345-3679-4FEC-BDD2-D669B736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2343-FEB0-4B32-A703-4A049984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6326-F5EE-4288-8020-709201AE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4C6BA-F952-4FAB-A9E1-0E08F863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048-F970-4C5B-9F4F-99A09930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E2BDC-E7F4-4ABF-BEAC-A281F3BF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8C7B1-7442-43AE-A3D9-941C2BF7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A6FDE-5399-4A72-9635-5D78384E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B69B-E7CB-4581-AC7E-033CFACA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7818-02BA-4B87-8F4A-2025CE0D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09754-FA89-4BF4-83BA-4A6E1B29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4B7F8-6D08-46BD-91CD-8F1171D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703D2-8503-45AD-8678-323BE7DE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D0C90-54C1-4173-A979-13503A4C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66455-B7D0-427D-B3C2-AE13DADF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13B-7C07-4622-B827-7875C6CD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77433-7CD2-4ABE-A1A6-C18870CC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7AAC4-E97A-491C-940A-7EB8CB6F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1715E-D896-4531-B08A-A84406F1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BB6D-7D7C-4D7A-BDC3-F179F6C6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CD83-6E28-4B9E-8FC2-1197AEB8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240B6-ECC6-477D-A3F4-FFFD74F7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79C24-D399-4304-8CF2-52BCB2CE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727B7-06E6-46C8-9669-E2D788DB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86D2-46D8-4DBE-9004-52524753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73BE9-3B16-44E9-B5DB-F491D5E9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D5D-9363-425F-9E25-D1205581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85F0-673A-4DBC-BA23-DF5300A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A5138-AAEC-4F56-8C23-C3CFC3F2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0B6A6-1A37-4482-9E49-7109267F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1F64-D3BD-49FE-8243-D3C90122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8D773-447F-4489-AB9A-56106AD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ACF48-1FF5-4D9B-BEE0-47BBB8F6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F498-E61F-4AEF-AC89-5F6C1091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60DEF-590C-42AC-9D24-BAF4B49D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51DC0-A84C-4D58-97A0-FB1CA0F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77C2-8061-439B-B417-8ABFEAF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6D3-88BF-4799-A92A-19812E4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DB1FD-AE69-4737-B9B3-6E67231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083B-B045-460F-BED8-8F76DF7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94FF8-2275-4C40-AAD4-3E59F894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056D0-DBA9-4C23-8F8A-15960C85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18409-6D41-4FCD-AAF5-D2A1C080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8557F-8F51-4C58-9844-1D7CA154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B2C56-D87B-4D34-944D-908C3E3B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26999-04F3-4607-A316-4913ADEC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F347-E624-4749-8837-DFF5AA1B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79D19-551A-421B-A89E-4E05F3D4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939-223F-4B48-8B78-0ABACEB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E98AF-CA86-40D1-B052-6D1A6595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CECA8-69C1-4A2B-9CB1-8C0E2194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91B1A-9A51-490B-B276-4ED5058F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953D3-6D2A-40AD-9CAD-37EB947B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9F67B-49ED-415F-BA5D-F9E5F4DB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A0E17-4064-464B-AEBB-838377F1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84386-82A7-479E-97DB-132AE6BD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4BA5E-45EC-4A44-89E3-1FF3B4A5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50073-7FD2-4A80-8E16-67B233A6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77846-8B77-4598-A322-6AABA39C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909D-250D-4A2D-9BFA-63D584927A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C033-2B66-42C4-8A81-52AF26F9EA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0DA0-B2BA-4EEC-BC9E-362ECBDC5A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4013-DB59-413F-8750-C9DB0EBADF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EE0-A6AB-43C9-B633-A115B69BC3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4810-D727-4EE4-A92D-C51D0D0519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7A55-7FAF-452A-8582-4B91067688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00D-315C-4939-B989-5D8FF7BF1A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9783-6778-4966-9572-CB7DAE0C3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DD8A-546D-4AEE-AA11-6FDD40A1EC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FE79-9C93-4E45-8F34-71AFE500AF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44CE-2E20-4D91-9D38-674C799128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7BF9-8B68-49B5-8EBD-FD22A94E8E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5694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Arial"/>
              </a:rPr>
              <a:t>Менеджмент знань для забезпечення якості освіти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250920" y="4527720"/>
            <a:ext cx="52210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дерато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Я РЯБОВА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ідувач кафедри менеджменту освіти та прав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ЗВО “Університет менеджменту освіти” НАПН Украї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7020000" y="6237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-Ф-20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43444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заклади освіти надають комплекс освітніх послуг, який спрямований на задоволення потреб споживачів, що пов’язаний зі зміною їх </a:t>
            </a:r>
            <a:r>
              <a:rPr b="1" lang="uk-UA" sz="3200" spc="-1" strike="noStrike">
                <a:solidFill>
                  <a:srgbClr val="eab85e"/>
                </a:solidFill>
                <a:latin typeface="Arial"/>
              </a:rPr>
              <a:t>освітнього рівня чи професійної підготовки</a:t>
            </a: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, і забезпечений ресурсами цього закладу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Стрелка вниз 5"/>
          <p:cNvSpPr/>
          <p:nvPr/>
        </p:nvSpPr>
        <p:spPr>
          <a:xfrm>
            <a:off x="0" y="4149720"/>
            <a:ext cx="914400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Цей комплекс послуг називаю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Овал 6"/>
          <p:cNvSpPr/>
          <p:nvPr/>
        </p:nvSpPr>
        <p:spPr>
          <a:xfrm>
            <a:off x="324000" y="5300640"/>
            <a:ext cx="8137440" cy="1368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світня програ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Заголовок 1"/>
          <p:cNvSpPr/>
          <p:nvPr/>
        </p:nvSpPr>
        <p:spPr>
          <a:xfrm>
            <a:off x="6588000" y="189000"/>
            <a:ext cx="232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порозуміємо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587640" y="188640"/>
            <a:ext cx="23259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порозуміємося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4" name="Заголовок 1"/>
          <p:cNvSpPr/>
          <p:nvPr/>
        </p:nvSpPr>
        <p:spPr>
          <a:xfrm>
            <a:off x="3240" y="1160640"/>
            <a:ext cx="8913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2f2f2"/>
                </a:solidFill>
                <a:latin typeface="Arial"/>
              </a:rPr>
              <a:t>ЯКІСТЬ ОСВІТИ- </a:t>
            </a:r>
            <a:r>
              <a:rPr b="0" i="1" lang="uk-UA" sz="2800" spc="-1" strike="noStrike">
                <a:solidFill>
                  <a:srgbClr val="f2f2f2"/>
                </a:solidFill>
                <a:latin typeface="Arial"/>
              </a:rPr>
              <a:t>відповідність результатів навчання вимогам, встановленим законодавством, відповідним стандартом освіти та/або договором про надання освітні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Заголовок 1"/>
          <p:cNvSpPr/>
          <p:nvPr/>
        </p:nvSpPr>
        <p:spPr>
          <a:xfrm>
            <a:off x="208080" y="3392640"/>
            <a:ext cx="89136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b85e"/>
                </a:solidFill>
                <a:latin typeface="Arial"/>
              </a:rPr>
              <a:t>ЯКІСТЬ ОСВІТНЬОЇ ДІЯЛЬНОСТІ </a:t>
            </a:r>
            <a:r>
              <a:rPr b="0" i="1" lang="uk-UA" sz="2800" spc="-1" strike="noStrike">
                <a:solidFill>
                  <a:srgbClr val="f2f2f2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рівень організації, забезпечення та реалізації освітнього процесу, що забезпечує здобуття особами якісної освіти та відповідає вимогам, встановленим законодавством та/або договором про надання освітні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Заголовок 1"/>
          <p:cNvSpPr/>
          <p:nvPr/>
        </p:nvSpPr>
        <p:spPr>
          <a:xfrm>
            <a:off x="2187720" y="6165720"/>
            <a:ext cx="693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ЗУ « Про освіт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0640" y="732960"/>
            <a:ext cx="81630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b85e"/>
                </a:solidFill>
                <a:latin typeface="Arial"/>
              </a:rPr>
              <a:t>Забезпечення якості надання освітніх послуг ґрунтується на задоволенні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8000" y="1947960"/>
            <a:ext cx="90360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ОСВІТНІХ ПОТРЕБ користувачів (споживачів, стейкхолдерів): 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1. Реалізація замовлення Держави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2. Врахування запитів громади (регіональне замовлення)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3. Орієнтація на потреби учасників освітнього процесу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9" name="Заголовок 1"/>
          <p:cNvSpPr/>
          <p:nvPr/>
        </p:nvSpPr>
        <p:spPr>
          <a:xfrm>
            <a:off x="6593040" y="-19080"/>
            <a:ext cx="2325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порозуміємо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Рисунок 5" descr=""/>
          <p:cNvPicPr/>
          <p:nvPr/>
        </p:nvPicPr>
        <p:blipFill>
          <a:blip r:embed="rId1"/>
          <a:srcRect l="21338" t="16384" r="5500" b="11805"/>
          <a:stretch/>
        </p:blipFill>
        <p:spPr>
          <a:xfrm>
            <a:off x="0" y="17640"/>
            <a:ext cx="9144000" cy="5859360"/>
          </a:xfrm>
          <a:prstGeom prst="rect">
            <a:avLst/>
          </a:prstGeom>
          <a:ln w="0">
            <a:noFill/>
          </a:ln>
        </p:spPr>
      </p:pic>
      <p:sp>
        <p:nvSpPr>
          <p:cNvPr id="601" name="Скругленный прямоугольник 6"/>
          <p:cNvSpPr/>
          <p:nvPr/>
        </p:nvSpPr>
        <p:spPr>
          <a:xfrm>
            <a:off x="3708360" y="6308640"/>
            <a:ext cx="5111640" cy="54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68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1e54"/>
                </a:solidFill>
                <a:latin typeface="Arial"/>
              </a:rPr>
              <a:t>Нова українська школа: основи Стандарту осві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Схема 5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718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0" y="549360"/>
            <a:ext cx="8892720" cy="4478400"/>
            <a:chOff x="0" y="549360"/>
            <a:chExt cx="8892720" cy="4478400"/>
          </a:xfrm>
        </p:grpSpPr>
        <p:sp>
          <p:nvSpPr>
            <p:cNvPr id="604" name="Oval 3"/>
            <p:cNvSpPr/>
            <p:nvPr/>
          </p:nvSpPr>
          <p:spPr>
            <a:xfrm>
              <a:off x="0" y="981720"/>
              <a:ext cx="1878120" cy="35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ЯКІСТЬ ОСВІ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AutoShape 5"/>
            <p:cNvSpPr/>
            <p:nvPr/>
          </p:nvSpPr>
          <p:spPr>
            <a:xfrm>
              <a:off x="5085720" y="549360"/>
              <a:ext cx="285840" cy="4478400"/>
            </a:xfrm>
            <a:custGeom>
              <a:avLst/>
              <a:gdLst>
                <a:gd name="textAreaLeft" fmla="*/ 83880 w 285840"/>
                <a:gd name="textAreaRight" fmla="*/ 286200 w 285840"/>
                <a:gd name="textAreaTop" fmla="*/ 366480 h 4478400"/>
                <a:gd name="textAreaBottom" fmla="*/ 4111920 h 447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69"/>
                    <a:pt x="0" y="3537"/>
                  </a:cubicBezTo>
                  <a:lnTo>
                    <a:pt x="0" y="18063"/>
                  </a:lnTo>
                  <a:cubicBezTo>
                    <a:pt x="0" y="19832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5226120" y="54936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Якість ум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5371920" y="227484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Якість процес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371920" y="4062600"/>
              <a:ext cx="3341880" cy="96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Якість результат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AutoShape 9"/>
            <p:cNvSpPr/>
            <p:nvPr/>
          </p:nvSpPr>
          <p:spPr>
            <a:xfrm>
              <a:off x="8713800" y="549360"/>
              <a:ext cx="178920" cy="4478400"/>
            </a:xfrm>
            <a:custGeom>
              <a:avLst/>
              <a:gdLst>
                <a:gd name="textAreaLeft" fmla="*/ 0 w 178920"/>
                <a:gd name="textAreaRight" fmla="*/ 125640 w 178920"/>
                <a:gd name="textAreaTop" fmla="*/ 186480 h 4478400"/>
                <a:gd name="textAreaBottom" fmla="*/ 4291920 h 447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3"/>
            <p:cNvSpPr/>
            <p:nvPr/>
          </p:nvSpPr>
          <p:spPr>
            <a:xfrm>
              <a:off x="2697120" y="981720"/>
              <a:ext cx="1878120" cy="356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ОСВІТНІ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ПОТРЕБ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e237e"/>
                  </a:solidFill>
                  <a:latin typeface="Times New Roman"/>
                  <a:ea typeface="Times New Roman"/>
                </a:rPr>
                <a:t>СПОЖИ-ВАЧІ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Rectangle 2"/>
          <p:cNvSpPr/>
          <p:nvPr/>
        </p:nvSpPr>
        <p:spPr>
          <a:xfrm>
            <a:off x="468360" y="0"/>
            <a:ext cx="867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ФОРМУЛА ЯКОСТІ ОСВІ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Равно 12"/>
          <p:cNvSpPr/>
          <p:nvPr/>
        </p:nvSpPr>
        <p:spPr>
          <a:xfrm>
            <a:off x="1908000" y="2205000"/>
            <a:ext cx="648000" cy="1152720"/>
          </a:xfrm>
          <a:custGeom>
            <a:avLst/>
            <a:gdLst/>
            <a:ahLst/>
            <a:rect l="l" t="t" r="r" b="b"/>
            <a:pathLst>
              <a:path w="647700" h="1152525">
                <a:moveTo>
                  <a:pt x="85853" y="237420"/>
                </a:moveTo>
                <a:lnTo>
                  <a:pt x="561847" y="237420"/>
                </a:lnTo>
                <a:lnTo>
                  <a:pt x="561847" y="508494"/>
                </a:lnTo>
                <a:lnTo>
                  <a:pt x="85853" y="508494"/>
                </a:lnTo>
                <a:lnTo>
                  <a:pt x="85853" y="237420"/>
                </a:lnTo>
                <a:close/>
                <a:moveTo>
                  <a:pt x="85853" y="644031"/>
                </a:moveTo>
                <a:lnTo>
                  <a:pt x="561847" y="644031"/>
                </a:lnTo>
                <a:lnTo>
                  <a:pt x="561847" y="915105"/>
                </a:lnTo>
                <a:lnTo>
                  <a:pt x="85853" y="915105"/>
                </a:lnTo>
                <a:lnTo>
                  <a:pt x="85853" y="64403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Умножение 13"/>
          <p:cNvSpPr/>
          <p:nvPr/>
        </p:nvSpPr>
        <p:spPr>
          <a:xfrm>
            <a:off x="4500720" y="2276640"/>
            <a:ext cx="698400" cy="914400"/>
          </a:xfrm>
          <a:custGeom>
            <a:avLst/>
            <a:gdLst/>
            <a:ahLst/>
            <a:rect l="l" t="t" r="r" b="b"/>
            <a:pathLst>
              <a:path w="698500" h="914400">
                <a:moveTo>
                  <a:pt x="102485" y="269480"/>
                </a:moveTo>
                <a:lnTo>
                  <a:pt x="233039" y="169752"/>
                </a:lnTo>
                <a:lnTo>
                  <a:pt x="349250" y="321882"/>
                </a:lnTo>
                <a:lnTo>
                  <a:pt x="465461" y="169752"/>
                </a:lnTo>
                <a:lnTo>
                  <a:pt x="596015" y="269480"/>
                </a:lnTo>
                <a:lnTo>
                  <a:pt x="452618" y="457200"/>
                </a:lnTo>
                <a:lnTo>
                  <a:pt x="596015" y="644920"/>
                </a:lnTo>
                <a:lnTo>
                  <a:pt x="465461" y="744648"/>
                </a:lnTo>
                <a:lnTo>
                  <a:pt x="349250" y="592518"/>
                </a:lnTo>
                <a:lnTo>
                  <a:pt x="233039" y="744648"/>
                </a:lnTo>
                <a:lnTo>
                  <a:pt x="102485" y="644920"/>
                </a:lnTo>
                <a:lnTo>
                  <a:pt x="245882" y="457200"/>
                </a:lnTo>
                <a:lnTo>
                  <a:pt x="102485" y="26948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Плюс 14"/>
          <p:cNvSpPr/>
          <p:nvPr/>
        </p:nvSpPr>
        <p:spPr>
          <a:xfrm>
            <a:off x="6443640" y="1557360"/>
            <a:ext cx="914400" cy="504720"/>
          </a:xfrm>
          <a:custGeom>
            <a:avLst/>
            <a:gdLst/>
            <a:ahLst/>
            <a:rect l="l" t="t" r="r" b="b"/>
            <a:pathLst>
              <a:path w="914400" h="504825">
                <a:moveTo>
                  <a:pt x="121204" y="193045"/>
                </a:moveTo>
                <a:lnTo>
                  <a:pt x="397833" y="193045"/>
                </a:lnTo>
                <a:lnTo>
                  <a:pt x="397833" y="66915"/>
                </a:lnTo>
                <a:lnTo>
                  <a:pt x="516567" y="66915"/>
                </a:lnTo>
                <a:lnTo>
                  <a:pt x="516567" y="193045"/>
                </a:lnTo>
                <a:lnTo>
                  <a:pt x="793196" y="193045"/>
                </a:lnTo>
                <a:lnTo>
                  <a:pt x="793196" y="311780"/>
                </a:lnTo>
                <a:lnTo>
                  <a:pt x="516567" y="311780"/>
                </a:lnTo>
                <a:lnTo>
                  <a:pt x="516567" y="437910"/>
                </a:lnTo>
                <a:lnTo>
                  <a:pt x="397833" y="437910"/>
                </a:lnTo>
                <a:lnTo>
                  <a:pt x="397833" y="311780"/>
                </a:lnTo>
                <a:lnTo>
                  <a:pt x="121204" y="311780"/>
                </a:lnTo>
                <a:lnTo>
                  <a:pt x="121204" y="19304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Плюс 15"/>
          <p:cNvSpPr/>
          <p:nvPr/>
        </p:nvSpPr>
        <p:spPr>
          <a:xfrm>
            <a:off x="6443640" y="3429000"/>
            <a:ext cx="914400" cy="504720"/>
          </a:xfrm>
          <a:custGeom>
            <a:avLst/>
            <a:gdLst/>
            <a:ahLst/>
            <a:rect l="l" t="t" r="r" b="b"/>
            <a:pathLst>
              <a:path w="914400" h="504825">
                <a:moveTo>
                  <a:pt x="121204" y="193045"/>
                </a:moveTo>
                <a:lnTo>
                  <a:pt x="397833" y="193045"/>
                </a:lnTo>
                <a:lnTo>
                  <a:pt x="397833" y="66915"/>
                </a:lnTo>
                <a:lnTo>
                  <a:pt x="516567" y="66915"/>
                </a:lnTo>
                <a:lnTo>
                  <a:pt x="516567" y="193045"/>
                </a:lnTo>
                <a:lnTo>
                  <a:pt x="793196" y="193045"/>
                </a:lnTo>
                <a:lnTo>
                  <a:pt x="793196" y="311780"/>
                </a:lnTo>
                <a:lnTo>
                  <a:pt x="516567" y="311780"/>
                </a:lnTo>
                <a:lnTo>
                  <a:pt x="516567" y="437910"/>
                </a:lnTo>
                <a:lnTo>
                  <a:pt x="397833" y="437910"/>
                </a:lnTo>
                <a:lnTo>
                  <a:pt x="397833" y="311780"/>
                </a:lnTo>
                <a:lnTo>
                  <a:pt x="121204" y="311780"/>
                </a:lnTo>
                <a:lnTo>
                  <a:pt x="121204" y="19304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Прямоугольник 18" descr=""/>
          <p:cNvPicPr/>
          <p:nvPr/>
        </p:nvPicPr>
        <p:blipFill>
          <a:blip r:embed="rId1"/>
          <a:stretch/>
        </p:blipFill>
        <p:spPr>
          <a:xfrm>
            <a:off x="0" y="3786120"/>
            <a:ext cx="3803760" cy="2754360"/>
          </a:xfrm>
          <a:prstGeom prst="rect">
            <a:avLst/>
          </a:prstGeom>
          <a:ln w="0">
            <a:noFill/>
          </a:ln>
        </p:spPr>
      </p:pic>
      <p:pic>
        <p:nvPicPr>
          <p:cNvPr id="617" name="Прямоугольник 19" descr=""/>
          <p:cNvPicPr/>
          <p:nvPr/>
        </p:nvPicPr>
        <p:blipFill>
          <a:blip r:embed="rId2"/>
          <a:stretch/>
        </p:blipFill>
        <p:spPr>
          <a:xfrm>
            <a:off x="2535120" y="4108320"/>
            <a:ext cx="4041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Дата 1"/>
          <p:cNvSpPr/>
          <p:nvPr/>
        </p:nvSpPr>
        <p:spPr>
          <a:xfrm>
            <a:off x="304920" y="655308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5.09.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Нижний колонтитул 2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яб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rcRect l="13215" t="22657" r="32981" b="50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339640" y="122400"/>
            <a:ext cx="61196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ИТАННЯ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339640" y="1341000"/>
            <a:ext cx="65120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Забезпечення якості: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ОСВІТИ</a:t>
            </a:r>
            <a:r>
              <a:rPr b="0" lang="ru-RU" sz="3200" spc="-1" strike="noStrike">
                <a:solidFill>
                  <a:srgbClr val="709ee2"/>
                </a:solidFill>
                <a:latin typeface="Arial"/>
              </a:rPr>
              <a:t>…. чи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algn="r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ОСВІТНІХ ПОСЛУГ?</a:t>
            </a:r>
            <a:r>
              <a:rPr b="0" lang="ru-RU" sz="2800" spc="-1" strike="noStrike">
                <a:solidFill>
                  <a:srgbClr val="709ee2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pic>
        <p:nvPicPr>
          <p:cNvPr id="623" name="Рисунок 2" descr=""/>
          <p:cNvPicPr/>
          <p:nvPr/>
        </p:nvPicPr>
        <p:blipFill>
          <a:blip r:embed="rId1"/>
          <a:srcRect l="36166" t="22441" r="35612" b="19488"/>
          <a:stretch/>
        </p:blipFill>
        <p:spPr>
          <a:xfrm>
            <a:off x="0" y="2997360"/>
            <a:ext cx="36720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1403280" y="1700280"/>
            <a:ext cx="7467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АША ДУМКА?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Рисунок 2" descr=""/>
          <p:cNvPicPr/>
          <p:nvPr/>
        </p:nvPicPr>
        <p:blipFill>
          <a:blip r:embed="rId1"/>
          <a:srcRect l="21222" t="38189" r="58303" b="18499"/>
          <a:stretch/>
        </p:blipFill>
        <p:spPr>
          <a:xfrm>
            <a:off x="179280" y="3333600"/>
            <a:ext cx="2664000" cy="31687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2"/>
          <p:cNvSpPr/>
          <p:nvPr/>
        </p:nvSpPr>
        <p:spPr>
          <a:xfrm>
            <a:off x="3564000" y="3716280"/>
            <a:ext cx="48243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МАЙЖЕ ТОТОЖНІ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16000" y="181080"/>
            <a:ext cx="6934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Чинники</a:t>
            </a:r>
            <a:br>
              <a:rPr sz="3200"/>
            </a:b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забезпечення якості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Овал 2"/>
          <p:cNvSpPr/>
          <p:nvPr/>
        </p:nvSpPr>
        <p:spPr>
          <a:xfrm>
            <a:off x="179280" y="1628640"/>
            <a:ext cx="4321440" cy="1871640"/>
          </a:xfrm>
          <a:prstGeom prst="ellipse">
            <a:avLst/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озвиток потенціалу кожного учасника освітнього проце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Овал 8"/>
          <p:cNvSpPr/>
          <p:nvPr/>
        </p:nvSpPr>
        <p:spPr>
          <a:xfrm>
            <a:off x="1859040" y="3983040"/>
            <a:ext cx="5761080" cy="2254320"/>
          </a:xfrm>
          <a:prstGeom prst="ellipse">
            <a:avLst/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будова гнучкої системи надання освітніх послуг та системи відстеження якості їх над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Овал 10"/>
          <p:cNvSpPr/>
          <p:nvPr/>
        </p:nvSpPr>
        <p:spPr>
          <a:xfrm>
            <a:off x="4583160" y="1593720"/>
            <a:ext cx="4319640" cy="1871640"/>
          </a:xfrm>
          <a:prstGeom prst="ellipse">
            <a:avLst/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вчення, формування, задоволення освітніх потреб споживач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ІТАЄМОСЯ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46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547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874f2"/>
            </a:solidFill>
            <a:ln w="12600">
              <a:solidFill>
                <a:srgbClr val="0e237e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9874f2"/>
            </a:solidFill>
            <a:ln w="25560">
              <a:solidFill>
                <a:srgbClr val="0e237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аш </a:t>
              </a: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настрій……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552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709ee2"/>
            </a:solidFill>
            <a:ln w="12600">
              <a:solidFill>
                <a:srgbClr val="0e237e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709ee2"/>
            </a:solidFill>
            <a:ln w="25560">
              <a:solidFill>
                <a:srgbClr val="0e237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Як погодка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6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557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3b9d81"/>
            </a:solidFill>
            <a:ln w="12600">
              <a:solidFill>
                <a:srgbClr val="0e237e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b9d81"/>
            </a:solidFill>
            <a:ln w="25560">
              <a:solidFill>
                <a:srgbClr val="0e237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96"/>
            <p:cNvSpPr/>
            <p:nvPr/>
          </p:nvSpPr>
          <p:spPr>
            <a:xfrm>
              <a:off x="2743200" y="37558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Каву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пили? А чай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562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80c040"/>
            </a:solidFill>
            <a:ln w="12600">
              <a:solidFill>
                <a:srgbClr val="0e237e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0c040"/>
            </a:solidFill>
            <a:ln w="25560">
              <a:solidFill>
                <a:srgbClr val="0e237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Працюємо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Выноска со стрелкой вниз 6"/>
          <p:cNvSpPr/>
          <p:nvPr/>
        </p:nvSpPr>
        <p:spPr>
          <a:xfrm>
            <a:off x="4716360" y="620640"/>
            <a:ext cx="3311640" cy="1513080"/>
          </a:xfrm>
          <a:prstGeom prst="downArrowCallout">
            <a:avLst>
              <a:gd name="adj1" fmla="val 24990"/>
              <a:gd name="adj2" fmla="val 24977"/>
              <a:gd name="adj3" fmla="val 25000"/>
              <a:gd name="adj4" fmla="val 64977"/>
            </a:avLst>
          </a:prstGeom>
          <a:solidFill>
            <a:srgbClr val="59c1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ВИРІШАЛЬНИЙ ЧИН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7"/>
          <p:cNvSpPr/>
          <p:nvPr/>
        </p:nvSpPr>
        <p:spPr>
          <a:xfrm>
            <a:off x="538200" y="2276640"/>
            <a:ext cx="7704000" cy="4105080"/>
          </a:xfrm>
          <a:prstGeom prst="roundRect">
            <a:avLst>
              <a:gd name="adj" fmla="val 16667"/>
            </a:avLst>
          </a:prstGeom>
          <a:solidFill>
            <a:srgbClr val="59c1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Формування такої філософії управління в галузі освіти, що пов'язана із розвитком педагогічного персоналу закладу осві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(кадри вирішують УС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Заголовок 1"/>
          <p:cNvSpPr/>
          <p:nvPr/>
        </p:nvSpPr>
        <p:spPr>
          <a:xfrm>
            <a:off x="816120" y="1341360"/>
            <a:ext cx="8327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Яким чином забезпечити зазначе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Заголовок 1"/>
          <p:cNvSpPr/>
          <p:nvPr/>
        </p:nvSpPr>
        <p:spPr>
          <a:xfrm>
            <a:off x="4427640" y="115920"/>
            <a:ext cx="4897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ecff"/>
                </a:solidFill>
                <a:latin typeface="Arial"/>
              </a:rPr>
              <a:t>ВИНИКАЄ ЗАПИТАННЯ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Рисунок 2" descr=""/>
          <p:cNvPicPr/>
          <p:nvPr/>
        </p:nvPicPr>
        <p:blipFill>
          <a:blip r:embed="rId1"/>
          <a:srcRect l="36166" t="22441" r="35612" b="19488"/>
          <a:stretch/>
        </p:blipFill>
        <p:spPr>
          <a:xfrm>
            <a:off x="2771640" y="3314880"/>
            <a:ext cx="36720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4520" y="3927600"/>
            <a:ext cx="4800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Запровадження інновацій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Заголовок 1"/>
          <p:cNvSpPr/>
          <p:nvPr/>
        </p:nvSpPr>
        <p:spPr>
          <a:xfrm>
            <a:off x="468360" y="1413000"/>
            <a:ext cx="51832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Розвиток інтелектуального потенціалу закладу осві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Заголовок 1"/>
          <p:cNvSpPr/>
          <p:nvPr/>
        </p:nvSpPr>
        <p:spPr>
          <a:xfrm>
            <a:off x="3948120" y="189000"/>
            <a:ext cx="48960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ecff"/>
                </a:solidFill>
                <a:latin typeface="Arial"/>
              </a:rPr>
              <a:t>ЯКІСТЬ НАДАНН ОСТНІХ ПОСЛУГ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459160" y="333360"/>
            <a:ext cx="6480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НАПРЯМИ ЗАБЕЗПЕЧЕННЯ ЯО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0" name="Схема 5" descr=""/>
          <p:cNvPicPr/>
          <p:nvPr/>
        </p:nvPicPr>
        <p:blipFill>
          <a:blip r:embed="rId1"/>
          <a:stretch/>
        </p:blipFill>
        <p:spPr>
          <a:xfrm>
            <a:off x="249120" y="1054080"/>
            <a:ext cx="87188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763640" y="90792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ровідний чинник забезпечення якості освіти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Нижний колонтитул 3"/>
          <p:cNvSpPr/>
          <p:nvPr/>
        </p:nvSpPr>
        <p:spPr>
          <a:xfrm>
            <a:off x="971640" y="2565360"/>
            <a:ext cx="73454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Людські ресурси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Заголовок 1"/>
          <p:cNvSpPr/>
          <p:nvPr/>
        </p:nvSpPr>
        <p:spPr>
          <a:xfrm>
            <a:off x="195120" y="549360"/>
            <a:ext cx="85536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00000"/>
                </a:solidFill>
                <a:latin typeface="Arial"/>
              </a:rPr>
              <a:t>Професійна компетентні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00000"/>
                </a:solidFill>
                <a:latin typeface="Arial"/>
              </a:rPr>
              <a:t>фахівця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i="1" lang="uk-UA" sz="2800" spc="-1" strike="noStrike">
                <a:solidFill>
                  <a:srgbClr val="ccecff"/>
                </a:solidFill>
                <a:latin typeface="Arial"/>
              </a:rPr>
              <a:t>здатність особи в межах визначених за посадою повноважень застосовувати спеціальні знання, уміння та навички, виявляти відповідні моральні та ділові якості для належного виконання встановлених завдань і обов’язків, навчання, професійного та особистісного розви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Заголовок 1"/>
          <p:cNvSpPr/>
          <p:nvPr/>
        </p:nvSpPr>
        <p:spPr>
          <a:xfrm>
            <a:off x="2152800" y="6267600"/>
            <a:ext cx="699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кон України «Про державну службу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151840" cy="513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Створення команди кваліфікованих та компетентних фахівців можливо здійснити за допомогою технології </a:t>
            </a:r>
            <a:r>
              <a:rPr b="1" i="1" lang="uk-UA" sz="3200" spc="-1" strike="noStrike" u="sng">
                <a:solidFill>
                  <a:srgbClr val="ccecff"/>
                </a:solidFill>
                <a:uFillTx/>
                <a:latin typeface="Arial"/>
              </a:rPr>
              <a:t>МЕНЕДЖМЕНТУ ЗНАНЬ </a:t>
            </a:r>
            <a:r>
              <a:rPr b="1" lang="pl-PL" sz="3200" spc="-1" strike="noStrike">
                <a:solidFill>
                  <a:srgbClr val="ccecff"/>
                </a:solidFill>
                <a:latin typeface="Arial"/>
              </a:rPr>
              <a:t>– </a:t>
            </a:r>
            <a:br>
              <a:rPr sz="3200"/>
            </a:br>
            <a:r>
              <a:rPr b="1" lang="pl-PL" sz="3200" spc="-1" strike="noStrike">
                <a:solidFill>
                  <a:srgbClr val="ccecff"/>
                </a:solidFill>
                <a:latin typeface="Arial"/>
              </a:rPr>
              <a:t>(від англ. knowledge management)</a:t>
            </a: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65240" y="188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ЕНЕДЖМЕНТ ЗНАНЬ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Прямоугольник 5"/>
          <p:cNvSpPr/>
          <p:nvPr/>
        </p:nvSpPr>
        <p:spPr>
          <a:xfrm>
            <a:off x="1828800" y="733320"/>
            <a:ext cx="72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 невід’ємна частина менеджменту будь-якої організ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Прямоугольник 6"/>
          <p:cNvSpPr/>
          <p:nvPr/>
        </p:nvSpPr>
        <p:spPr>
          <a:xfrm>
            <a:off x="0" y="1844640"/>
            <a:ext cx="720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ступає системою дій, що пов’язані із формуванням </a:t>
            </a:r>
            <a:r>
              <a:rPr b="1" i="1" lang="uk-UA" sz="2800" spc="-1" strike="noStrike" u="sng">
                <a:solidFill>
                  <a:srgbClr val="ff0000"/>
                </a:solidFill>
                <a:uFillTx/>
                <a:latin typeface="Arial"/>
              </a:rPr>
              <a:t>нових знань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, їх зберіганням, використанням та розповсюдженням в закладі осві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Прямоугольник 7"/>
          <p:cNvSpPr/>
          <p:nvPr/>
        </p:nvSpPr>
        <p:spPr>
          <a:xfrm>
            <a:off x="1692360" y="3770280"/>
            <a:ext cx="7207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є процесом, який забезпечує збереження, розподіл та використання інтелектуального капіталу (інтелектуальних активів) організації, що необхідно для забезпечення її успіху, ефективності та продуктивності діяльнос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65240" y="188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ЕНЕДЖМЕНТ ЗНАНЬ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Прямоугольник 6"/>
          <p:cNvSpPr/>
          <p:nvPr/>
        </p:nvSpPr>
        <p:spPr>
          <a:xfrm>
            <a:off x="1258920" y="981000"/>
            <a:ext cx="720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часний менеджмент базується на концепції розвитку людського капіталу компанії, як основного ресурсу, що забезпечує їй конкурентні переваги та успі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Прямоугольник 7"/>
          <p:cNvSpPr/>
          <p:nvPr/>
        </p:nvSpPr>
        <p:spPr>
          <a:xfrm>
            <a:off x="826920" y="3770280"/>
            <a:ext cx="8072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Національному стандарті України визначено сутність поняття «знання організації». Зазначається, що це знання, специфічні для організації; їх зазвичай набувають через досвід. В основному, це є інформацією, яку використовують та якою обмінюються задля досягнення цілей організаці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23960" y="299880"/>
            <a:ext cx="6266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Основа знань закладу освіти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Скругленный прямоугольник 4"/>
          <p:cNvSpPr/>
          <p:nvPr/>
        </p:nvSpPr>
        <p:spPr>
          <a:xfrm>
            <a:off x="399960" y="1268280"/>
            <a:ext cx="4896000" cy="2737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ВНУТРІШНІ РЕСУРСИ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наприклад, інтелектуальна власність; знання, набуті через досвід; уроки, як були засвоєні з невдач і успішних проектів; здобуття та спільне використання незадокументованих знань і досвіду; результати поліпшень у процесах, продукції та послуга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5"/>
          <p:cNvSpPr/>
          <p:nvPr/>
        </p:nvSpPr>
        <p:spPr>
          <a:xfrm>
            <a:off x="3492360" y="4253040"/>
            <a:ext cx="5270760" cy="21286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ЗОВНІШНІ РЕСУРСИ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наприклад, стандарти; наукова спільнота; конференції; отримання знань від замовників або зовнішніх постачальникі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484360" y="122040"/>
            <a:ext cx="5975280" cy="3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Основні питання…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50560" y="1444320"/>
            <a:ext cx="8785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ість освіти – знайома незнайомка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Забезпечення якості освіти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-339480" algn="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Менеджмент знань – примха чи інновація…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2243160" y="5300640"/>
            <a:ext cx="6599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Вимірювання якості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Рисунок 4" descr=""/>
          <p:cNvPicPr/>
          <p:nvPr/>
        </p:nvPicPr>
        <p:blipFill>
          <a:blip r:embed="rId1"/>
          <a:stretch/>
        </p:blipFill>
        <p:spPr>
          <a:xfrm>
            <a:off x="0" y="4149720"/>
            <a:ext cx="205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79640" y="29988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енеджмент знань складається з таких компонентів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7" name="Скругленный прямоугольник 4"/>
          <p:cNvSpPr/>
          <p:nvPr/>
        </p:nvSpPr>
        <p:spPr>
          <a:xfrm>
            <a:off x="399960" y="1268280"/>
            <a:ext cx="4896000" cy="8654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формування нових знань та стимулювання їх приро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6"/>
          <p:cNvSpPr/>
          <p:nvPr/>
        </p:nvSpPr>
        <p:spPr>
          <a:xfrm>
            <a:off x="4248000" y="220500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аліз зовнішніх джерел та відбір й акумулювання необхідних знань для організац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7"/>
          <p:cNvSpPr/>
          <p:nvPr/>
        </p:nvSpPr>
        <p:spPr>
          <a:xfrm>
            <a:off x="366840" y="3141720"/>
            <a:ext cx="4895640" cy="8636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ереження, класифікація, трансформація, забезпечення доступності зн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8"/>
          <p:cNvSpPr/>
          <p:nvPr/>
        </p:nvSpPr>
        <p:spPr>
          <a:xfrm>
            <a:off x="4246560" y="4076640"/>
            <a:ext cx="4896000" cy="865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ворення системи обміну знань (досвідом) в межах організац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9"/>
          <p:cNvSpPr/>
          <p:nvPr/>
        </p:nvSpPr>
        <p:spPr>
          <a:xfrm>
            <a:off x="425520" y="5013360"/>
            <a:ext cx="4895640" cy="8636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користання знань під час ухвалення рішень; втілення знань в продуктах, послугах, документах, базах даних та і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10"/>
          <p:cNvSpPr/>
          <p:nvPr/>
        </p:nvSpPr>
        <p:spPr>
          <a:xfrm>
            <a:off x="4248000" y="5894280"/>
            <a:ext cx="4897440" cy="8636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цінювання знань, вимірювання і використання нематеріальних активів організац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2"/>
          <p:cNvSpPr/>
          <p:nvPr/>
        </p:nvSpPr>
        <p:spPr>
          <a:xfrm>
            <a:off x="1979640" y="2492280"/>
            <a:ext cx="5616720" cy="244944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АХИСТ ЗНА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23960" y="299880"/>
            <a:ext cx="6266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СТРАТЕГІЇ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5" name="Скругленный прямоугольник 4"/>
          <p:cNvSpPr/>
          <p:nvPr/>
        </p:nvSpPr>
        <p:spPr>
          <a:xfrm>
            <a:off x="1692360" y="1063800"/>
            <a:ext cx="7340400" cy="10792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ратегія, в основі якої формування та використання знань в межах індивідуальної компетенції (досвід); стратегія, в основі якої формування та використання знань в межах внутрішньої стратегії організації (обмін досвідом, організація, що самонавчаєтьс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Скругленный прямоугольник 6"/>
          <p:cNvSpPr/>
          <p:nvPr/>
        </p:nvSpPr>
        <p:spPr>
          <a:xfrm>
            <a:off x="142920" y="2513160"/>
            <a:ext cx="7342200" cy="1081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ратегія, в основі якої формування та використання знань в межах зовнішньої структури (комунікації); стратегія, в основі якої обмін знань в межах індивідуальної компетенції і зовнішньою структурою (взаємодія зі споживачам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Скругленный прямоугольник 7"/>
          <p:cNvSpPr/>
          <p:nvPr/>
        </p:nvSpPr>
        <p:spPr>
          <a:xfrm>
            <a:off x="1803240" y="3962520"/>
            <a:ext cx="7340760" cy="1081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ратегія, в основі якої обмін знань в межах індивідуальної компетенції і внутрішньою структур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Скругленный прямоугольник 8"/>
          <p:cNvSpPr/>
          <p:nvPr/>
        </p:nvSpPr>
        <p:spPr>
          <a:xfrm>
            <a:off x="142920" y="5373720"/>
            <a:ext cx="7342200" cy="973080"/>
          </a:xfrm>
          <a:prstGeom prst="roundRect">
            <a:avLst>
              <a:gd name="adj" fmla="val 16667"/>
            </a:avLst>
          </a:prstGeom>
          <a:solidFill>
            <a:srgbClr val="709ee2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тратегія, в основі якої обмін знань між елементами внутрішньої та зовнішньої структури організації; стратегія, що спирається на рух знань одночасно між усіма видами інтелектуального капіта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965240" y="188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ЕНЕДЖМЕНТ ЗНАНЬ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Прямоугольник 7"/>
          <p:cNvSpPr/>
          <p:nvPr/>
        </p:nvSpPr>
        <p:spPr>
          <a:xfrm>
            <a:off x="395280" y="90792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Для визначення доцільності використання будь-якої стратегії необхідно проводити такі види аналізу внутрішнього та зовнішнього середовища організації як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WOT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- та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ST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- аналізи. Крім того, необхідно чітко уявляти місію організації, знати мету її діяльності, мати план її реалізації та окреслювати індикатори (показники) успіх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203280" y="1699920"/>
            <a:ext cx="583236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Дисертаційне дослідження </a:t>
            </a: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та менеджмент знань…..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Rectangle 2"/>
          <p:cNvSpPr/>
          <p:nvPr/>
        </p:nvSpPr>
        <p:spPr>
          <a:xfrm>
            <a:off x="1332000" y="404640"/>
            <a:ext cx="7467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АША ДУМКА?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Рисунок 2" descr=""/>
          <p:cNvPicPr/>
          <p:nvPr/>
        </p:nvPicPr>
        <p:blipFill>
          <a:blip r:embed="rId1"/>
          <a:srcRect l="21222" t="38189" r="58303" b="18499"/>
          <a:stretch/>
        </p:blipFill>
        <p:spPr>
          <a:xfrm>
            <a:off x="179280" y="3333600"/>
            <a:ext cx="2664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Заголовок 1"/>
          <p:cNvSpPr/>
          <p:nvPr/>
        </p:nvSpPr>
        <p:spPr>
          <a:xfrm>
            <a:off x="539640" y="1413000"/>
            <a:ext cx="80139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це показник досягнення успіху в конкретній діяльності або в досягненні конкретних ці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KPI -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 КІЛЬКІСНИЙ ВИМІРНИК ІНДИКАТОРА, ФАКТИЧНО ДОСЯГНУТИХ РЕЗУЛЬТАТ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KPI (Key Performance Indicator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Заголовок 1"/>
          <p:cNvSpPr/>
          <p:nvPr/>
        </p:nvSpPr>
        <p:spPr>
          <a:xfrm>
            <a:off x="1476360" y="1413000"/>
            <a:ext cx="6408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результа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атрати ресурсі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функціонува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фективні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казники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KPI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339640" y="122040"/>
            <a:ext cx="611964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ОРОЗУМІЄМОСЯ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339640" y="1557000"/>
            <a:ext cx="65120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Чи потрібна інформація для написання дисертаційного дослідження….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</p:txBody>
      </p:sp>
      <p:pic>
        <p:nvPicPr>
          <p:cNvPr id="680" name="Рисунок 2" descr=""/>
          <p:cNvPicPr/>
          <p:nvPr/>
        </p:nvPicPr>
        <p:blipFill>
          <a:blip r:embed="rId1"/>
          <a:srcRect l="36166" t="22441" r="35612" b="19488"/>
          <a:stretch/>
        </p:blipFill>
        <p:spPr>
          <a:xfrm>
            <a:off x="0" y="2997360"/>
            <a:ext cx="36720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484360" y="122040"/>
            <a:ext cx="5975280" cy="3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Ми розглянули питання…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560" y="1444320"/>
            <a:ext cx="8785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ість освіти – знайома незнайомка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Забезпечення якості освіти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-339480" algn="r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09ee2"/>
                </a:solidFill>
                <a:latin typeface="Arial"/>
              </a:rPr>
              <a:t>Менеджмент знань – примха чи інновація…</a:t>
            </a: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243160" y="5300640"/>
            <a:ext cx="6599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ctr"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Вимірювання якості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4" name="Рисунок 4" descr=""/>
          <p:cNvPicPr/>
          <p:nvPr/>
        </p:nvPicPr>
        <p:blipFill>
          <a:blip r:embed="rId1"/>
          <a:stretch/>
        </p:blipFill>
        <p:spPr>
          <a:xfrm>
            <a:off x="0" y="4149720"/>
            <a:ext cx="205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262320" y="620640"/>
            <a:ext cx="3541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Рефлексія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86" name="Рисунок 5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147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1564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блема состоит не в том, как усвоить новые идеи, а в том, как избавиться от старых. (Н.Остен)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33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Державна політика у сфері освіти ґрунтується на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Блок-схема: перфолента 7"/>
          <p:cNvSpPr/>
          <p:nvPr/>
        </p:nvSpPr>
        <p:spPr>
          <a:xfrm>
            <a:off x="0" y="981000"/>
            <a:ext cx="8820000" cy="5040360"/>
          </a:xfrm>
          <a:prstGeom prst="flowChartPunchedTape">
            <a:avLst/>
          </a:prstGeom>
          <a:solidFill>
            <a:srgbClr val="59c1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відному принципі сприяння сталому розвитку суспільства шляхом підготовки конкурентоспроможного людського капіталу та створення умов для освіти протягом житт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Нижний колонтитул 9"/>
          <p:cNvSpPr/>
          <p:nvPr/>
        </p:nvSpPr>
        <p:spPr>
          <a:xfrm>
            <a:off x="4716360" y="6308640"/>
            <a:ext cx="3895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України «Про вищу освіту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WordArt 5"/>
          <p:cNvSpPr txBox="1"/>
          <p:nvPr/>
        </p:nvSpPr>
        <p:spPr>
          <a:xfrm>
            <a:off x="179280" y="333360"/>
            <a:ext cx="896472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e237e"/>
                  </a:solidFill>
                  <a:miter/>
                </a:ln>
                <a:gradFill rotWithShape="0">
                  <a:gsLst>
                    <a:gs pos="0">
                      <a:srgbClr val="9874f2"/>
                    </a:gs>
                    <a:gs pos="100000">
                      <a:srgbClr val="3b9d81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Які питання </a:t>
            </a:r>
            <a:endParaRPr b="1" lang="en-US" sz="1800" spc="1" strike="noStrike">
              <a:ln w="19080">
                <a:solidFill>
                  <a:srgbClr val="0e237e"/>
                </a:solidFill>
                <a:miter/>
              </a:ln>
              <a:gradFill rotWithShape="0">
                <a:gsLst>
                  <a:gs pos="0">
                    <a:srgbClr val="9874f2"/>
                  </a:gs>
                  <a:gs pos="100000">
                    <a:srgbClr val="3b9d81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e237e"/>
                  </a:solidFill>
                  <a:miter/>
                </a:ln>
                <a:gradFill rotWithShape="0">
                  <a:gsLst>
                    <a:gs pos="0">
                      <a:srgbClr val="9874f2"/>
                    </a:gs>
                    <a:gs pos="100000">
                      <a:srgbClr val="3b9d81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алишилися поза увагою?</a:t>
            </a:r>
            <a:endParaRPr b="1" lang="en-US" sz="1800" spc="1" strike="noStrike">
              <a:ln w="19080">
                <a:solidFill>
                  <a:srgbClr val="0e237e"/>
                </a:solidFill>
                <a:miter/>
              </a:ln>
              <a:gradFill rotWithShape="0">
                <a:gsLst>
                  <a:gs pos="0">
                    <a:srgbClr val="9874f2"/>
                  </a:gs>
                  <a:gs pos="100000">
                    <a:srgbClr val="3b9d81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33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Нагальною проблемою є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Блок-схема: перфолента 7"/>
          <p:cNvSpPr/>
          <p:nvPr/>
        </p:nvSpPr>
        <p:spPr>
          <a:xfrm>
            <a:off x="0" y="1700280"/>
            <a:ext cx="8820000" cy="2952720"/>
          </a:xfrm>
          <a:prstGeom prst="flowChartPunchedTape">
            <a:avLst/>
          </a:prstGeom>
          <a:solidFill>
            <a:srgbClr val="59c1ff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уттєве погіршення якості загальної середньої освіти протягом 1992–2016 рок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Нижний колонтитул 9"/>
          <p:cNvSpPr/>
          <p:nvPr/>
        </p:nvSpPr>
        <p:spPr>
          <a:xfrm>
            <a:off x="3203640" y="5805360"/>
            <a:ext cx="54086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онцепція реалізації державної політики у сфері реформування загальної середньої освіти «Нова українська школа» на період до 2029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95280" y="475920"/>
            <a:ext cx="7848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ершочерговим завданням стає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14200" y="2421000"/>
          <a:ext cx="8464680" cy="2205000"/>
        </p:xfrm>
        <a:graphic>
          <a:graphicData uri="http://schemas.openxmlformats.org/drawingml/2006/table">
            <a:tbl>
              <a:tblPr/>
              <a:tblGrid>
                <a:gridCol w="8464680"/>
              </a:tblGrid>
              <a:tr h="2205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ЕЗПЕЧЕННЯ ЯКОСТІ НАДАННЯ ОСВІТНІХ ПОСЛУГ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08240" y="9972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ПИТАННЯЧКО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9" name="Picture 2" descr="http://cs616219.vk.me/v616219077/1fa81/35hUVYEUWD0.jpg"/>
          <p:cNvPicPr/>
          <p:nvPr/>
        </p:nvPicPr>
        <p:blipFill>
          <a:blip r:embed="rId1"/>
          <a:stretch/>
        </p:blipFill>
        <p:spPr>
          <a:xfrm>
            <a:off x="723744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580" name="Блок-схема: память с посл. доступом 4"/>
          <p:cNvSpPr/>
          <p:nvPr/>
        </p:nvSpPr>
        <p:spPr>
          <a:xfrm>
            <a:off x="395280" y="3919680"/>
            <a:ext cx="5867280" cy="1471320"/>
          </a:xfrm>
          <a:prstGeom prst="flowChartMagneticTape">
            <a:avLst/>
          </a:prstGeom>
          <a:solidFill>
            <a:srgbClr val="92d050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Сутність якості освіт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Блок-схема: память с посл. доступом 5"/>
          <p:cNvSpPr/>
          <p:nvPr/>
        </p:nvSpPr>
        <p:spPr>
          <a:xfrm>
            <a:off x="2816280" y="2030400"/>
            <a:ext cx="5867280" cy="1258920"/>
          </a:xfrm>
          <a:prstGeom prst="flowChartMagneticTape">
            <a:avLst/>
          </a:prstGeom>
          <a:solidFill>
            <a:srgbClr val="92d050"/>
          </a:solidFill>
          <a:ln w="25560">
            <a:solidFill>
              <a:srgbClr val="507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Якщо «так», яким чино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Прямоугольник 2" descr=""/>
          <p:cNvPicPr/>
          <p:nvPr/>
        </p:nvPicPr>
        <p:blipFill>
          <a:blip r:embed="rId2"/>
          <a:stretch/>
        </p:blipFill>
        <p:spPr>
          <a:xfrm>
            <a:off x="1695600" y="731880"/>
            <a:ext cx="688176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03280" y="1699920"/>
            <a:ext cx="583236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Продукти </a:t>
            </a: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дисертаційного дослідження </a:t>
            </a:r>
            <a:br>
              <a:rPr sz="3200"/>
            </a:b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та якість освіти…… треба?.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3200" spc="-1" strike="noStrike" u="sng">
                <a:solidFill>
                  <a:srgbClr val="eab85e"/>
                </a:solidFill>
                <a:uFillTx/>
                <a:latin typeface="Arial"/>
              </a:rPr>
              <a:t>ЇЇ забезпечення</a:t>
            </a:r>
            <a:r>
              <a:rPr b="1" lang="uk-UA" sz="3200" spc="-1" strike="noStrike">
                <a:solidFill>
                  <a:srgbClr val="eab85e"/>
                </a:solidFill>
                <a:latin typeface="Arial"/>
              </a:rPr>
              <a:t>………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1332000" y="404640"/>
            <a:ext cx="7467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АША ДУМКА?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Рисунок 2" descr=""/>
          <p:cNvPicPr/>
          <p:nvPr/>
        </p:nvPicPr>
        <p:blipFill>
          <a:blip r:embed="rId1"/>
          <a:srcRect l="21222" t="38189" r="58303" b="18499"/>
          <a:stretch/>
        </p:blipFill>
        <p:spPr>
          <a:xfrm>
            <a:off x="179280" y="3333600"/>
            <a:ext cx="2664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Освітні  послуги - це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1733040"/>
            <a:ext cx="91440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система знань, інформації, умінь і навичок, які використовуються з метою задоволення потреб людини, суспільства і держави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08520" indent="-308520" algn="r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709ee2"/>
                </a:solidFill>
                <a:latin typeface="Arial"/>
              </a:rPr>
              <a:t>комплекс визначених законодавством, освітньою програмою та/або договором дій суб’єкта освітньої діяльності, що мають визначену вартість та спрямовані на досягнення здобувачем освіти очікуваних результатів навчання 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marL="308520" indent="-308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9ee2"/>
              </a:solidFill>
              <a:latin typeface="Arial"/>
            </a:endParaRPr>
          </a:p>
          <a:p>
            <a:pPr marL="308520" indent="-308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709ee2"/>
                </a:solidFill>
                <a:latin typeface="Arial"/>
              </a:rPr>
              <a:t>ЗУ “Про освіту”</a:t>
            </a:r>
            <a:endParaRPr b="0" lang="en-US" sz="24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88" name="Заголовок 1"/>
          <p:cNvSpPr/>
          <p:nvPr/>
        </p:nvSpPr>
        <p:spPr>
          <a:xfrm>
            <a:off x="6588000" y="189000"/>
            <a:ext cx="232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Arial"/>
              </a:rPr>
              <a:t>порозуміємо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6:30:34Z</dcterms:created>
  <dc:creator>Зоя</dc:creator>
  <dc:description/>
  <dc:language>en-US</dc:language>
  <cp:lastModifiedBy>Рябова Зоя</cp:lastModifiedBy>
  <dcterms:modified xsi:type="dcterms:W3CDTF">2019-11-21T07:10:09Z</dcterms:modified>
  <cp:revision>113</cp:revision>
  <dc:subject/>
  <dc:title>Загальна теорія організації</dc:title>
</cp:coreProperties>
</file>