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gif" ContentType="image/gi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B643-3E5F-4218-AE13-BCED9703C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0603-D042-43FA-8BDB-5A785FAE14A2}" type="slidenum">
              <a:rPr b="0" lang="ru-RU" sz="1200" spc="-1" strike="noStrike">
                <a:solidFill>
                  <a:srgbClr val="99cc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E34-CB81-415D-A87D-696AE36E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7D0-AF7D-4E63-AB00-365DEADE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989-2F13-4D74-B275-CB5F92F7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73B-8494-44B0-BF7D-FAD753E2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508-B8CB-445F-8D4A-D423A969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C5E-9B58-4C58-BAD1-BDDE6598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6C6-086F-455C-A800-590F6B00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02B-E67B-4C20-9F06-D01C7FB6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2F9-1F84-413C-86D2-5947DF4E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248-4536-4E35-9020-1AC60D99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4B7-5846-4975-ACE9-2D4A525E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EC4-40FE-4BF1-8EE9-3BCAE702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10D7-F6F0-4432-95CA-B2D183DC8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Rectangle 19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osvitamarketing.ucoz.ua/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УНІВЕРСИТЕТ МЕНЕДЖМЕНТУ ОСВІТИ НАПН України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0" y="162720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755640" y="5229360"/>
            <a:ext cx="79930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Рябова З. В., доктор пед. наук, професор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108000" y="30240"/>
            <a:ext cx="8731080" cy="6827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Цікавий факт: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 За результатами досліджень, проведених останнім часом як в Україні, так і за кордоном, більшість сучасних лідерів у політиці, бізнесі, мистецтві, спорті – люди, які володіють проектним типом мислення. Тобто вдало використовують технологію проектного менеджменту. Це підтверджується статистичними даними: проектний менеджмент є у 74% організацій, 37% робочих процесів, що там протікають (за </a:t>
            </a:r>
            <a:r>
              <a:rPr b="0" i="1" lang="uk-UA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матеріалами тренінгу  Франца Фреха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).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1"/>
          <p:cNvSpPr/>
          <p:nvPr/>
        </p:nvSpPr>
        <p:spPr>
          <a:xfrm>
            <a:off x="539640" y="824040"/>
            <a:ext cx="801396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Проектний менеджмент – це відповідь на виклики сьогодення.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В умовах глобалізації та загострення конкуренції він допомагає забезпечити успішність життєдіяльності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ідповідь…..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ИТАННЯЧКО 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533520" y="148428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1. Професійна діяльність: сутність та інше…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1109520" y="5732640"/>
            <a:ext cx="6775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АША ВІДПОВІДЬ …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едагогічна діяльність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240" y="1267920"/>
            <a:ext cx="89154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Verdana"/>
              </a:rPr>
              <a:t>Від грец. paidos - дитина і ago – вед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Verdana"/>
              </a:rPr>
              <a:t>особливий вид соціальної діяльност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рямована на передавання новим поколінням накопичених людством досвіду і культури, створення умов для їх особистісного розвитку і підготовки їх до виконання певних соціальних ролей у суспільств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едагогічна діяльність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468360" y="191628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dc9b1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50" name="Group 37"/>
          <p:cNvGrpSpPr/>
          <p:nvPr/>
        </p:nvGrpSpPr>
        <p:grpSpPr>
          <a:xfrm>
            <a:off x="2979720" y="3836880"/>
            <a:ext cx="2239560" cy="1706760"/>
            <a:chOff x="2979720" y="3836880"/>
            <a:chExt cx="2239560" cy="1706760"/>
          </a:xfrm>
        </p:grpSpPr>
        <p:sp>
          <p:nvSpPr>
            <p:cNvPr id="151" name="Oval 7"/>
            <p:cNvSpPr/>
            <p:nvPr/>
          </p:nvSpPr>
          <p:spPr>
            <a:xfrm>
              <a:off x="2979720" y="3836880"/>
              <a:ext cx="22395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>
              <a:off x="3006360" y="3846600"/>
              <a:ext cx="218772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>
              <a:off x="3029760" y="3862440"/>
              <a:ext cx="20811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150720" y="3906720"/>
              <a:ext cx="185148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55" name="Group 36"/>
          <p:cNvGrpSpPr/>
          <p:nvPr/>
        </p:nvGrpSpPr>
        <p:grpSpPr>
          <a:xfrm>
            <a:off x="468360" y="3429000"/>
            <a:ext cx="2374560" cy="1365120"/>
            <a:chOff x="468360" y="3429000"/>
            <a:chExt cx="2374560" cy="1365120"/>
          </a:xfrm>
        </p:grpSpPr>
        <p:sp>
          <p:nvSpPr>
            <p:cNvPr id="156" name="Oval 13"/>
            <p:cNvSpPr/>
            <p:nvPr/>
          </p:nvSpPr>
          <p:spPr>
            <a:xfrm>
              <a:off x="468360" y="3429000"/>
              <a:ext cx="2374560" cy="1365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7" name="Oval 14"/>
            <p:cNvSpPr/>
            <p:nvPr/>
          </p:nvSpPr>
          <p:spPr>
            <a:xfrm>
              <a:off x="498240" y="3436920"/>
              <a:ext cx="2316960" cy="1329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8" name="Oval 15"/>
            <p:cNvSpPr/>
            <p:nvPr/>
          </p:nvSpPr>
          <p:spPr>
            <a:xfrm>
              <a:off x="523440" y="3449520"/>
              <a:ext cx="2203560" cy="12441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650520" y="3484440"/>
              <a:ext cx="1959840" cy="100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60" name="Group 35"/>
          <p:cNvGrpSpPr/>
          <p:nvPr/>
        </p:nvGrpSpPr>
        <p:grpSpPr>
          <a:xfrm>
            <a:off x="611280" y="2104920"/>
            <a:ext cx="1656720" cy="1024200"/>
            <a:chOff x="611280" y="2104920"/>
            <a:chExt cx="1656720" cy="1024200"/>
          </a:xfrm>
        </p:grpSpPr>
        <p:sp>
          <p:nvSpPr>
            <p:cNvPr id="161" name="Oval 19"/>
            <p:cNvSpPr/>
            <p:nvPr/>
          </p:nvSpPr>
          <p:spPr>
            <a:xfrm>
              <a:off x="611280" y="2104920"/>
              <a:ext cx="165672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632160" y="2109960"/>
              <a:ext cx="16174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650160" y="2120760"/>
              <a:ext cx="15379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737640" y="2146320"/>
              <a:ext cx="137088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65" name="Group 34"/>
          <p:cNvGrpSpPr/>
          <p:nvPr/>
        </p:nvGrpSpPr>
        <p:grpSpPr>
          <a:xfrm>
            <a:off x="2484360" y="1523880"/>
            <a:ext cx="1655280" cy="682920"/>
            <a:chOff x="2484360" y="1523880"/>
            <a:chExt cx="1655280" cy="682920"/>
          </a:xfrm>
        </p:grpSpPr>
        <p:sp>
          <p:nvSpPr>
            <p:cNvPr id="166" name="Oval 25"/>
            <p:cNvSpPr/>
            <p:nvPr/>
          </p:nvSpPr>
          <p:spPr>
            <a:xfrm>
              <a:off x="2484360" y="1523880"/>
              <a:ext cx="1655280" cy="682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2507760" y="1527120"/>
              <a:ext cx="161244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2522520" y="1533600"/>
              <a:ext cx="153648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2611800" y="1552680"/>
              <a:ext cx="13662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70" name="Text Box 29"/>
          <p:cNvSpPr/>
          <p:nvPr/>
        </p:nvSpPr>
        <p:spPr>
          <a:xfrm>
            <a:off x="2635200" y="148428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міст –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взаємини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751680" y="2205000"/>
            <a:ext cx="14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авдання –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розуміти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учня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740880" y="3665520"/>
            <a:ext cx="170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авдання –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розкрити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потенціал учня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3095640" y="3846600"/>
            <a:ext cx="194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вдання -  виявити, бажання та сформувати освітні потреби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6084720" y="2637000"/>
            <a:ext cx="30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e101"/>
                </a:solidFill>
                <a:latin typeface="Arial"/>
              </a:rPr>
              <a:t>Успішність життєдіяльності особистості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802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99ccff"/>
                </a:solidFill>
                <a:uFillTx/>
                <a:latin typeface="Verdana"/>
              </a:rPr>
              <a:t>Дидактичний п'ятикутник</a:t>
            </a:r>
            <a:endParaRPr b="0" lang="en-US" sz="4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76" name="Oval 18"/>
          <p:cNvSpPr/>
          <p:nvPr/>
        </p:nvSpPr>
        <p:spPr>
          <a:xfrm>
            <a:off x="250920" y="3141720"/>
            <a:ext cx="2305080" cy="718920"/>
          </a:xfrm>
          <a:prstGeom prst="ellipse">
            <a:avLst/>
          </a:prstGeom>
          <a:solidFill>
            <a:srgbClr val="e7f2de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МЕТА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(ЗАМОВЛЕННЯ</a:t>
            </a:r>
            <a:r>
              <a:rPr b="1" lang="uk-UA" sz="1800" spc="-1" strike="noStrike">
                <a:solidFill>
                  <a:srgbClr val="99cc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3203640" y="3068640"/>
            <a:ext cx="2305080" cy="719280"/>
          </a:xfrm>
          <a:prstGeom prst="ellipse">
            <a:avLst/>
          </a:prstGeom>
          <a:solidFill>
            <a:srgbClr val="e7f2de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ЗМІСТ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3203640" y="1773360"/>
            <a:ext cx="2305080" cy="718920"/>
          </a:xfrm>
          <a:prstGeom prst="ellipse">
            <a:avLst/>
          </a:prstGeom>
          <a:solidFill>
            <a:srgbClr val="e7f2de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ДІЯЛЬНІСТЬ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ПЕДАГОГА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3132000" y="4653000"/>
            <a:ext cx="2305080" cy="719280"/>
          </a:xfrm>
          <a:prstGeom prst="ellipse">
            <a:avLst/>
          </a:prstGeom>
          <a:solidFill>
            <a:srgbClr val="e7f2de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ДІЯЛЬНІСТЬ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ДИТИНИ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0" name="Oval 22"/>
          <p:cNvSpPr/>
          <p:nvPr/>
        </p:nvSpPr>
        <p:spPr>
          <a:xfrm>
            <a:off x="6156360" y="3068640"/>
            <a:ext cx="2305080" cy="719280"/>
          </a:xfrm>
          <a:prstGeom prst="ellipse">
            <a:avLst/>
          </a:prstGeom>
          <a:solidFill>
            <a:srgbClr val="e7f2de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f87d7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2556000" y="3500280"/>
            <a:ext cx="647640" cy="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2556000" y="2205000"/>
            <a:ext cx="647640" cy="122400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 flipH="1" flipV="1">
            <a:off x="2556000" y="3573360"/>
            <a:ext cx="576000" cy="122400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5508720" y="2205000"/>
            <a:ext cx="576000" cy="115272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 flipV="1">
            <a:off x="5364000" y="3429000"/>
            <a:ext cx="792360" cy="144000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508720" y="3429000"/>
            <a:ext cx="647640" cy="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7451640" y="3860640"/>
            <a:ext cx="73080" cy="208944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 flipV="1">
            <a:off x="1332000" y="5950080"/>
            <a:ext cx="6192720" cy="7128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403280" y="3860640"/>
            <a:ext cx="0" cy="2160720"/>
          </a:xfrm>
          <a:prstGeom prst="line">
            <a:avLst/>
          </a:prstGeom>
          <a:ln w="38160">
            <a:solidFill>
              <a:srgbClr val="99cc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4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4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4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1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4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4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4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1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4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1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4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324000" y="0"/>
            <a:ext cx="8820000" cy="990720"/>
          </a:xfrm>
          <a:prstGeom prst="rect">
            <a:avLst/>
          </a:prstGeom>
          <a:noFill/>
          <a:ln w="9360">
            <a:solidFill>
              <a:srgbClr val="a6a6b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99ccff"/>
                </a:solidFill>
                <a:uFillTx/>
                <a:latin typeface="Arial Black"/>
              </a:rPr>
              <a:t>ПРОФЕСІЙНА КОМПЕТЕНТНІСТЬ  ПЕДАГОГА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91" name="Схема 8" descr=""/>
          <p:cNvPicPr/>
          <p:nvPr/>
        </p:nvPicPr>
        <p:blipFill>
          <a:blip r:embed="rId1"/>
          <a:stretch/>
        </p:blipFill>
        <p:spPr>
          <a:xfrm>
            <a:off x="371520" y="1127160"/>
            <a:ext cx="8772480" cy="5475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32"/>
          <p:cNvSpPr/>
          <p:nvPr/>
        </p:nvSpPr>
        <p:spPr>
          <a:xfrm>
            <a:off x="0" y="6400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99ccff"/>
                </a:solidFill>
                <a:latin typeface="Arial"/>
              </a:rPr>
              <a:t>Рябова З.В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34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ідповідь: </a:t>
            </a:r>
            <a:br>
              <a:rPr sz="3200"/>
            </a:b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               професійна діяльність педагога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1052640"/>
            <a:ext cx="8820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це сукупність дій, засобів і заходів, спрямованих на управління процесом навчання для забезпечення якості осві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Содержимое 2"/>
          <p:cNvSpPr/>
          <p:nvPr/>
        </p:nvSpPr>
        <p:spPr>
          <a:xfrm>
            <a:off x="324000" y="3284640"/>
            <a:ext cx="8820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Arial"/>
                <a:ea typeface="Arial"/>
              </a:rPr>
              <a:t>Покрокова діяльність: визначає мету і завдання освітнього процесу в конкретних умовах, програмує розвиток особистості учня, обґрунтовує систему педагогічних засобів, форм, методів, їх етапність, спрямованість на розв'язання конкретних педагогічних завдань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Заголовок 1"/>
          <p:cNvSpPr/>
          <p:nvPr/>
        </p:nvSpPr>
        <p:spPr>
          <a:xfrm>
            <a:off x="0" y="2421000"/>
            <a:ext cx="861048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2. Яким чином педагогічна діяльність забезпечить успішність життєдіяльності особистості…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533520" y="530064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АША ВІДПОВІДЬ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ИТАННЯЧКО 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7f2de"/>
                </a:solidFill>
                <a:latin typeface="Verdana"/>
              </a:rPr>
              <a:t>Життєдіяльність особистості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12952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258920" y="357336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Визначення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потенціалу кожного учня, формування сенсожиттєвих цінностей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7d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0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0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0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1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e592a"/>
                </a:gs>
                <a:gs pos="100000">
                  <a:srgbClr val="86c0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0"/>
                  </a:srgbClr>
                </a:gs>
                <a:gs pos="100000">
                  <a:srgbClr val="d5e9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6a9847"/>
                </a:gs>
                <a:gs pos="100000">
                  <a:srgbClr val="86c05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1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6c05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14" name="Text Box 18"/>
          <p:cNvSpPr/>
          <p:nvPr/>
        </p:nvSpPr>
        <p:spPr>
          <a:xfrm>
            <a:off x="3635280" y="1989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Успішність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572080" y="3429000"/>
            <a:ext cx="2276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ВИЗНАЧЕННЯ,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ФОРМУВАННЯ,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ЗАДОВОЛЕННЯ ОСВІТНІХ 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ПОТРЕБ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ітаймося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11280" y="1092240"/>
            <a:ext cx="6121440" cy="1152360"/>
          </a:xfrm>
          <a:prstGeom prst="roundRect">
            <a:avLst>
              <a:gd name="adj" fmla="val 16667"/>
            </a:avLst>
          </a:prstGeom>
          <a:solidFill>
            <a:srgbClr val="86c05a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 Black"/>
              </a:rPr>
              <a:t>ВАШ НАСТРІЙ?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ccff"/>
                </a:solidFill>
                <a:latin typeface="Arial Black"/>
              </a:rPr>
              <a:t>(ДОБРИЙ, ПОГАНИЙ, ТАК СОБІ)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2195640" y="3224160"/>
            <a:ext cx="6121440" cy="1152720"/>
          </a:xfrm>
          <a:prstGeom prst="roundRect">
            <a:avLst>
              <a:gd name="adj" fmla="val 16667"/>
            </a:avLst>
          </a:prstGeom>
          <a:solidFill>
            <a:srgbClr val="86c05a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 Black"/>
              </a:rPr>
              <a:t>Чи готові Ви до співпраці?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ccff"/>
                </a:solidFill>
                <a:latin typeface="Arial Black"/>
              </a:rPr>
              <a:t>(ТАК, НІ, МОЖЛИВО)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2987640" y="5356080"/>
            <a:ext cx="6121440" cy="1150920"/>
          </a:xfrm>
          <a:prstGeom prst="roundRect">
            <a:avLst>
              <a:gd name="adj" fmla="val 16667"/>
            </a:avLst>
          </a:prstGeom>
          <a:solidFill>
            <a:srgbClr val="86c05a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 Black"/>
              </a:rPr>
              <a:t>Яка мета Вашої участі?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ccff"/>
                </a:solidFill>
                <a:latin typeface="Arial Black"/>
              </a:rPr>
              <a:t>(презентуйте)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7f2de"/>
                </a:solidFill>
                <a:latin typeface="Verdana"/>
              </a:rPr>
              <a:t>Забезпечується успішність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7120" y="1356840"/>
            <a:ext cx="850104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створення такої системи управління освітнім процесом, що забезпечить розвиток особистості кожного учн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42960" y="4076640"/>
            <a:ext cx="85010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Це передбачає </a:t>
            </a: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сформованість на високому рівні професійної компетентності педагога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1"/>
          <p:cNvSpPr/>
          <p:nvPr/>
        </p:nvSpPr>
        <p:spPr>
          <a:xfrm>
            <a:off x="533520" y="328464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3. Як пов'язані поняття успішність особистості, якість, проектний менеджмент…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ИТАННЯЧКО 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оняття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222" name="Group 27"/>
          <p:cNvGrpSpPr/>
          <p:nvPr/>
        </p:nvGrpSpPr>
        <p:grpSpPr>
          <a:xfrm>
            <a:off x="2666880" y="1981080"/>
            <a:ext cx="4496040" cy="701640"/>
            <a:chOff x="2666880" y="1981080"/>
            <a:chExt cx="4496040" cy="701640"/>
          </a:xfrm>
        </p:grpSpPr>
        <p:sp>
          <p:nvSpPr>
            <p:cNvPr id="223" name="Freeform 4"/>
            <p:cNvSpPr/>
            <p:nvPr/>
          </p:nvSpPr>
          <p:spPr>
            <a:xfrm>
              <a:off x="2666880" y="1981080"/>
              <a:ext cx="4496040" cy="701640"/>
            </a:xfrm>
            <a:custGeom>
              <a:avLst/>
              <a:gdLst>
                <a:gd name="textAreaLeft" fmla="*/ 0 w 4496040"/>
                <a:gd name="textAreaRight" fmla="*/ 4496400 w 4496040"/>
                <a:gd name="textAreaTop" fmla="*/ 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3787560" y="213372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якість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25" name="Group 28"/>
          <p:cNvGrpSpPr/>
          <p:nvPr/>
        </p:nvGrpSpPr>
        <p:grpSpPr>
          <a:xfrm>
            <a:off x="2666880" y="2819520"/>
            <a:ext cx="4496040" cy="701640"/>
            <a:chOff x="2666880" y="2819520"/>
            <a:chExt cx="4496040" cy="701640"/>
          </a:xfrm>
        </p:grpSpPr>
        <p:sp>
          <p:nvSpPr>
            <p:cNvPr id="226" name="Freeform 13"/>
            <p:cNvSpPr/>
            <p:nvPr/>
          </p:nvSpPr>
          <p:spPr>
            <a:xfrm>
              <a:off x="2666880" y="2819520"/>
              <a:ext cx="4496040" cy="701640"/>
            </a:xfrm>
            <a:custGeom>
              <a:avLst/>
              <a:gdLst>
                <a:gd name="textAreaLeft" fmla="*/ 0 w 4496040"/>
                <a:gd name="textAreaRight" fmla="*/ 4496400 w 4496040"/>
                <a:gd name="textAreaTop" fmla="*/ 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784680" y="2924280"/>
              <a:ext cx="194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успішність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28" name="Group 29"/>
          <p:cNvGrpSpPr/>
          <p:nvPr/>
        </p:nvGrpSpPr>
        <p:grpSpPr>
          <a:xfrm>
            <a:off x="2666880" y="3657600"/>
            <a:ext cx="4496040" cy="701640"/>
            <a:chOff x="2666880" y="3657600"/>
            <a:chExt cx="4496040" cy="701640"/>
          </a:xfrm>
        </p:grpSpPr>
        <p:sp>
          <p:nvSpPr>
            <p:cNvPr id="229" name="Freeform 16"/>
            <p:cNvSpPr/>
            <p:nvPr/>
          </p:nvSpPr>
          <p:spPr>
            <a:xfrm>
              <a:off x="2666880" y="3657600"/>
              <a:ext cx="4496040" cy="701640"/>
            </a:xfrm>
            <a:custGeom>
              <a:avLst/>
              <a:gdLst>
                <a:gd name="textAreaLeft" fmla="*/ 0 w 4496040"/>
                <a:gd name="textAreaRight" fmla="*/ 4496400 w 4496040"/>
                <a:gd name="textAreaTop" fmla="*/ 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3572280" y="3789360"/>
              <a:ext cx="12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проект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31" name="Group 30"/>
          <p:cNvGrpSpPr/>
          <p:nvPr/>
        </p:nvGrpSpPr>
        <p:grpSpPr>
          <a:xfrm>
            <a:off x="1943280" y="4724280"/>
            <a:ext cx="5782680" cy="701640"/>
            <a:chOff x="1943280" y="4724280"/>
            <a:chExt cx="5782680" cy="701640"/>
          </a:xfrm>
        </p:grpSpPr>
        <p:sp>
          <p:nvSpPr>
            <p:cNvPr id="232" name="Freeform 19"/>
            <p:cNvSpPr/>
            <p:nvPr/>
          </p:nvSpPr>
          <p:spPr>
            <a:xfrm>
              <a:off x="1943280" y="4724280"/>
              <a:ext cx="5782680" cy="701640"/>
            </a:xfrm>
            <a:custGeom>
              <a:avLst/>
              <a:gdLst>
                <a:gd name="textAreaLeft" fmla="*/ 0 w 5782680"/>
                <a:gd name="textAreaRight" fmla="*/ 5783040 w 5782680"/>
                <a:gd name="textAreaTop" fmla="*/ 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58c5d0"/>
                </a:gs>
                <a:gs pos="100000">
                  <a:srgbClr val="26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2289600" y="4724280"/>
              <a:ext cx="404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Проектний менеджмент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p:transition advTm="10000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8598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ЯКІСТЬ ОСВІТИ СПРИЯТИМЕ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1492200" y="1268280"/>
            <a:ext cx="6324480" cy="1447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546200" y="1413000"/>
            <a:ext cx="121932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37" name="Freeform 5"/>
          <p:cNvGrpSpPr/>
          <p:nvPr/>
        </p:nvGrpSpPr>
        <p:grpSpPr>
          <a:xfrm>
            <a:off x="1663560" y="1809720"/>
            <a:ext cx="603360" cy="585720"/>
            <a:chOff x="1663560" y="1809720"/>
            <a:chExt cx="603360" cy="585720"/>
          </a:xfrm>
        </p:grpSpPr>
        <p:pic>
          <p:nvPicPr>
            <p:cNvPr id="238" name="Freeform 5" descr=""/>
            <p:cNvPicPr/>
            <p:nvPr/>
          </p:nvPicPr>
          <p:blipFill>
            <a:blip r:embed="rId1"/>
            <a:stretch/>
          </p:blipFill>
          <p:spPr>
            <a:xfrm>
              <a:off x="1664640" y="1809720"/>
              <a:ext cx="5972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663560" y="1809720"/>
              <a:ext cx="6033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0" name="Text Box 6"/>
          <p:cNvSpPr/>
          <p:nvPr/>
        </p:nvSpPr>
        <p:spPr>
          <a:xfrm>
            <a:off x="175608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843280" y="1413000"/>
            <a:ext cx="47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Стабільному розвитку і новому якісному прориву в національній системі освіти;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1492200" y="2997360"/>
            <a:ext cx="6324480" cy="14475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1600200" y="3068640"/>
            <a:ext cx="1219320" cy="11844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4" name="Freeform 16"/>
          <p:cNvSpPr/>
          <p:nvPr/>
        </p:nvSpPr>
        <p:spPr>
          <a:xfrm>
            <a:off x="1662120" y="3409920"/>
            <a:ext cx="609480" cy="592200"/>
          </a:xfrm>
          <a:custGeom>
            <a:avLst/>
            <a:gdLst>
              <a:gd name="textAreaLeft" fmla="*/ 0 w 609480"/>
              <a:gd name="textAreaRight" fmla="*/ 609840 w 6094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93d4d4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756080" y="3657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2843280" y="2924280"/>
            <a:ext cx="497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Кардинальні зміни, які спрямовані на підвищення конкурентоспроможності освіти в нових економічних і соціокультурних умов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7" name="AutoShape 19"/>
          <p:cNvSpPr/>
          <p:nvPr/>
        </p:nvSpPr>
        <p:spPr>
          <a:xfrm>
            <a:off x="1438200" y="4653000"/>
            <a:ext cx="6324840" cy="14479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8" name="AutoShape 20"/>
          <p:cNvSpPr/>
          <p:nvPr/>
        </p:nvSpPr>
        <p:spPr>
          <a:xfrm>
            <a:off x="1600200" y="4724280"/>
            <a:ext cx="1219320" cy="11844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9" name="Freeform 21"/>
          <p:cNvSpPr/>
          <p:nvPr/>
        </p:nvSpPr>
        <p:spPr>
          <a:xfrm>
            <a:off x="1662120" y="5029200"/>
            <a:ext cx="609480" cy="592200"/>
          </a:xfrm>
          <a:custGeom>
            <a:avLst/>
            <a:gdLst>
              <a:gd name="textAreaLeft" fmla="*/ 0 w 609480"/>
              <a:gd name="textAreaRight" fmla="*/ 609840 w 6094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6cb92"/>
              </a:gs>
              <a:gs pos="100000">
                <a:srgbClr val="ec941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1756080" y="527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2951280" y="49417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корення інтеграції України у міжнародний освітній простір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0" y="602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99ccff"/>
                </a:solidFill>
                <a:latin typeface="Arial"/>
              </a:rPr>
              <a:t>Національна стратегія розвитку освіти в Україні на період до 2021 року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549360"/>
            <a:ext cx="8892720" cy="4478400"/>
            <a:chOff x="0" y="549360"/>
            <a:chExt cx="8892720" cy="4478400"/>
          </a:xfrm>
        </p:grpSpPr>
        <p:sp>
          <p:nvSpPr>
            <p:cNvPr id="254" name="Oval 3"/>
            <p:cNvSpPr/>
            <p:nvPr/>
          </p:nvSpPr>
          <p:spPr>
            <a:xfrm>
              <a:off x="0" y="981720"/>
              <a:ext cx="1878120" cy="356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ЯКІСТЬ ОСВІТИ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5" name="AutoShape 5"/>
            <p:cNvSpPr/>
            <p:nvPr/>
          </p:nvSpPr>
          <p:spPr>
            <a:xfrm>
              <a:off x="5085720" y="549360"/>
              <a:ext cx="285840" cy="4478400"/>
            </a:xfrm>
            <a:custGeom>
              <a:avLst/>
              <a:gdLst>
                <a:gd name="textAreaLeft" fmla="*/ 83880 w 285840"/>
                <a:gd name="textAreaRight" fmla="*/ 286200 w 285840"/>
                <a:gd name="textAreaTop" fmla="*/ 366480 h 4478400"/>
                <a:gd name="textAreaBottom" fmla="*/ 4111920 h 447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69"/>
                    <a:pt x="0" y="3537"/>
                  </a:cubicBezTo>
                  <a:lnTo>
                    <a:pt x="0" y="18063"/>
                  </a:lnTo>
                  <a:cubicBezTo>
                    <a:pt x="0" y="19832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5226120" y="54936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Якість умов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5371920" y="227484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Якість процесу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5371920" y="406260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Якість результату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9" name="AutoShape 9"/>
            <p:cNvSpPr/>
            <p:nvPr/>
          </p:nvSpPr>
          <p:spPr>
            <a:xfrm>
              <a:off x="8713800" y="549360"/>
              <a:ext cx="178920" cy="4478400"/>
            </a:xfrm>
            <a:custGeom>
              <a:avLst/>
              <a:gdLst>
                <a:gd name="textAreaLeft" fmla="*/ 0 w 178920"/>
                <a:gd name="textAreaRight" fmla="*/ 125640 w 178920"/>
                <a:gd name="textAreaTop" fmla="*/ 186480 h 4478400"/>
                <a:gd name="textAreaBottom" fmla="*/ 4291920 h 447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60" name="Oval 3"/>
            <p:cNvSpPr/>
            <p:nvPr/>
          </p:nvSpPr>
          <p:spPr>
            <a:xfrm>
              <a:off x="2697120" y="981720"/>
              <a:ext cx="1878120" cy="356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СВІТНІ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ТРЕБИ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ПОЖИ-ВАЧІВ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61" name="Rectangle 2"/>
          <p:cNvSpPr/>
          <p:nvPr/>
        </p:nvSpPr>
        <p:spPr>
          <a:xfrm>
            <a:off x="468360" y="6094440"/>
            <a:ext cx="867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Verdana"/>
              </a:rPr>
              <a:t>ФОРМУЛА ЯКОСТІ ОСВІТИ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2" name="Равно 12"/>
          <p:cNvSpPr/>
          <p:nvPr/>
        </p:nvSpPr>
        <p:spPr>
          <a:xfrm>
            <a:off x="1908000" y="2205000"/>
            <a:ext cx="648000" cy="1152720"/>
          </a:xfrm>
          <a:custGeom>
            <a:avLst/>
            <a:gdLst/>
            <a:ahLst/>
            <a:rect l="l" t="t" r="r" b="b"/>
            <a:pathLst>
              <a:path w="647700" h="1152525">
                <a:moveTo>
                  <a:pt x="85853" y="237420"/>
                </a:moveTo>
                <a:lnTo>
                  <a:pt x="561847" y="237420"/>
                </a:lnTo>
                <a:lnTo>
                  <a:pt x="561847" y="508494"/>
                </a:lnTo>
                <a:lnTo>
                  <a:pt x="85853" y="508494"/>
                </a:lnTo>
                <a:lnTo>
                  <a:pt x="85853" y="237420"/>
                </a:lnTo>
                <a:close/>
                <a:moveTo>
                  <a:pt x="85853" y="644031"/>
                </a:moveTo>
                <a:lnTo>
                  <a:pt x="561847" y="644031"/>
                </a:lnTo>
                <a:lnTo>
                  <a:pt x="561847" y="915105"/>
                </a:lnTo>
                <a:lnTo>
                  <a:pt x="85853" y="915105"/>
                </a:lnTo>
                <a:lnTo>
                  <a:pt x="85853" y="644031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3" name="Умножение 13"/>
          <p:cNvSpPr/>
          <p:nvPr/>
        </p:nvSpPr>
        <p:spPr>
          <a:xfrm>
            <a:off x="4500720" y="2276640"/>
            <a:ext cx="698400" cy="914400"/>
          </a:xfrm>
          <a:custGeom>
            <a:avLst/>
            <a:gdLst/>
            <a:ahLst/>
            <a:rect l="l" t="t" r="r" b="b"/>
            <a:pathLst>
              <a:path w="698500" h="914400">
                <a:moveTo>
                  <a:pt x="102485" y="269480"/>
                </a:moveTo>
                <a:lnTo>
                  <a:pt x="233039" y="169752"/>
                </a:lnTo>
                <a:lnTo>
                  <a:pt x="349250" y="321882"/>
                </a:lnTo>
                <a:lnTo>
                  <a:pt x="465461" y="169752"/>
                </a:lnTo>
                <a:lnTo>
                  <a:pt x="596015" y="269480"/>
                </a:lnTo>
                <a:lnTo>
                  <a:pt x="452618" y="457200"/>
                </a:lnTo>
                <a:lnTo>
                  <a:pt x="596015" y="644920"/>
                </a:lnTo>
                <a:lnTo>
                  <a:pt x="465461" y="744648"/>
                </a:lnTo>
                <a:lnTo>
                  <a:pt x="349250" y="592518"/>
                </a:lnTo>
                <a:lnTo>
                  <a:pt x="233039" y="744648"/>
                </a:lnTo>
                <a:lnTo>
                  <a:pt x="102485" y="644920"/>
                </a:lnTo>
                <a:lnTo>
                  <a:pt x="245882" y="457200"/>
                </a:lnTo>
                <a:lnTo>
                  <a:pt x="102485" y="269480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4" name="Плюс 14"/>
          <p:cNvSpPr/>
          <p:nvPr/>
        </p:nvSpPr>
        <p:spPr>
          <a:xfrm>
            <a:off x="6443640" y="1557360"/>
            <a:ext cx="914400" cy="504720"/>
          </a:xfrm>
          <a:custGeom>
            <a:avLst/>
            <a:gdLst/>
            <a:ahLst/>
            <a:rect l="l" t="t" r="r" b="b"/>
            <a:pathLst>
              <a:path w="914400" h="504825">
                <a:moveTo>
                  <a:pt x="121204" y="193045"/>
                </a:moveTo>
                <a:lnTo>
                  <a:pt x="397833" y="193045"/>
                </a:lnTo>
                <a:lnTo>
                  <a:pt x="397833" y="66915"/>
                </a:lnTo>
                <a:lnTo>
                  <a:pt x="516567" y="66915"/>
                </a:lnTo>
                <a:lnTo>
                  <a:pt x="516567" y="193045"/>
                </a:lnTo>
                <a:lnTo>
                  <a:pt x="793196" y="193045"/>
                </a:lnTo>
                <a:lnTo>
                  <a:pt x="793196" y="311780"/>
                </a:lnTo>
                <a:lnTo>
                  <a:pt x="516567" y="311780"/>
                </a:lnTo>
                <a:lnTo>
                  <a:pt x="516567" y="437910"/>
                </a:lnTo>
                <a:lnTo>
                  <a:pt x="397833" y="437910"/>
                </a:lnTo>
                <a:lnTo>
                  <a:pt x="397833" y="311780"/>
                </a:lnTo>
                <a:lnTo>
                  <a:pt x="121204" y="311780"/>
                </a:lnTo>
                <a:lnTo>
                  <a:pt x="121204" y="193045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5" name="Плюс 15"/>
          <p:cNvSpPr/>
          <p:nvPr/>
        </p:nvSpPr>
        <p:spPr>
          <a:xfrm>
            <a:off x="6443640" y="3429000"/>
            <a:ext cx="914400" cy="504720"/>
          </a:xfrm>
          <a:custGeom>
            <a:avLst/>
            <a:gdLst/>
            <a:ahLst/>
            <a:rect l="l" t="t" r="r" b="b"/>
            <a:pathLst>
              <a:path w="914400" h="504825">
                <a:moveTo>
                  <a:pt x="121204" y="193045"/>
                </a:moveTo>
                <a:lnTo>
                  <a:pt x="397833" y="193045"/>
                </a:lnTo>
                <a:lnTo>
                  <a:pt x="397833" y="66915"/>
                </a:lnTo>
                <a:lnTo>
                  <a:pt x="516567" y="66915"/>
                </a:lnTo>
                <a:lnTo>
                  <a:pt x="516567" y="193045"/>
                </a:lnTo>
                <a:lnTo>
                  <a:pt x="793196" y="193045"/>
                </a:lnTo>
                <a:lnTo>
                  <a:pt x="793196" y="311780"/>
                </a:lnTo>
                <a:lnTo>
                  <a:pt x="516567" y="311780"/>
                </a:lnTo>
                <a:lnTo>
                  <a:pt x="516567" y="437910"/>
                </a:lnTo>
                <a:lnTo>
                  <a:pt x="397833" y="437910"/>
                </a:lnTo>
                <a:lnTo>
                  <a:pt x="397833" y="311780"/>
                </a:lnTo>
                <a:lnTo>
                  <a:pt x="121204" y="311780"/>
                </a:lnTo>
                <a:lnTo>
                  <a:pt x="121204" y="193045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266" name="Прямоугольник 18" descr=""/>
          <p:cNvPicPr/>
          <p:nvPr/>
        </p:nvPicPr>
        <p:blipFill>
          <a:blip r:embed="rId1"/>
          <a:stretch/>
        </p:blipFill>
        <p:spPr>
          <a:xfrm>
            <a:off x="-255600" y="3425760"/>
            <a:ext cx="3809880" cy="275580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19" descr=""/>
          <p:cNvPicPr/>
          <p:nvPr/>
        </p:nvPicPr>
        <p:blipFill>
          <a:blip r:embed="rId2"/>
          <a:stretch/>
        </p:blipFill>
        <p:spPr>
          <a:xfrm>
            <a:off x="2335320" y="3498840"/>
            <a:ext cx="4041720" cy="288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272360" cy="38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Забезпечення якості освіти (надання освітніх послуг)</a:t>
            </a:r>
            <a:br>
              <a:rPr sz="3200"/>
            </a:b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є певним проектом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Oval 54"/>
          <p:cNvSpPr/>
          <p:nvPr/>
        </p:nvSpPr>
        <p:spPr>
          <a:xfrm>
            <a:off x="4716360" y="1268280"/>
            <a:ext cx="4114800" cy="4343400"/>
          </a:xfrm>
          <a:prstGeom prst="ellipse">
            <a:avLst/>
          </a:prstGeom>
          <a:solidFill>
            <a:srgbClr val="bbb3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c000"/>
                </a:solidFill>
                <a:uFillTx/>
                <a:latin typeface="Arial"/>
              </a:rPr>
              <a:t>ПРОЕКТИ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0" name="Oval 3"/>
          <p:cNvSpPr/>
          <p:nvPr/>
        </p:nvSpPr>
        <p:spPr>
          <a:xfrm>
            <a:off x="324000" y="1268280"/>
            <a:ext cx="4114800" cy="4343400"/>
          </a:xfrm>
          <a:prstGeom prst="ellipse">
            <a:avLst/>
          </a:prstGeom>
          <a:solidFill>
            <a:srgbClr val="8bc2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Arial"/>
              </a:rPr>
              <a:t>ПРОЦЕСИ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Arial"/>
              </a:rPr>
              <a:t>(ОПЕРАЦІЇ)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71" name="Group 19"/>
          <p:cNvGrpSpPr/>
          <p:nvPr/>
        </p:nvGrpSpPr>
        <p:grpSpPr>
          <a:xfrm>
            <a:off x="4427640" y="2349360"/>
            <a:ext cx="380880" cy="381240"/>
            <a:chOff x="4427640" y="2349360"/>
            <a:chExt cx="380880" cy="381240"/>
          </a:xfrm>
        </p:grpSpPr>
        <p:sp>
          <p:nvSpPr>
            <p:cNvPr id="272" name="Oval 20"/>
            <p:cNvSpPr/>
            <p:nvPr/>
          </p:nvSpPr>
          <p:spPr>
            <a:xfrm>
              <a:off x="4427640" y="23493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3" name="Oval 21"/>
            <p:cNvSpPr/>
            <p:nvPr/>
          </p:nvSpPr>
          <p:spPr>
            <a:xfrm>
              <a:off x="4449240" y="237060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>
              <a:off x="4468680" y="239040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>
              <a:off x="4469040" y="239076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>
              <a:off x="4487760" y="240984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7" name="Oval 25"/>
            <p:cNvSpPr/>
            <p:nvPr/>
          </p:nvSpPr>
          <p:spPr>
            <a:xfrm>
              <a:off x="4488480" y="241020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78" name="Group 26"/>
          <p:cNvGrpSpPr/>
          <p:nvPr/>
        </p:nvGrpSpPr>
        <p:grpSpPr>
          <a:xfrm>
            <a:off x="4427640" y="2852640"/>
            <a:ext cx="380880" cy="381240"/>
            <a:chOff x="4427640" y="2852640"/>
            <a:chExt cx="380880" cy="381240"/>
          </a:xfrm>
        </p:grpSpPr>
        <p:sp>
          <p:nvSpPr>
            <p:cNvPr id="279" name="Oval 27"/>
            <p:cNvSpPr/>
            <p:nvPr/>
          </p:nvSpPr>
          <p:spPr>
            <a:xfrm>
              <a:off x="4427640" y="2852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0" name="Oval 28"/>
            <p:cNvSpPr/>
            <p:nvPr/>
          </p:nvSpPr>
          <p:spPr>
            <a:xfrm>
              <a:off x="4449240" y="287388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1" name="Oval 29"/>
            <p:cNvSpPr/>
            <p:nvPr/>
          </p:nvSpPr>
          <p:spPr>
            <a:xfrm>
              <a:off x="4468680" y="289368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2" name="Oval 30"/>
            <p:cNvSpPr/>
            <p:nvPr/>
          </p:nvSpPr>
          <p:spPr>
            <a:xfrm>
              <a:off x="4469040" y="28940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3" name="Oval 31"/>
            <p:cNvSpPr/>
            <p:nvPr/>
          </p:nvSpPr>
          <p:spPr>
            <a:xfrm>
              <a:off x="4487760" y="291312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4" name="Oval 32"/>
            <p:cNvSpPr/>
            <p:nvPr/>
          </p:nvSpPr>
          <p:spPr>
            <a:xfrm>
              <a:off x="4488480" y="29134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5" name="Group 33"/>
          <p:cNvGrpSpPr/>
          <p:nvPr/>
        </p:nvGrpSpPr>
        <p:grpSpPr>
          <a:xfrm>
            <a:off x="4427640" y="3429000"/>
            <a:ext cx="380880" cy="380880"/>
            <a:chOff x="4427640" y="3429000"/>
            <a:chExt cx="380880" cy="380880"/>
          </a:xfrm>
        </p:grpSpPr>
        <p:sp>
          <p:nvSpPr>
            <p:cNvPr id="286" name="Oval 34"/>
            <p:cNvSpPr/>
            <p:nvPr/>
          </p:nvSpPr>
          <p:spPr>
            <a:xfrm>
              <a:off x="4427640" y="3429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7" name="Oval 35"/>
            <p:cNvSpPr/>
            <p:nvPr/>
          </p:nvSpPr>
          <p:spPr>
            <a:xfrm>
              <a:off x="4449240" y="34502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8" name="Oval 36"/>
            <p:cNvSpPr/>
            <p:nvPr/>
          </p:nvSpPr>
          <p:spPr>
            <a:xfrm>
              <a:off x="4468680" y="34700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9" name="Oval 37"/>
            <p:cNvSpPr/>
            <p:nvPr/>
          </p:nvSpPr>
          <p:spPr>
            <a:xfrm>
              <a:off x="4469040" y="3470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0" name="Oval 38"/>
            <p:cNvSpPr/>
            <p:nvPr/>
          </p:nvSpPr>
          <p:spPr>
            <a:xfrm>
              <a:off x="4487760" y="34891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1" name="Oval 39"/>
            <p:cNvSpPr/>
            <p:nvPr/>
          </p:nvSpPr>
          <p:spPr>
            <a:xfrm>
              <a:off x="4488480" y="34898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92" name="Group 40"/>
          <p:cNvGrpSpPr/>
          <p:nvPr/>
        </p:nvGrpSpPr>
        <p:grpSpPr>
          <a:xfrm>
            <a:off x="4427640" y="3933720"/>
            <a:ext cx="380880" cy="381240"/>
            <a:chOff x="4427640" y="3933720"/>
            <a:chExt cx="380880" cy="381240"/>
          </a:xfrm>
        </p:grpSpPr>
        <p:sp>
          <p:nvSpPr>
            <p:cNvPr id="293" name="Oval 41"/>
            <p:cNvSpPr/>
            <p:nvPr/>
          </p:nvSpPr>
          <p:spPr>
            <a:xfrm>
              <a:off x="4427640" y="393372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4" name="Oval 42"/>
            <p:cNvSpPr/>
            <p:nvPr/>
          </p:nvSpPr>
          <p:spPr>
            <a:xfrm>
              <a:off x="4449240" y="395496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5" name="Oval 43"/>
            <p:cNvSpPr/>
            <p:nvPr/>
          </p:nvSpPr>
          <p:spPr>
            <a:xfrm>
              <a:off x="4468680" y="397476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6" name="Oval 44"/>
            <p:cNvSpPr/>
            <p:nvPr/>
          </p:nvSpPr>
          <p:spPr>
            <a:xfrm>
              <a:off x="4469040" y="39751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7" name="Oval 45"/>
            <p:cNvSpPr/>
            <p:nvPr/>
          </p:nvSpPr>
          <p:spPr>
            <a:xfrm>
              <a:off x="4487760" y="399420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8" name="Oval 46"/>
            <p:cNvSpPr/>
            <p:nvPr/>
          </p:nvSpPr>
          <p:spPr>
            <a:xfrm>
              <a:off x="4488480" y="39945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99" name="Group 47"/>
          <p:cNvGrpSpPr/>
          <p:nvPr/>
        </p:nvGrpSpPr>
        <p:grpSpPr>
          <a:xfrm>
            <a:off x="4427640" y="4437000"/>
            <a:ext cx="380880" cy="381240"/>
            <a:chOff x="4427640" y="4437000"/>
            <a:chExt cx="380880" cy="381240"/>
          </a:xfrm>
        </p:grpSpPr>
        <p:sp>
          <p:nvSpPr>
            <p:cNvPr id="300" name="Oval 48"/>
            <p:cNvSpPr/>
            <p:nvPr/>
          </p:nvSpPr>
          <p:spPr>
            <a:xfrm>
              <a:off x="4427640" y="44370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1" name="Oval 49"/>
            <p:cNvSpPr/>
            <p:nvPr/>
          </p:nvSpPr>
          <p:spPr>
            <a:xfrm>
              <a:off x="4449240" y="44582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2" name="Oval 50"/>
            <p:cNvSpPr/>
            <p:nvPr/>
          </p:nvSpPr>
          <p:spPr>
            <a:xfrm>
              <a:off x="4468680" y="44780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3" name="Oval 51"/>
            <p:cNvSpPr/>
            <p:nvPr/>
          </p:nvSpPr>
          <p:spPr>
            <a:xfrm>
              <a:off x="4469040" y="44784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4" name="Oval 52"/>
            <p:cNvSpPr/>
            <p:nvPr/>
          </p:nvSpPr>
          <p:spPr>
            <a:xfrm>
              <a:off x="4487760" y="44974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5" name="Oval 53"/>
            <p:cNvSpPr/>
            <p:nvPr/>
          </p:nvSpPr>
          <p:spPr>
            <a:xfrm>
              <a:off x="4488480" y="44978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Зазвичай ЗДІЙСНЮЄТЬСЯ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971640" y="6021360"/>
            <a:ext cx="65530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Два види діяльності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160" y="691920"/>
            <a:ext cx="830556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цеси носять повторюваний, циклічний характер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проекти спрямовані на досягнення унікальних цілей у визначені термі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98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ОСНОВНА ВІДМІННІСТЬ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7631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Будь-яка діяльність, яка планується і здійснюються на проектній основі, називається </a:t>
            </a:r>
            <a:r>
              <a:rPr b="0" i="1" lang="uk-UA" sz="3200" spc="-1" strike="noStrike" u="sng">
                <a:solidFill>
                  <a:srgbClr val="99ccff"/>
                </a:solidFill>
                <a:uFillTx/>
                <a:latin typeface="Verdana"/>
              </a:rPr>
              <a:t>проектно-орієнтованою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11" name="Заголовок 1"/>
          <p:cNvSpPr/>
          <p:nvPr/>
        </p:nvSpPr>
        <p:spPr>
          <a:xfrm>
            <a:off x="5219640" y="0"/>
            <a:ext cx="3924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Визначення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2" name="Заголовок 6"/>
          <p:cNvSpPr/>
          <p:nvPr/>
        </p:nvSpPr>
        <p:spPr>
          <a:xfrm>
            <a:off x="28440" y="3357720"/>
            <a:ext cx="91155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Особливостями такої діяльності є те, що цілі, завдання, структура, стратегія та інші фактори формуються на основі цілей і завдань </a:t>
            </a:r>
            <a:r>
              <a:rPr b="0" i="1" lang="uk-UA" sz="3200" spc="-1" strike="noStrike" u="sng">
                <a:solidFill>
                  <a:srgbClr val="99ccff"/>
                </a:solidFill>
                <a:uFillTx/>
                <a:latin typeface="Arial"/>
              </a:rPr>
              <a:t>ПРОЕКТУ</a:t>
            </a: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а також створення проектного середовища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2560" y="120600"/>
            <a:ext cx="7763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ccff"/>
                </a:solidFill>
                <a:latin typeface="Verdana"/>
              </a:rPr>
              <a:t>Сутність поняття «ПРОЕКТ»</a:t>
            </a:r>
            <a:endParaRPr b="0" lang="en-US" sz="4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715000" y="3357720"/>
            <a:ext cx="205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е тимчасові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ії, які виконуються для створення унікального продукту або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слуги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238400" y="3357720"/>
            <a:ext cx="2038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мплекс завдань, які виконуються для досягнення унікальної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ети в задані терміни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8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aeae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1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6c05a"/>
              </a:gs>
              <a:gs pos="100000">
                <a:srgbClr val="d9eb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22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323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324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325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326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e592a"/>
                </a:gs>
                <a:gs pos="100000">
                  <a:srgbClr val="86c0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27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0"/>
                  </a:srgbClr>
                </a:gs>
                <a:gs pos="100000">
                  <a:srgbClr val="d5e9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28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6a9847"/>
                </a:gs>
                <a:gs pos="100000">
                  <a:srgbClr val="86c05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29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6c05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30" name="Text Box 19"/>
          <p:cNvSpPr/>
          <p:nvPr/>
        </p:nvSpPr>
        <p:spPr>
          <a:xfrm>
            <a:off x="3348000" y="1773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роект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резентація навчальної дисципліни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 u="sng">
                <a:solidFill>
                  <a:srgbClr val="ffffff"/>
                </a:solidFill>
                <a:uFillTx/>
                <a:latin typeface="Verdana"/>
              </a:rPr>
              <a:t>Провідна мета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сформувати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здатність</a:t>
            </a: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 розв’язувати складні завдання і поточні проблеми, що виникають під час професійної діяльності або у процесі навчання шляхом ефективного використання технологій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проектного менеджмент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split dir="in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6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7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9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0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1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42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3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4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45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6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7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8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50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51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2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53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54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5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56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7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4747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8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3733920" y="2870280"/>
            <a:ext cx="1690560" cy="1690560"/>
            <a:chOff x="3733920" y="2870280"/>
            <a:chExt cx="1690560" cy="1690560"/>
          </a:xfrm>
        </p:grpSpPr>
        <p:sp>
          <p:nvSpPr>
            <p:cNvPr id="360" name="Oval 31"/>
            <p:cNvSpPr/>
            <p:nvPr/>
          </p:nvSpPr>
          <p:spPr>
            <a:xfrm>
              <a:off x="3733920" y="2870280"/>
              <a:ext cx="1690560" cy="169056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1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2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3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4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5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66" name="Text Box 37"/>
          <p:cNvSpPr/>
          <p:nvPr/>
        </p:nvSpPr>
        <p:spPr>
          <a:xfrm>
            <a:off x="4080240" y="32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Успіх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5792400" y="1628640"/>
            <a:ext cx="29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проект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виконується вчасно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206280" y="164160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результат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співпадає з метою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6515280" y="324972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проект «вписується»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у бюджет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55440" y="3086280"/>
            <a:ext cx="261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відсутність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перевитрат (ресурси)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1" name="Text Box 43"/>
          <p:cNvSpPr/>
          <p:nvPr/>
        </p:nvSpPr>
        <p:spPr>
          <a:xfrm>
            <a:off x="203040" y="5094360"/>
            <a:ext cx="311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задоволення замовника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(якість)</a:t>
            </a:r>
            <a:r>
              <a:rPr b="0" lang="uk-UA" sz="1600" spc="-1" strike="noStrike">
                <a:solidFill>
                  <a:srgbClr val="99cc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00080" y="109080"/>
            <a:ext cx="7128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оказники успішного проекту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73" name="Text Box 41"/>
          <p:cNvSpPr/>
          <p:nvPr/>
        </p:nvSpPr>
        <p:spPr>
          <a:xfrm>
            <a:off x="3655440" y="5504040"/>
            <a:ext cx="43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досягнення мети проекту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ff"/>
                </a:solidFill>
                <a:latin typeface="Arial"/>
                <a:ea typeface="Arial"/>
              </a:rPr>
              <a:t>(виконання в повному обсязі)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3920" y="147600"/>
            <a:ext cx="823932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Основа проектно-орієнтованої діяльності це виконання проектів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960" y="2205000"/>
            <a:ext cx="83055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сновні статті витрат — витрати на підвищення кваліфікації та інформаці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314280" y="3597120"/>
            <a:ext cx="77202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  <a:ea typeface="Arial"/>
              </a:rPr>
              <a:t>Продукт ПО діяльності є результат : програма, дослідний зразок, звіт або стаття про результати дослідження, рекламна кампанія тощо.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 основі ПО діяльності покладено певний механізм: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78" name="Заголовок 1"/>
          <p:cNvSpPr/>
          <p:nvPr/>
        </p:nvSpPr>
        <p:spPr>
          <a:xfrm>
            <a:off x="0" y="1484280"/>
            <a:ext cx="8891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аналіз (інформація за результатами маркетингових досліджень),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ланування (стратегічне, оперативне)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організація виконання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мотивація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контроль за проведеними заходами й отриманим прибутком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егулювання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інформаційне забезпечення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272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ДОСЯГНЕННЯ ПОСТАВЛЕНОЇ МЕТИ У ВИЗНАЧЕНІ ТЕРМІНИ ТА ЗА РАХУНОК ОБМЕЖЕНИХ РЕСУРСІВ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0" name="Заголовок 1"/>
          <p:cNvSpPr/>
          <p:nvPr/>
        </p:nvSpPr>
        <p:spPr>
          <a:xfrm>
            <a:off x="27000" y="0"/>
            <a:ext cx="727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  <a:ea typeface="Arial"/>
              </a:rPr>
              <a:t>Особливість…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272360" cy="383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За оцінками, що наведені в джерелах, проектна система організації діяльності дає до 20% приросту вартості бізнесу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23480"/>
            <a:ext cx="8893080" cy="12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Унікальність діяльності з використанням технології проектного менеджменту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Процес: можна один раз вивчити виконання операцій і поті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щоразу їх повторювати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Проект: Ваші дії будуть щоразу іншим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41" descr="B_B"/>
          <p:cNvPicPr/>
          <p:nvPr/>
        </p:nvPicPr>
        <p:blipFill>
          <a:blip r:embed="rId1"/>
          <a:stretch/>
        </p:blipFill>
        <p:spPr>
          <a:xfrm>
            <a:off x="7620120" y="5715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роектний менеджмент за РМІ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560" y="1026720"/>
            <a:ext cx="8893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25000"/>
              </a:lnSpc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це привнесення додатков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до робіт проекту знань, навичок і засобів для задоволення аб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перевищення потреб і бажань зацікавлених осіб (замовника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проекту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2411280" y="5742000"/>
            <a:ext cx="4824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  <a:ea typeface="Arial"/>
              </a:rPr>
              <a:t>ІННОВАЦІЙНІСТЬ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108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Project Management Institute PMI®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9" name="Заголовок 1"/>
          <p:cNvSpPr/>
          <p:nvPr/>
        </p:nvSpPr>
        <p:spPr>
          <a:xfrm>
            <a:off x="179280" y="2013120"/>
            <a:ext cx="861084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  <a:ea typeface="Arial"/>
              </a:rPr>
              <a:t>Провідна міжнародна організація, яка об'єднує професіоналів в області управління проектами, метою якої є активне зростання професіоналізму в сфері проектного менеджменту у всьому світі.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0" name="Заголовок 1"/>
          <p:cNvSpPr/>
          <p:nvPr/>
        </p:nvSpPr>
        <p:spPr>
          <a:xfrm>
            <a:off x="1495440" y="5937120"/>
            <a:ext cx="727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Arial"/>
              </a:rPr>
              <a:t>http://pmi.org.ua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89308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СУТНІСТЬ……….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393" name="Group 2"/>
          <p:cNvGrpSpPr/>
          <p:nvPr/>
        </p:nvGrpSpPr>
        <p:grpSpPr>
          <a:xfrm>
            <a:off x="0" y="1028880"/>
            <a:ext cx="9144000" cy="5829120"/>
            <a:chOff x="0" y="1028880"/>
            <a:chExt cx="9144000" cy="5829120"/>
          </a:xfrm>
        </p:grpSpPr>
        <p:sp>
          <p:nvSpPr>
            <p:cNvPr id="394" name="AutoShape 3"/>
            <p:cNvSpPr/>
            <p:nvPr/>
          </p:nvSpPr>
          <p:spPr>
            <a:xfrm>
              <a:off x="2562120" y="3154320"/>
              <a:ext cx="4113360" cy="427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Визначення</a:t>
              </a:r>
              <a:r>
                <a:rPr b="0" lang="uk-UA" sz="1100" spc="-1" strike="noStrike">
                  <a:solidFill>
                    <a:srgbClr val="99ccff"/>
                  </a:solidFill>
                  <a:latin typeface="Calibri"/>
                </a:rPr>
                <a:t>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мети</a:t>
              </a:r>
              <a:r>
                <a:rPr b="0" lang="uk-UA" sz="1100" spc="-1" strike="noStrike">
                  <a:solidFill>
                    <a:srgbClr val="99ccff"/>
                  </a:solidFill>
                  <a:latin typeface="Calibri"/>
                </a:rPr>
                <a:t> (</a:t>
              </a:r>
              <a:r>
                <a:rPr b="0" lang="ru-RU" sz="1600" spc="-1" strike="noStrike">
                  <a:solidFill>
                    <a:srgbClr val="08111b"/>
                  </a:solidFill>
                  <a:latin typeface="Calibri"/>
                </a:rPr>
                <a:t>SMART</a:t>
              </a:r>
              <a:r>
                <a:rPr b="0" lang="uk-UA" sz="1100" spc="-1" strike="noStrike">
                  <a:solidFill>
                    <a:srgbClr val="99ccff"/>
                  </a:solidFill>
                  <a:latin typeface="Calibri"/>
                </a:rPr>
                <a:t>)</a:t>
              </a:r>
              <a:endParaRPr b="0" lang="en-US" sz="11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5" name="AutoShape 4"/>
            <p:cNvSpPr/>
            <p:nvPr/>
          </p:nvSpPr>
          <p:spPr>
            <a:xfrm>
              <a:off x="0" y="1028880"/>
              <a:ext cx="9144000" cy="1179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 u="sng">
                  <a:solidFill>
                    <a:srgbClr val="08111b"/>
                  </a:solidFill>
                  <a:uFillTx/>
                  <a:latin typeface="Calibri"/>
                </a:rPr>
                <a:t>Маркетингові дослідження</a:t>
              </a:r>
              <a:r>
                <a:rPr b="1" lang="uk-UA" sz="1800" spc="-1" strike="noStrike">
                  <a:solidFill>
                    <a:srgbClr val="08111b"/>
                  </a:solidFill>
                  <a:latin typeface="Calibri"/>
                </a:rPr>
                <a:t>: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Проведення аналізу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6" name="AutoShape 5"/>
            <p:cNvSpPr/>
            <p:nvPr/>
          </p:nvSpPr>
          <p:spPr>
            <a:xfrm>
              <a:off x="2499840" y="2500200"/>
              <a:ext cx="4114080" cy="40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Формулювання</a:t>
              </a:r>
              <a:r>
                <a:rPr b="0" lang="uk-UA" sz="1100" spc="-1" strike="noStrike">
                  <a:solidFill>
                    <a:srgbClr val="99ccff"/>
                  </a:solidFill>
                  <a:latin typeface="Calibri"/>
                </a:rPr>
                <a:t>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місії</a:t>
              </a:r>
              <a:r>
                <a:rPr b="0" lang="uk-UA" sz="1100" spc="-1" strike="noStrike">
                  <a:solidFill>
                    <a:srgbClr val="99ccff"/>
                  </a:solidFill>
                  <a:latin typeface="Calibri"/>
                </a:rPr>
                <a:t>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діяльност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7" name="AutoShape 6"/>
            <p:cNvSpPr/>
            <p:nvPr/>
          </p:nvSpPr>
          <p:spPr>
            <a:xfrm>
              <a:off x="0" y="1514520"/>
              <a:ext cx="4114080" cy="71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внутрішнього середовища (ресурсів)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(</a:t>
              </a:r>
              <a:r>
                <a:rPr b="0" lang="ru-RU" sz="1600" spc="-1" strike="noStrike">
                  <a:solidFill>
                    <a:srgbClr val="08111b"/>
                  </a:solidFill>
                  <a:latin typeface="Calibri"/>
                </a:rPr>
                <a:t>SWOT -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аналіз)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8" name="AutoShape 7"/>
            <p:cNvSpPr/>
            <p:nvPr/>
          </p:nvSpPr>
          <p:spPr>
            <a:xfrm>
              <a:off x="5029200" y="1499760"/>
              <a:ext cx="4114440" cy="71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зовнішнього середовища (можливості та загрози) (PEST-аналіз)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9" name="AutoShape 8"/>
            <p:cNvSpPr/>
            <p:nvPr/>
          </p:nvSpPr>
          <p:spPr>
            <a:xfrm>
              <a:off x="2562120" y="3819240"/>
              <a:ext cx="4113360" cy="40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Розробка стратегії діяльност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0" name="AutoShape 9"/>
            <p:cNvSpPr/>
            <p:nvPr/>
          </p:nvSpPr>
          <p:spPr>
            <a:xfrm>
              <a:off x="2562120" y="4466880"/>
              <a:ext cx="4113360" cy="40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Побудова певної структури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01" name="AutoShape 10"/>
            <p:cNvSpPr/>
            <p:nvPr/>
          </p:nvSpPr>
          <p:spPr>
            <a:xfrm>
              <a:off x="276480" y="5876640"/>
              <a:ext cx="8867160" cy="98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 u="sng">
                  <a:solidFill>
                    <a:srgbClr val="08111b"/>
                  </a:solidFill>
                  <a:uFillTx/>
                  <a:latin typeface="Calibri"/>
                </a:rPr>
                <a:t>Моніторингові дослідження :</a:t>
              </a:r>
              <a:r>
                <a:rPr b="1" lang="uk-UA" sz="1800" spc="-1" strike="noStrike">
                  <a:solidFill>
                    <a:srgbClr val="08111b"/>
                  </a:solidFill>
                  <a:latin typeface="Calibri"/>
                </a:rPr>
                <a:t> </a:t>
              </a: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Конструювання системи моніторингу , 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для підтримки ефективності стратегії, якості діяльності, ступеня задоволеності  тощо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cxnSp>
          <p:nvCxnSpPr>
            <p:cNvPr id="402" name="AutoShape 11"/>
            <p:cNvCxnSpPr/>
            <p:nvPr/>
          </p:nvCxnSpPr>
          <p:spPr>
            <a:xfrm>
              <a:off x="3109680" y="222732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3" name="AutoShape 12"/>
            <p:cNvCxnSpPr/>
            <p:nvPr/>
          </p:nvCxnSpPr>
          <p:spPr>
            <a:xfrm>
              <a:off x="6100920" y="222732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4" name="AutoShape 13"/>
            <p:cNvCxnSpPr/>
            <p:nvPr/>
          </p:nvCxnSpPr>
          <p:spPr>
            <a:xfrm>
              <a:off x="3109680" y="287604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5" name="AutoShape 14"/>
            <p:cNvCxnSpPr/>
            <p:nvPr/>
          </p:nvCxnSpPr>
          <p:spPr>
            <a:xfrm>
              <a:off x="3109680" y="357264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AutoShape 15"/>
            <p:cNvCxnSpPr/>
            <p:nvPr/>
          </p:nvCxnSpPr>
          <p:spPr>
            <a:xfrm>
              <a:off x="3109680" y="420768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7" name="AutoShape 16"/>
            <p:cNvCxnSpPr/>
            <p:nvPr/>
          </p:nvCxnSpPr>
          <p:spPr>
            <a:xfrm>
              <a:off x="3109680" y="486864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8" name="AutoShape 17"/>
            <p:cNvCxnSpPr/>
            <p:nvPr/>
          </p:nvCxnSpPr>
          <p:spPr>
            <a:xfrm>
              <a:off x="6100920" y="487872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AutoShape 18"/>
            <p:cNvCxnSpPr/>
            <p:nvPr/>
          </p:nvCxnSpPr>
          <p:spPr>
            <a:xfrm>
              <a:off x="6102000" y="290808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AutoShape 19"/>
            <p:cNvCxnSpPr/>
            <p:nvPr/>
          </p:nvCxnSpPr>
          <p:spPr>
            <a:xfrm>
              <a:off x="6102000" y="357264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AutoShape 20"/>
            <p:cNvCxnSpPr/>
            <p:nvPr/>
          </p:nvCxnSpPr>
          <p:spPr>
            <a:xfrm>
              <a:off x="6100920" y="422100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AutoShape 21"/>
            <p:cNvCxnSpPr/>
            <p:nvPr/>
          </p:nvCxnSpPr>
          <p:spPr>
            <a:xfrm>
              <a:off x="4114080" y="1719360"/>
              <a:ext cx="915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3" name="AutoShape 22"/>
            <p:cNvCxnSpPr/>
            <p:nvPr/>
          </p:nvCxnSpPr>
          <p:spPr>
            <a:xfrm>
              <a:off x="4114080" y="1949760"/>
              <a:ext cx="915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14" name="AutoShape 23"/>
            <p:cNvSpPr/>
            <p:nvPr/>
          </p:nvSpPr>
          <p:spPr>
            <a:xfrm>
              <a:off x="2562120" y="5053320"/>
              <a:ext cx="4113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8111b"/>
                  </a:solidFill>
                  <a:latin typeface="Calibri"/>
                </a:rPr>
                <a:t>Розробка ПРОГРАМИ ПРОФЕСІЙНОЇ ДІЯЛЬНОСТ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cxnSp>
          <p:nvCxnSpPr>
            <p:cNvPr id="415" name="AutoShape 24"/>
            <p:cNvCxnSpPr/>
            <p:nvPr/>
          </p:nvCxnSpPr>
          <p:spPr>
            <a:xfrm>
              <a:off x="3109680" y="577188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AutoShape 25"/>
            <p:cNvCxnSpPr/>
            <p:nvPr/>
          </p:nvCxnSpPr>
          <p:spPr>
            <a:xfrm>
              <a:off x="6099840" y="5781960"/>
              <a:ext cx="1080" cy="24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advTm="10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826920" y="404640"/>
            <a:ext cx="871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Навчальна дисципліна «Бізнес-планування проектно-орієнтованих організацій»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79280" y="2205000"/>
            <a:ext cx="4392720" cy="4119480"/>
          </a:xfrm>
          <a:prstGeom prst="rect">
            <a:avLst/>
          </a:prstGeom>
          <a:noFill/>
          <a:ln w="19080">
            <a:solidFill>
              <a:srgbClr val="00a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6c05a"/>
                </a:solidFill>
                <a:latin typeface="Verdana"/>
                <a:ea typeface="Arial"/>
              </a:rPr>
              <a:t>Підготовка докторів </a:t>
            </a:r>
            <a:r>
              <a:rPr b="0" lang="en-US" sz="2800" spc="-1" strike="noStrike">
                <a:solidFill>
                  <a:srgbClr val="86c05a"/>
                </a:solidFill>
                <a:latin typeface="Verdana"/>
                <a:ea typeface="Arial"/>
              </a:rPr>
              <a:t>pHd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6c05a"/>
                </a:solidFill>
                <a:latin typeface="Verdana"/>
                <a:ea typeface="Arial"/>
              </a:rPr>
              <a:t>м. Київ (очне, заочне)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6c05a"/>
                </a:solidFill>
                <a:latin typeface="Verdana"/>
                <a:ea typeface="Arial"/>
              </a:rPr>
              <a:t>Електронна пошта: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c05a"/>
                </a:solidFill>
                <a:latin typeface="Verdana"/>
                <a:ea typeface="Arial"/>
              </a:rPr>
              <a:t>Ryabova69@gmail.com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" name="Content Placeholder 8"/>
          <p:cNvSpPr/>
          <p:nvPr/>
        </p:nvSpPr>
        <p:spPr>
          <a:xfrm>
            <a:off x="4716360" y="2205000"/>
            <a:ext cx="4014720" cy="4119480"/>
          </a:xfrm>
          <a:prstGeom prst="rect">
            <a:avLst/>
          </a:prstGeom>
          <a:noFill/>
          <a:ln w="12600">
            <a:solidFill>
              <a:srgbClr val="00ac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6c05a"/>
                </a:solidFill>
                <a:latin typeface="Verdana"/>
                <a:ea typeface="Arial"/>
              </a:rPr>
              <a:t>Презентації лекційних та практичних занять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6c05a"/>
                </a:solidFill>
                <a:latin typeface="Verdana"/>
                <a:ea typeface="Arial"/>
              </a:rPr>
              <a:t>Репозитарій навчального контенту Інтернет-ресурси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Детальніше на сайті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19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99ff"/>
                </a:solidFill>
                <a:uFillTx/>
                <a:latin typeface="Verdana"/>
                <a:hlinkClick r:id="rId1"/>
              </a:rPr>
              <a:t>http://osvitamarketing.ucoz.u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47240" indent="-14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47240" indent="-14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47240" indent="-147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yabova69@gmail.co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58560" y="2060640"/>
            <a:ext cx="715644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ff"/>
                </a:solidFill>
                <a:latin typeface="Verdana"/>
              </a:rPr>
              <a:t>Проблема состоит не в том, как усвоить новые идеи, а в том, как избавиться от старых. (Н.Остен)</a:t>
            </a:r>
            <a:endParaRPr b="0" lang="en-US" sz="40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transition advTm="10000">
    <p:split dir="in" orient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МИ РОЗГЛЯНУЛИ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21" name="Заголовок 1"/>
          <p:cNvSpPr/>
          <p:nvPr/>
        </p:nvSpPr>
        <p:spPr>
          <a:xfrm>
            <a:off x="0" y="1125360"/>
            <a:ext cx="861048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1. Виклики сьогодення чи примха…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2" name="Заголовок 1"/>
          <p:cNvSpPr/>
          <p:nvPr/>
        </p:nvSpPr>
        <p:spPr>
          <a:xfrm>
            <a:off x="0" y="2924280"/>
            <a:ext cx="861048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2. </a:t>
            </a: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Професійна діяльність та </a:t>
            </a: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99ccff"/>
                </a:solidFill>
                <a:latin typeface="Arial"/>
              </a:rPr>
              <a:t>проектний менеджмент… </a:t>
            </a: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Чи порозумілися?…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3" name="Заголовок 1"/>
          <p:cNvSpPr/>
          <p:nvPr/>
        </p:nvSpPr>
        <p:spPr>
          <a:xfrm>
            <a:off x="533520" y="472428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3. Яким чином …Разом… Можливо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ccff"/>
                </a:solidFill>
                <a:latin typeface="Verdana"/>
              </a:rPr>
              <a:t>ЗАВДАННЯ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25" name="WordArt 5"/>
          <p:cNvSpPr txBox="1"/>
          <p:nvPr/>
        </p:nvSpPr>
        <p:spPr>
          <a:xfrm>
            <a:off x="0" y="1125360"/>
            <a:ext cx="9144000" cy="2372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1" strike="noStrike">
                <a:ln w="28440">
                  <a:solidFill>
                    <a:srgbClr val="33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ccff">
                      <a:alpha val="50000"/>
                    </a:srgbClr>
                  </a:outerShdw>
                </a:effectLst>
                <a:latin typeface="Arial Black"/>
              </a:rPr>
              <a:t> </a:t>
            </a:r>
            <a:endParaRPr b="0" lang="en-US" sz="100" spc="1" strike="noStrike">
              <a:ln w="28440">
                <a:solidFill>
                  <a:srgbClr val="33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99cc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6" name="Прямоугольник 5" descr=""/>
          <p:cNvPicPr/>
          <p:nvPr/>
        </p:nvPicPr>
        <p:blipFill>
          <a:blip r:embed="rId1"/>
          <a:stretch/>
        </p:blipFill>
        <p:spPr>
          <a:xfrm>
            <a:off x="341280" y="1238400"/>
            <a:ext cx="8461440" cy="474804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7770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99ccff"/>
                </a:solidFill>
                <a:latin typeface="Verdana"/>
              </a:rPr>
              <a:t>КОНТАКТИ</a:t>
            </a:r>
            <a:endParaRPr b="0" lang="en-US" sz="3400" spc="-1" strike="noStrike">
              <a:solidFill>
                <a:srgbClr val="99ccff"/>
              </a:solidFill>
              <a:latin typeface="Verdana"/>
            </a:endParaRPr>
          </a:p>
        </p:txBody>
      </p:sp>
      <p:pic>
        <p:nvPicPr>
          <p:cNvPr id="428" name="Picture 48" descr="196"/>
          <p:cNvPicPr/>
          <p:nvPr/>
        </p:nvPicPr>
        <p:blipFill>
          <a:blip r:embed="rId1"/>
          <a:stretch/>
        </p:blipFill>
        <p:spPr>
          <a:xfrm>
            <a:off x="0" y="0"/>
            <a:ext cx="1403280" cy="836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69343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Навчальна</a:t>
            </a: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дисципліна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0" y="836640"/>
            <a:ext cx="8891640" cy="6021000"/>
            <a:chOff x="0" y="836640"/>
            <a:chExt cx="8891640" cy="6021000"/>
          </a:xfrm>
        </p:grpSpPr>
        <p:sp>
          <p:nvSpPr>
            <p:cNvPr id="104" name="AutoShape 3"/>
            <p:cNvSpPr/>
            <p:nvPr/>
          </p:nvSpPr>
          <p:spPr>
            <a:xfrm>
              <a:off x="1115640" y="1638360"/>
              <a:ext cx="693360" cy="4887360"/>
            </a:xfrm>
            <a:custGeom>
              <a:avLst/>
              <a:gdLst>
                <a:gd name="textAreaLeft" fmla="*/ 108360 w 693360"/>
                <a:gd name="textAreaRight" fmla="*/ 606600 w 693360"/>
                <a:gd name="textAreaTop" fmla="*/ 1221840 h 4887360"/>
                <a:gd name="textAreaBottom" fmla="*/ 3665520 h 48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pic>
          <p:nvPicPr>
            <p:cNvPr id="105" name="AutoShape 4" descr=""/>
            <p:cNvPicPr/>
            <p:nvPr/>
          </p:nvPicPr>
          <p:blipFill>
            <a:blip r:embed="rId1"/>
            <a:stretch/>
          </p:blipFill>
          <p:spPr>
            <a:xfrm>
              <a:off x="0" y="1713600"/>
              <a:ext cx="1119600" cy="49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AutoShape 5"/>
            <p:cNvSpPr/>
            <p:nvPr/>
          </p:nvSpPr>
          <p:spPr>
            <a:xfrm>
              <a:off x="1810080" y="4846320"/>
              <a:ext cx="3050640" cy="201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ctr" anchorCtr="1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Викладення та відпрацювання основних теоретично-практичних положень навчальної дисципліни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" name="AutoShape 6"/>
            <p:cNvSpPr/>
            <p:nvPr/>
          </p:nvSpPr>
          <p:spPr>
            <a:xfrm>
              <a:off x="1810080" y="2680200"/>
              <a:ext cx="3050640" cy="1372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Узгодження 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навчальних потреб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1810080" y="836640"/>
              <a:ext cx="3050640" cy="112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0" anchor="ctr" anchorCtr="1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Презентація</a:t>
              </a:r>
              <a:r>
                <a:rPr b="1" lang="ru-RU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 курсу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 rot="5400000">
              <a:off x="2751120" y="1986840"/>
              <a:ext cx="751320" cy="693360"/>
            </a:xfrm>
            <a:custGeom>
              <a:avLst/>
              <a:gdLst>
                <a:gd name="textAreaLeft" fmla="*/ 116640 w 751320"/>
                <a:gd name="textAreaRight" fmla="*/ 657720 w 751320"/>
                <a:gd name="textAreaTop" fmla="*/ 173160 h 693360"/>
                <a:gd name="textAreaBottom" fmla="*/ 520200 h 6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0" name="AutoShape 9"/>
            <p:cNvSpPr/>
            <p:nvPr/>
          </p:nvSpPr>
          <p:spPr>
            <a:xfrm rot="5400000">
              <a:off x="2750760" y="4073400"/>
              <a:ext cx="752040" cy="693360"/>
            </a:xfrm>
            <a:custGeom>
              <a:avLst/>
              <a:gdLst>
                <a:gd name="textAreaLeft" fmla="*/ 117000 w 752040"/>
                <a:gd name="textAreaRight" fmla="*/ 658080 w 752040"/>
                <a:gd name="textAreaTop" fmla="*/ 173160 h 693360"/>
                <a:gd name="textAreaBottom" fmla="*/ 520200 h 6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1" name="AutoShape 10"/>
            <p:cNvSpPr/>
            <p:nvPr/>
          </p:nvSpPr>
          <p:spPr>
            <a:xfrm>
              <a:off x="5145840" y="5157360"/>
              <a:ext cx="1941840" cy="112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0" anchor="ctr">
              <a:noAutofit/>
            </a:bodyPr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Практичн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заняття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2" name="AutoShape 11"/>
            <p:cNvSpPr/>
            <p:nvPr/>
          </p:nvSpPr>
          <p:spPr>
            <a:xfrm>
              <a:off x="5137920" y="2841480"/>
              <a:ext cx="1941840" cy="112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0" anchor="ctr">
              <a:noAutofit/>
            </a:bodyPr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Самостійна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робота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Контрольн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 </a:t>
              </a: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завдання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3" name="AutoShape 3"/>
            <p:cNvSpPr/>
            <p:nvPr/>
          </p:nvSpPr>
          <p:spPr>
            <a:xfrm>
              <a:off x="7080120" y="1799280"/>
              <a:ext cx="693360" cy="4886640"/>
            </a:xfrm>
            <a:custGeom>
              <a:avLst/>
              <a:gdLst>
                <a:gd name="textAreaLeft" fmla="*/ 108360 w 693360"/>
                <a:gd name="textAreaRight" fmla="*/ 606600 w 693360"/>
                <a:gd name="textAreaTop" fmla="*/ 1221480 h 4886640"/>
                <a:gd name="textAreaBottom" fmla="*/ 3665160 h 488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pic>
          <p:nvPicPr>
            <p:cNvPr id="114" name="AutoShape 4" descr=""/>
            <p:cNvPicPr/>
            <p:nvPr/>
          </p:nvPicPr>
          <p:blipFill>
            <a:blip r:embed="rId2"/>
            <a:stretch/>
          </p:blipFill>
          <p:spPr>
            <a:xfrm>
              <a:off x="7765920" y="1548360"/>
              <a:ext cx="1125720" cy="49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11"/>
            <p:cNvSpPr/>
            <p:nvPr/>
          </p:nvSpPr>
          <p:spPr>
            <a:xfrm>
              <a:off x="5068080" y="836640"/>
              <a:ext cx="1943280" cy="112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ctr" anchorCtr="1">
              <a:noAutofit/>
            </a:bodyPr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Лекційні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заняття: 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8111b"/>
                  </a:solidFill>
                  <a:latin typeface="Times New Roman"/>
                  <a:ea typeface="Times New Roman"/>
                </a:rPr>
                <a:t>Дві теми</a:t>
              </a:r>
              <a:endParaRPr b="0" lang="en-US" sz="1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6" name="AutoShape 8"/>
            <p:cNvSpPr/>
            <p:nvPr/>
          </p:nvSpPr>
          <p:spPr>
            <a:xfrm rot="5400000">
              <a:off x="5663880" y="1986840"/>
              <a:ext cx="751320" cy="693360"/>
            </a:xfrm>
            <a:custGeom>
              <a:avLst/>
              <a:gdLst>
                <a:gd name="textAreaLeft" fmla="*/ 116640 w 751320"/>
                <a:gd name="textAreaRight" fmla="*/ 657720 w 751320"/>
                <a:gd name="textAreaTop" fmla="*/ 173160 h 693360"/>
                <a:gd name="textAreaBottom" fmla="*/ 520200 h 6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7" name="AutoShape 8"/>
            <p:cNvSpPr/>
            <p:nvPr/>
          </p:nvSpPr>
          <p:spPr>
            <a:xfrm rot="5400000">
              <a:off x="5663520" y="4073400"/>
              <a:ext cx="752040" cy="693360"/>
            </a:xfrm>
            <a:custGeom>
              <a:avLst/>
              <a:gdLst>
                <a:gd name="textAreaLeft" fmla="*/ 117000 w 752040"/>
                <a:gd name="textAreaRight" fmla="*/ 658080 w 752040"/>
                <a:gd name="textAreaTop" fmla="*/ 173160 h 693360"/>
                <a:gd name="textAreaBottom" fmla="*/ 520200 h 6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p:transition advTm="10000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МИ РОЗГЛЯНЕМО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0" y="1125360"/>
            <a:ext cx="861048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1. Виклики сьогодення чи примха…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0" y="3141720"/>
            <a:ext cx="861048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2. Професійна діяльність та проектний менеджмент… Порозуміємось…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533520" y="530064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3. Яким чином …Разом… Чи можливо?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ПИТАННЯЧКО …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3" name="Заголовок 1"/>
          <p:cNvSpPr/>
          <p:nvPr/>
        </p:nvSpPr>
        <p:spPr>
          <a:xfrm>
            <a:off x="533520" y="1484280"/>
            <a:ext cx="86104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1. Умови сьогодення, у чому виклики, що це…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4" name="Заголовок 1"/>
          <p:cNvSpPr/>
          <p:nvPr/>
        </p:nvSpPr>
        <p:spPr>
          <a:xfrm>
            <a:off x="1109520" y="5732640"/>
            <a:ext cx="6775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ВАША ВІДПОВІДЬ …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831528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ccff"/>
                </a:solidFill>
                <a:latin typeface="Verdana"/>
              </a:rPr>
              <a:t>Провідне завдання навчання 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447920" y="1828800"/>
            <a:ext cx="6248160" cy="44956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ad83eb"/>
              </a:gs>
              <a:gs pos="100000">
                <a:srgbClr val="00339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7" name="AutoShape 31"/>
          <p:cNvSpPr/>
          <p:nvPr/>
        </p:nvSpPr>
        <p:spPr>
          <a:xfrm>
            <a:off x="2438280" y="3352680"/>
            <a:ext cx="4267440" cy="32004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6fc5e3"/>
              </a:gs>
              <a:gs pos="100000">
                <a:srgbClr val="00006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8" name="Text Box 33"/>
          <p:cNvSpPr/>
          <p:nvPr/>
        </p:nvSpPr>
        <p:spPr>
          <a:xfrm>
            <a:off x="3279240" y="3860640"/>
            <a:ext cx="270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Необхідність 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трансформуватися 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в умовах змін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9" name="Text Box 39"/>
          <p:cNvSpPr/>
          <p:nvPr/>
        </p:nvSpPr>
        <p:spPr>
          <a:xfrm>
            <a:off x="3203640" y="2565360"/>
            <a:ext cx="298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Мобільність, поінформованість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5638680" y="4724280"/>
            <a:ext cx="2438640" cy="167652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ec823a"/>
              </a:gs>
              <a:gs pos="100000">
                <a:srgbClr val="00339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1" name="AutoShape 42"/>
          <p:cNvSpPr/>
          <p:nvPr/>
        </p:nvSpPr>
        <p:spPr>
          <a:xfrm>
            <a:off x="3371760" y="4762440"/>
            <a:ext cx="2286000" cy="16002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ec823a"/>
              </a:gs>
              <a:gs pos="100000">
                <a:srgbClr val="00339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4074480" y="5300640"/>
            <a:ext cx="91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Стрімкі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зміни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6092280" y="5300640"/>
            <a:ext cx="12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Зростання 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потреб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4" name="AutoShape 46"/>
          <p:cNvSpPr/>
          <p:nvPr/>
        </p:nvSpPr>
        <p:spPr>
          <a:xfrm>
            <a:off x="1123920" y="4772160"/>
            <a:ext cx="2286000" cy="16002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ec823a"/>
              </a:gs>
              <a:gs pos="100000">
                <a:srgbClr val="00339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5" name="Text Box 47"/>
          <p:cNvSpPr/>
          <p:nvPr/>
        </p:nvSpPr>
        <p:spPr>
          <a:xfrm>
            <a:off x="1504800" y="5300640"/>
            <a:ext cx="14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Мінливе 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середовище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6" name="Text Box 39"/>
          <p:cNvSpPr/>
          <p:nvPr/>
        </p:nvSpPr>
        <p:spPr>
          <a:xfrm>
            <a:off x="1835280" y="90792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  <a:ea typeface="Arial"/>
              </a:rPr>
              <a:t>Успішність життєдіяльності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3520" y="6186600"/>
            <a:ext cx="86104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ccff"/>
                </a:solidFill>
                <a:latin typeface="Verdana"/>
              </a:rPr>
              <a:t>УМОВИ СЬОГОДЕННЯ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3080"/>
            <a:ext cx="888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000"/>
                </a:solidFill>
                <a:latin typeface="Verdana"/>
              </a:rPr>
              <a:t>ТЕЗА: </a:t>
            </a:r>
            <a:r>
              <a:rPr b="0" lang="uk-UA" sz="3200" spc="-1" strike="noStrike">
                <a:solidFill>
                  <a:srgbClr val="99ccff"/>
                </a:solidFill>
                <a:latin typeface="Verdana"/>
              </a:rPr>
              <a:t>УСПІШНІСТЬ ЖИТТЄДІЯЛЬНОСТІ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539640" y="1413000"/>
            <a:ext cx="83743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здатність організовувати життєдіяльність у світі як проектну: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6c05a"/>
                </a:solidFill>
                <a:latin typeface="Arial"/>
                <a:ea typeface="Arial"/>
              </a:rPr>
              <a:t>визначати далеку і найближчу перспективу;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6c05a"/>
                </a:solidFill>
                <a:latin typeface="Arial"/>
                <a:ea typeface="Arial"/>
              </a:rPr>
              <a:t>знаходити й залучати необхідні ресурси,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6c05a"/>
                </a:solidFill>
                <a:latin typeface="Arial"/>
                <a:ea typeface="Arial"/>
              </a:rPr>
              <a:t>накреслювати план дій і, здійснивши його, оцінювати, чи вдалося досягти поставлених цілей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 advTm="10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0:44Z</dcterms:created>
  <dc:creator>Зоя</dc:creator>
  <dc:description/>
  <dc:language>en-US</dc:language>
  <cp:lastModifiedBy>Ануфрієва Оксана</cp:lastModifiedBy>
  <dcterms:modified xsi:type="dcterms:W3CDTF">2021-05-10T17:50:56Z</dcterms:modified>
  <cp:revision>46</cp:revision>
  <dc:subject/>
  <dc:title>ІНСТИТУТ МЕНЕДЖМЕНТУ ТА ПСИХОЛОГІЇ</dc:title>
</cp:coreProperties>
</file>