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E56-7124-4DC7-AD20-C9B1867D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A0D-9C62-4F91-9665-8FFD8488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CBF-3604-49DF-81A7-9A8DCF99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EF8-F2E3-471E-98DB-351E994C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9D77-334C-4F1B-9881-A1102A57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02AA-1453-4FEA-A890-ECBD5BA7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7D91-FDF3-4229-9992-B2E69E65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CE93-47B5-4E76-8817-DF502102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0772-FDE3-4690-B830-BCB6AD43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79C9-7897-4F55-A695-9B2A1A8B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8D4D-FE05-468B-8E62-F58C6E9B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5FD-0EF9-4C03-8BF2-13C7B476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1F82-50AE-4C0C-A4BD-BDDEC19E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7B6F-155E-4E75-B7AD-087BFF37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B3F4-CAF7-426F-B37E-09EBC1AB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7DE0-7CB8-4116-82F3-168EEDF4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E6F8-7B96-45B3-B327-257976D3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ACA0A-2FCC-4BD1-B62B-64BA356F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9C869-A3B3-4D62-9C69-373D7BCF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152B4-33DF-43C4-BCCF-170A339E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91B24-5D97-465B-94B1-35C1E4BB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7C5BE-8735-4479-8B62-40C843CA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08A-9AD1-4D02-BEDB-9575A821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47943-01AF-4437-852A-33956670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AF681-262E-41E5-AD56-EDC8EEE0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423F6-3E4F-48CF-B543-A0A2CC28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30891-EBC4-4E98-A0C1-E4457924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03402-6C90-47BD-82E5-BD4C1DE8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288D6-3550-4754-B3C4-0488ED91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7F90B-863E-4518-AC01-CD97727B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C3E55-49BD-4FC9-87CD-C8A1C062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183CD-1D93-418F-87E9-AD6C8A18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BB764-46F4-4581-BCFE-3F601FD6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300-8484-424D-8180-D8CB5CA9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48A9-F3E5-4AAF-A129-7075F02E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7024E-5E88-49C6-876C-E8565548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CBD41-0239-4E0F-B119-C8C49682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38BB5-9029-4139-A3F1-5E705A4D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00482-3812-4627-8460-59A669E6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D6929-B226-4D72-B411-FA14A219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FCC0B-18B5-4EB3-9D1A-178ADB1A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10C3F-E77D-40B2-97BB-4A3FA7F2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01192-9A6E-4BB3-9EE2-B4E2E133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F82-3E28-4A2E-AB9C-9A4C8546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6AC0-722D-4C34-8628-21EC266B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B49-26EB-4D83-A9FA-ADDE9A67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42E-93EB-49E1-B887-D97F26E3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AB6-A8FE-4A11-91B3-310A2EB5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89E9-BAA9-4A42-99E7-A0E58BC5849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26F7-A52F-493E-A57E-F40A93694FE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C08E-2697-4398-8AD5-FC8008BBD8E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250E-7223-45CD-870C-336F9B6FA6C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Book Antiqua"/>
              </a:rPr>
              <a:t>ТЕХНОЛОГІЧНИЙ АСПЕКТ  ПСИХОЛОГІЧНОЇ ПІДГОТОВКИ КЕРІВНИКІВ ОСВІТНІХ ОРГАНІЗАЦІЙ ДО ДІЯЛЬНОСТІ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Book Antiqua"/>
              </a:rPr>
              <a:t>В УМОВАХ ЗМІН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50920" y="4149720"/>
            <a:ext cx="8632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24456"/>
                </a:solidFill>
                <a:latin typeface="Book Antiqua"/>
              </a:rPr>
              <a:t>О. І. Бондарчук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24456"/>
                </a:solidFill>
                <a:latin typeface="Book Antiqua"/>
              </a:rPr>
              <a:t>доктор психологічних наук, професор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24456"/>
                </a:solidFill>
                <a:latin typeface="Book Antiqua"/>
              </a:rPr>
              <a:t>зав. кафедри психології управління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24456"/>
                </a:solidFill>
                <a:latin typeface="Book Antiqua"/>
              </a:rPr>
              <a:t>ДВНЗ  “Університет менеджменту освіти”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24456"/>
                </a:solidFill>
                <a:latin typeface="Book Antiqua"/>
              </a:rPr>
              <a:t>НАПН Україн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24456"/>
                </a:solidFill>
                <a:latin typeface="Book Antiqua"/>
              </a:rPr>
              <a:t>Київ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24456"/>
                </a:solidFill>
                <a:latin typeface="Book Antiqua"/>
              </a:rPr>
              <a:t>28 лютого 2015 р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4" descr="C:\Documents and Settings\Admin\Рабочий стол\человечки\Украина.jpg"/>
          <p:cNvPicPr/>
          <p:nvPr/>
        </p:nvPicPr>
        <p:blipFill>
          <a:blip r:embed="rId1"/>
          <a:stretch/>
        </p:blipFill>
        <p:spPr>
          <a:xfrm>
            <a:off x="214200" y="21420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 Antiqua"/>
              </a:rPr>
              <a:t>Змістовий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блок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технології психологічної підготовки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Зміст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складається з 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навчальних ситуацій та завдань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розв’язання яких сприятиме розвитку психологічної готовності управлінців до діяльності в умовах змін загалом і за окремими її напрямами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психологічна підготовка керівників до </a:t>
            </a:r>
            <a:r>
              <a:rPr b="1" i="1" lang="uk-UA" sz="2000" spc="-1" strike="noStrike">
                <a:solidFill>
                  <a:srgbClr val="00cc99"/>
                </a:solidFill>
                <a:latin typeface="Georgia"/>
              </a:rPr>
              <a:t>впровадження інноваційних змін в освітніх організаціях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психологічна підготовка керівників до </a:t>
            </a:r>
            <a:r>
              <a:rPr b="1" i="1" lang="uk-UA" sz="2000" spc="-1" strike="noStrike">
                <a:solidFill>
                  <a:srgbClr val="33cc33"/>
                </a:solidFill>
                <a:latin typeface="Georgia"/>
              </a:rPr>
              <a:t>забезпечення конкурентоздатності освітніх організацій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в умовах змін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психологічна підготовка керівників до </a:t>
            </a:r>
            <a:r>
              <a:rPr b="1" i="1" lang="uk-UA" sz="2000" spc="-1" strike="noStrike">
                <a:solidFill>
                  <a:srgbClr val="cc00ff"/>
                </a:solidFill>
                <a:latin typeface="Georgia"/>
              </a:rPr>
              <a:t>впровадження ґендерного підходу</a:t>
            </a:r>
            <a:r>
              <a:rPr b="1" lang="uk-UA" sz="2000" spc="-1" strike="noStrike">
                <a:solidFill>
                  <a:srgbClr val="cc00ff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в діяльність закладу освіти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психологічна підготовка керівників до</a:t>
            </a:r>
            <a:r>
              <a:rPr b="1" i="1" lang="uk-UA" sz="2000" spc="-1" strike="noStrike">
                <a:solidFill>
                  <a:srgbClr val="99cc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ff66cc"/>
                </a:solidFill>
                <a:latin typeface="Georgia"/>
              </a:rPr>
              <a:t>формування позитивного іміджу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як чинника ефективності діяльності освітніх організацій в умовах змін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психологічна підготовка керівників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до </a:t>
            </a:r>
            <a:r>
              <a:rPr b="1" i="1" lang="uk-UA" sz="2000" spc="-1" strike="noStrike">
                <a:solidFill>
                  <a:srgbClr val="ffcc00"/>
                </a:solidFill>
                <a:latin typeface="Georgia"/>
              </a:rPr>
              <a:t>особистісної саморегуляції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в умовах впровадження змін в освітніх організаціях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психологічна підготовка керівників до </a:t>
            </a:r>
            <a:r>
              <a:rPr b="1" i="1" lang="uk-UA" sz="2000" spc="-1" strike="noStrike">
                <a:solidFill>
                  <a:srgbClr val="33ccff"/>
                </a:solidFill>
                <a:latin typeface="Georgia"/>
              </a:rPr>
              <a:t>вдосконалення когнітивного стилю особистості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як чинника ефективності їхньої діяльності в умовах змі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Критерії ефективності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підготовки : мотиваційний, когнітивний, операційний та особистісний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6760" y="571680"/>
            <a:ext cx="76136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424456"/>
                </a:solidFill>
                <a:latin typeface="Book Antiqua"/>
              </a:rPr>
              <a:t>Процесуальний </a:t>
            </a:r>
            <a:r>
              <a:rPr b="1" lang="ru-RU" sz="2500" spc="-1" strike="noStrike">
                <a:solidFill>
                  <a:srgbClr val="424456"/>
                </a:solidFill>
                <a:latin typeface="Book Antiqua"/>
              </a:rPr>
              <a:t>блок 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Book Antiqua"/>
              </a:rPr>
              <a:t>технології психологічної підготовки</a:t>
            </a:r>
            <a:br>
              <a:rPr sz="2500"/>
            </a:br>
            <a:r>
              <a:rPr b="1" lang="uk-UA" sz="2500" spc="-1" strike="noStrike">
                <a:solidFill>
                  <a:srgbClr val="424456"/>
                </a:solidFill>
                <a:latin typeface="Book Antiqua"/>
              </a:rPr>
              <a:t>Етапи психологічної підготовки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60128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b050"/>
                </a:solidFill>
                <a:latin typeface="Georgia"/>
              </a:rPr>
              <a:t>підготовчий етап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, на якому визначається ступінь готовності управлінців до саморозвитку та самовдосконалення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ffc000"/>
                </a:solidFill>
                <a:latin typeface="Georgia"/>
              </a:rPr>
              <a:t>діагностичний етап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, спрямований на визначення вихідного рівня психологічної готовності управлінців до діяльності в умовах змін на основі актуалізації прагнення до самопізнання суб’єктом особливостей свого внутрішнього світу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Georgia"/>
              </a:rPr>
              <a:t>праксеологічний</a:t>
            </a:r>
            <a:r>
              <a:rPr b="1" i="1" lang="uk-UA" sz="2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що передбачає оволодіння психологічними знаннями, вміннями, навичками здійснення ефективної управлінської діяльності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b050"/>
                </a:solidFill>
                <a:latin typeface="Georgia"/>
              </a:rPr>
              <a:t>акмеологічний,</a:t>
            </a:r>
            <a:r>
              <a:rPr b="1" i="1" lang="uk-UA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спрямований на розвиток конструктивних особистісних новоутворень як складових психологічної готовності до діяльності  в умовах змін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24456"/>
                </a:solidFill>
                <a:latin typeface="Georgia"/>
              </a:rPr>
              <a:t>Соціально-психологічні засоби реалізації технології психологічної підготовки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714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9900"/>
                </a:solidFill>
                <a:latin typeface="Georgia"/>
              </a:rPr>
              <a:t>Модель редукції упереджень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Дж. Дакіт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на рівні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1) соціальної структури та міжгрупових стосунків, у ситуації спілкування рівних за статусом груп, що мають спільні цілі, досягнення яких вимагає спільної діяльності, і підкоряються єдиним правилам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2) соціального впливу, якому підлягає індивід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3) індивідуальному рівні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24456"/>
                </a:solidFill>
                <a:latin typeface="Georgia"/>
              </a:rPr>
              <a:t>На рівні соціальної структури та міжгрупових стосунків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3840" y="2249640"/>
            <a:ext cx="8472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«</a:t>
            </a:r>
            <a:r>
              <a:rPr b="1" i="1" lang="uk-UA" sz="2200" spc="-1" strike="noStrike">
                <a:solidFill>
                  <a:srgbClr val="669900"/>
                </a:solidFill>
                <a:latin typeface="Georgia"/>
              </a:rPr>
              <a:t>перехрещування категорій», 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коли, зокрема, представник «чужої» групи стає членом своєї групи при виконанні спільного завдання, особливо змагального характеру з іншими подібними групами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669900"/>
                </a:solidFill>
                <a:latin typeface="Georgia"/>
              </a:rPr>
              <a:t>розширення репертуару ролей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, програвання ролей, що традиційно вважаються властивим представникам «чужої» груп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24456"/>
                </a:solidFill>
                <a:latin typeface="Georgia"/>
              </a:rPr>
              <a:t>На рівні соціальних впливів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cc00"/>
                </a:solidFill>
                <a:latin typeface="Georgia"/>
              </a:rPr>
              <a:t>	</a:t>
            </a:r>
            <a:r>
              <a:rPr b="1" lang="uk-UA" sz="1800" spc="-1" strike="noStrike">
                <a:solidFill>
                  <a:srgbClr val="cccc00"/>
                </a:solidFill>
                <a:latin typeface="Georgia"/>
              </a:rPr>
              <a:t>активізація соціально-психологічних механізмів (ідентифікація, соціальне порівняння, наслідування та ін.) через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b050"/>
                </a:solidFill>
                <a:latin typeface="Georgia"/>
              </a:rPr>
              <a:t>власний приклад</a:t>
            </a:r>
            <a:r>
              <a:rPr b="1" lang="uk-UA" sz="18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референтних для управлінця осіб, зданих діяти в умовах змін, коли інші шляхом 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наслідування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або 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свідомо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, на основі 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порівняння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власних цінностей з тими, що демонструють «еталонні» управлінці, засвоюють зразки їх поведінки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cc99"/>
                </a:solidFill>
                <a:latin typeface="Georgia"/>
              </a:rPr>
              <a:t>пряме навчання</a:t>
            </a:r>
            <a:r>
              <a:rPr b="1" lang="uk-UA" sz="1800" spc="-1" strike="noStrike">
                <a:solidFill>
                  <a:srgbClr val="ffcc99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за рахунок розширення системи уявлень освітян завдяки доповненню новими елементами знань про специфіку управлінської діяльності в умовах змін та відвідну психологічну готовність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так зване, </a:t>
            </a:r>
            <a:r>
              <a:rPr b="1" i="1" lang="uk-UA" sz="1800" spc="-1" strike="noStrike">
                <a:solidFill>
                  <a:srgbClr val="cc0099"/>
                </a:solidFill>
                <a:latin typeface="Georgia"/>
              </a:rPr>
              <a:t>«психологічне щеплення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»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, іншими словами, надання індивіду інформації, що попередньо готує його до можливих негативних наслідків або труднощів на шляху інноваційної діяльності в умовах змін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00000"/>
                </a:solidFill>
                <a:latin typeface="Georgia"/>
              </a:rPr>
              <a:t>пряме перенавчання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коли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відбувається трансформація акутадіних професійних установок управлінців в ідеальні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800080"/>
                </a:solidFill>
                <a:latin typeface="Georgia"/>
              </a:rPr>
              <a:t>непряме</a:t>
            </a:r>
            <a:r>
              <a:rPr b="1" lang="uk-UA" sz="1800" spc="-1" strike="noStrike">
                <a:solidFill>
                  <a:srgbClr val="800080"/>
                </a:solidFill>
                <a:latin typeface="Georgia"/>
              </a:rPr>
              <a:t> </a:t>
            </a:r>
            <a:r>
              <a:rPr b="1" i="1" lang="uk-UA" sz="1800" spc="-1" strike="noStrike">
                <a:solidFill>
                  <a:srgbClr val="800080"/>
                </a:solidFill>
                <a:latin typeface="Georgia"/>
              </a:rPr>
              <a:t>перенавчання</a:t>
            </a:r>
            <a:r>
              <a:rPr b="1" lang="uk-UA" sz="1800" spc="-1" strike="noStrike">
                <a:solidFill>
                  <a:srgbClr val="800080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шляхом інтерпретації результатів діяльності керівника таким чином, щоб сформувати у нього рефлексію, необхідну для усвідомлення та розвитку психологчної готовності до діяльності в умовах змі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24456"/>
                </a:solidFill>
                <a:latin typeface="Georgia"/>
              </a:rPr>
              <a:t>На індивідуальному рівні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Складання 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індивідуальної програми саморозвитк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Д. Дакіт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«...вільні від упереджень «відповіді» вимагають від людини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а)обізнаності щодо своєї упередженості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б)мотивації змінити свої переконання, виходячи з гуманістичних цінносте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в)володіння своїми когнітивними ресурсами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24456"/>
                </a:solidFill>
                <a:latin typeface="Book Antiqua"/>
              </a:rPr>
              <a:t>Перспективи дослідженн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6760" y="2143080"/>
            <a:ext cx="821556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Дослідження проблеми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готовності суб’єктів психологічної підготовки (викладачів вищої школи, в тому числі, закладів ПО) до відповідної діяльності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Picture 2" descr="C:\Documents and Settings\Admin\Рабочий стол\человечки\висновки.jpg"/>
          <p:cNvPicPr/>
          <p:nvPr/>
        </p:nvPicPr>
        <p:blipFill>
          <a:blip r:embed="rId1"/>
          <a:stretch/>
        </p:blipFill>
        <p:spPr>
          <a:xfrm>
            <a:off x="357120" y="928800"/>
            <a:ext cx="12146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85560" y="642600"/>
            <a:ext cx="660564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424456"/>
                </a:solidFill>
                <a:latin typeface="Georgia"/>
              </a:rPr>
              <a:t>Дякую за увагу</a:t>
            </a:r>
            <a:r>
              <a:rPr b="0" lang="en-US" sz="3000" spc="-1" strike="noStrike">
                <a:solidFill>
                  <a:srgbClr val="424456"/>
                </a:solidFill>
                <a:latin typeface="Georgia"/>
              </a:rPr>
              <a:t>!</a:t>
            </a:r>
            <a:endParaRPr b="0" lang="en-US" sz="3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412640"/>
            <a:ext cx="7775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Контакт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О. І. Бондарчук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м. Київ, вул. Артема, 52-А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ДВНЗ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«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Університет менеджменту освіт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, корпус 3, к. 3.1,  3.1.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кафедра психології управлінн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Тел.  : (044) 481 38 57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Georgia"/>
              </a:rPr>
              <a:t>E-mail: kafedra.psychology@gmail.co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3" name="Рисунок 5" descr="3D Humans (16).jpg"/>
          <p:cNvPicPr/>
          <p:nvPr/>
        </p:nvPicPr>
        <p:blipFill>
          <a:blip r:embed="rId1"/>
          <a:stretch/>
        </p:blipFill>
        <p:spPr>
          <a:xfrm>
            <a:off x="6066000" y="853920"/>
            <a:ext cx="2773080" cy="20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24456"/>
                </a:solidFill>
                <a:latin typeface="Book Antiqua"/>
              </a:rPr>
              <a:t>Постановка проблем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57176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Керівники освітніх організацій мусять бути </a:t>
            </a:r>
            <a:r>
              <a:rPr b="1" i="1" lang="uk-UA" sz="2400" spc="-1" strike="noStrike">
                <a:solidFill>
                  <a:srgbClr val="c00000"/>
                </a:solidFill>
                <a:latin typeface="Georgia"/>
              </a:rPr>
              <a:t>готовими до впровадження інновацій в освітній процес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відповідно до вимог сьогодення, володіти </a:t>
            </a:r>
            <a:r>
              <a:rPr b="1" i="1" lang="uk-UA" sz="2400" spc="-1" strike="noStrike">
                <a:solidFill>
                  <a:srgbClr val="406f8d"/>
                </a:solidFill>
                <a:latin typeface="Georgia"/>
              </a:rPr>
              <a:t>механізмами регулювання в трансформаційні періоди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, які б сприяли як </a:t>
            </a: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розвитку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освітньої організації загалом, так і кожного суб’єкта навчально-виховного процесу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Це висуває особливі вимоги до </a:t>
            </a: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психологічної підготовки керівників освітніх організацій до відповідної діяльності</a:t>
            </a:r>
            <a:r>
              <a:rPr b="1" i="1" lang="ru-RU" sz="2400" spc="-1" strike="noStrike">
                <a:solidFill>
                  <a:srgbClr val="00b05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2" descr="C:\Documents and Settings\Admin\Рабочий стол\человечки\вопрос1.jpg"/>
          <p:cNvPicPr/>
          <p:nvPr/>
        </p:nvPicPr>
        <p:blipFill>
          <a:blip r:embed="rId1"/>
          <a:stretch/>
        </p:blipFill>
        <p:spPr>
          <a:xfrm>
            <a:off x="500040" y="214200"/>
            <a:ext cx="13572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000080"/>
            <a:ext cx="8896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24456"/>
                </a:solidFill>
                <a:latin typeface="Book Antiqua"/>
              </a:rPr>
              <a:t>Психологічна підготовка особистості до професійної діяльності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2500200"/>
            <a:ext cx="885816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це процес формування психологічної готовності до продуктивної участі в ній через ряд етапів (підготовчий, діагностичний, праксеологічний, акмеологічний), які забезпечують становлення та розвиток психологічної грамотності (</a:t>
            </a: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мінімальний рівень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), психологічної компетентності (</a:t>
            </a:r>
            <a:r>
              <a:rPr b="1" i="1" lang="uk-UA" sz="2400" spc="-1" strike="noStrike">
                <a:solidFill>
                  <a:srgbClr val="406f8d"/>
                </a:solidFill>
                <a:latin typeface="Georgia"/>
              </a:rPr>
              <a:t>достатній рівень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), психологічної культури (</a:t>
            </a: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творчий рівень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) особистості</a:t>
            </a:r>
            <a:r>
              <a:rPr b="1" lang="uk-UA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714240"/>
            <a:ext cx="8929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24456"/>
                </a:solidFill>
                <a:latin typeface="Georgia"/>
              </a:rPr>
              <a:t>Специфічні особливості керівників освітніх організацій як суб’єктів психологічної підготовки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42560" y="1856880"/>
            <a:ext cx="90010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мають </a:t>
            </a:r>
            <a:r>
              <a:rPr b="1" i="1" lang="uk-UA" sz="2000" spc="-1" strike="noStrike">
                <a:solidFill>
                  <a:srgbClr val="00b050"/>
                </a:solidFill>
                <a:latin typeface="Georgia"/>
              </a:rPr>
              <a:t>ґрунтовні професійні знання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що більш-менш упорядковані на етапі попереднього навчанн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934c22"/>
                </a:solidFill>
                <a:latin typeface="Georgia"/>
              </a:rPr>
              <a:t>спираються на власний управлінський досвід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що може не збігається з пропонованими теоретичними знаннями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часто мають </a:t>
            </a:r>
            <a:r>
              <a:rPr b="1" i="1" lang="uk-UA" sz="2000" spc="-1" strike="noStrike">
                <a:solidFill>
                  <a:srgbClr val="ff0000"/>
                </a:solidFill>
                <a:latin typeface="Georgia"/>
              </a:rPr>
              <a:t>високий рівень тривожності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комплекс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загрози авторитету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»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ознаки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емоційного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вигорання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»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тощо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мають </a:t>
            </a:r>
            <a:r>
              <a:rPr b="1" i="1" lang="uk-UA" sz="2000" spc="-1" strike="noStrike">
                <a:solidFill>
                  <a:srgbClr val="406f8d"/>
                </a:solidFill>
                <a:latin typeface="Georgia"/>
              </a:rPr>
              <a:t>систему психологічних захистів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що спрямована на збереження сталості внутрішнього світу шляхом деструктурування світу зовнішнього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мають систему смислів, цінностей, оцінних критеріїв, яка часто відрізняється </a:t>
            </a:r>
            <a:r>
              <a:rPr b="1" i="1" lang="uk-UA" sz="2000" spc="-1" strike="noStrike">
                <a:solidFill>
                  <a:srgbClr val="7030a0"/>
                </a:solidFill>
                <a:latin typeface="Georgia"/>
              </a:rPr>
              <a:t>певною інерційністю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обмеженою здатністю до змін тощ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85600" y="2571480"/>
            <a:ext cx="69008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Мета дослідження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висвітлити технологічний аспект психологічної підготовки керівників освітніх організацій до діяльності в умовах змін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5" descr="3D%20Humans%20%2860%29"/>
          <p:cNvPicPr/>
          <p:nvPr/>
        </p:nvPicPr>
        <p:blipFill>
          <a:blip r:embed="rId1"/>
          <a:stretch/>
        </p:blipFill>
        <p:spPr>
          <a:xfrm>
            <a:off x="0" y="2214720"/>
            <a:ext cx="1714680" cy="1428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42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24456"/>
                </a:solidFill>
                <a:latin typeface="Georgia"/>
              </a:rPr>
              <a:t>Складові технології психологічної підготовки керівників освітніх організацій до діяльності в умовах змін: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928520"/>
            <a:ext cx="84726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06f8d"/>
                </a:solidFill>
                <a:latin typeface="Georgia"/>
              </a:rPr>
              <a:t>концептуальний</a:t>
            </a:r>
            <a:r>
              <a:rPr b="1" i="1" lang="ru-RU" sz="2000" spc="-1" strike="noStrike">
                <a:solidFill>
                  <a:srgbClr val="406f8d"/>
                </a:solidFill>
                <a:latin typeface="Georgia"/>
              </a:rPr>
              <a:t> блок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визначає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теоретичні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засади реалізації технології у системі післядипломної педагогічної освіти:  </a:t>
            </a:r>
            <a:r>
              <a:rPr b="1" i="1" lang="ru-RU" sz="2000" spc="-1" strike="noStrike">
                <a:solidFill>
                  <a:srgbClr val="669900"/>
                </a:solidFill>
                <a:latin typeface="Georgia"/>
              </a:rPr>
              <a:t>гуманістично-ціннісний підхід до психологічної підготовки керівників освітніх організацій до діяльності в умовах змін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406f8d"/>
                </a:solidFill>
                <a:latin typeface="Georgia"/>
              </a:rPr>
              <a:t>змістовий </a:t>
            </a:r>
            <a:r>
              <a:rPr b="1" i="1" lang="ru-RU" sz="2000" spc="-1" strike="noStrike">
                <a:solidFill>
                  <a:srgbClr val="406f8d"/>
                </a:solidFill>
                <a:latin typeface="Georgia"/>
              </a:rPr>
              <a:t>блок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визначає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зміст і напрямки психологічної підготовки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управлінців до діяльності в умовах змін, а також 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критерії ефективності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такої підготовки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06f8d"/>
                </a:solidFill>
                <a:latin typeface="Georgia"/>
              </a:rPr>
              <a:t>процесуальний блок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характеризує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процес розвитку психологічної готовності до діяльності в умовах змін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через 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ряд етапів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які забезпечують становлення та розвиток її мотиваційної, когнітивної, операційної та особистісної складових, а також обґрунтування найбільш доцільних 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форм і методів навчання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на кожному з цих етапі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Концептуальний блок </a:t>
            </a:r>
            <a:br>
              <a:rPr sz="2400"/>
            </a:b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технології психологічної підготовки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42884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Georgia"/>
              </a:rPr>
              <a:t>	</a:t>
            </a:r>
            <a:r>
              <a:rPr b="1" i="1" lang="uk-UA" sz="2000" spc="-1" strike="noStrike">
                <a:solidFill>
                  <a:srgbClr val="800080"/>
                </a:solidFill>
                <a:latin typeface="Georgia"/>
              </a:rPr>
              <a:t>Підвищення якості психологічної підготовки керівників освітніх організацій</a:t>
            </a:r>
            <a:r>
              <a:rPr b="1" lang="uk-UA" sz="2000" spc="-1" strike="noStrike">
                <a:solidFill>
                  <a:srgbClr val="80008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можливе лише за рахунок активізації їх внутрішніх ресурсів, серед яких системостворювальним є, як свідчать результати теоретичного аналізу літератури, </a:t>
            </a:r>
            <a:r>
              <a:rPr b="1" i="1" lang="uk-UA" sz="2000" spc="-1" strike="noStrike">
                <a:solidFill>
                  <a:srgbClr val="009900"/>
                </a:solidFill>
                <a:latin typeface="Georgia"/>
              </a:rPr>
              <a:t>система</a:t>
            </a:r>
            <a:r>
              <a:rPr b="1" lang="uk-UA" sz="20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009900"/>
                </a:solidFill>
                <a:latin typeface="Georgia"/>
              </a:rPr>
              <a:t>цінностей</a:t>
            </a:r>
            <a:r>
              <a:rPr b="1" lang="uk-UA" sz="20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як один із центральних механізм внутрішньої регуляції соціальної поведінки людин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Г. Олпорт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Georgia"/>
              </a:rPr>
              <a:t>	</a:t>
            </a:r>
            <a:r>
              <a:rPr b="1" i="1" lang="uk-UA" sz="2000" spc="-1" strike="noStrike">
                <a:solidFill>
                  <a:srgbClr val="7030a0"/>
                </a:solidFill>
                <a:latin typeface="Georgia"/>
              </a:rPr>
              <a:t>Цінності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- установки особливого роду, які визначають особистісну структуру і сприймаються як стандарти, норми, що є основою для вибору, який здійснює людин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людині необхідно упорядкувати знання про світ, досягти </a:t>
            </a:r>
            <a:r>
              <a:rPr b="1" i="1" lang="uk-UA" sz="2000" spc="-1" strike="noStrike">
                <a:solidFill>
                  <a:srgbClr val="c00000"/>
                </a:solidFill>
                <a:latin typeface="Georgia"/>
              </a:rPr>
              <a:t>гармонії форми і цінностей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на основі специфічного досвіду індивіда, що повторюєтьс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О. Балл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Цінності є </a:t>
            </a:r>
            <a:r>
              <a:rPr b="1" i="1" lang="uk-UA" sz="2000" spc="-1" strike="noStrike">
                <a:solidFill>
                  <a:srgbClr val="c4652d"/>
                </a:solidFill>
                <a:latin typeface="Georgia"/>
              </a:rPr>
              <a:t>базою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без якої фахівець може бути носієм лише професійних функці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24456"/>
                </a:solidFill>
                <a:latin typeface="Georgia"/>
              </a:rPr>
              <a:t>Сутність гуманістично-ціннісного підходу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57120" y="1571760"/>
            <a:ext cx="844416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d60093"/>
                </a:solidFill>
                <a:latin typeface="Georgia"/>
              </a:rPr>
              <a:t>гуманізація різноманітних аспектів психологічної підготовки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через</a:t>
            </a:r>
            <a:r>
              <a:rPr b="1" i="1" lang="uk-UA" sz="2000" spc="-1" strike="noStrike">
                <a:solidFill>
                  <a:srgbClr val="d60093"/>
                </a:solidFill>
                <a:latin typeface="Georgia"/>
              </a:rPr>
              <a:t>: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а) безоцінне позитивне прийняття іншої людини; б) активне емпатійне переживання, слухання; в) конгруентне, тобто адекватне, справжнє і щире самовираження себе в спілкуванні з іншою людиною; г) гармонізацію стосунків особистості із своїм внутрішнім, автентичним Я;</a:t>
            </a:r>
            <a:r>
              <a:rPr b="1" i="1" lang="uk-UA" sz="2000" spc="-1" strike="noStrike">
                <a:solidFill>
                  <a:srgbClr val="d60093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Georgia"/>
              </a:rPr>
              <a:t>фасилітація професійного й особистісного розвитку в умовах постійних змін;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cc"/>
                </a:solidFill>
                <a:latin typeface="Georgia"/>
              </a:rPr>
              <a:t>прийняття унікальної неповторності кожного учасника навчального процесу та довіра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– особистісна впевненість педагога у можливостях і здібностях слухачів</a:t>
            </a:r>
            <a:r>
              <a:rPr b="1" i="1" lang="uk-UA" sz="2000" spc="-1" strike="noStrike">
                <a:solidFill>
                  <a:srgbClr val="ff33cc"/>
                </a:solidFill>
                <a:latin typeface="Georgia"/>
              </a:rPr>
              <a:t>;</a:t>
            </a:r>
            <a:r>
              <a:rPr b="1" lang="uk-UA" sz="2000" spc="-1" strike="noStrike">
                <a:solidFill>
                  <a:srgbClr val="ff33cc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створення умов для </a:t>
            </a:r>
            <a:r>
              <a:rPr b="1" i="1" lang="uk-UA" sz="2000" spc="-1" strike="noStrike">
                <a:solidFill>
                  <a:srgbClr val="cc0099"/>
                </a:solidFill>
                <a:latin typeface="Georgia"/>
              </a:rPr>
              <a:t>максимального вияву творчих потенцій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вільного розвитку, самореалізації, самотворчості у процесі діяльності;</a:t>
            </a:r>
            <a:r>
              <a:rPr b="1" i="1" lang="uk-UA" sz="19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65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uk-UA" sz="2200" spc="-1" strike="noStrike">
                <a:solidFill>
                  <a:srgbClr val="424456"/>
                </a:solidFill>
                <a:latin typeface="Georgia"/>
              </a:rPr>
              <a:t>Умови  реалізації гуманістично-ціннісного підходу</a:t>
            </a:r>
            <a:br>
              <a:rPr sz="2200"/>
            </a:br>
            <a:r>
              <a:rPr b="1" lang="uk-UA" sz="2200" spc="-1" strike="noStrike">
                <a:solidFill>
                  <a:srgbClr val="424456"/>
                </a:solidFill>
                <a:latin typeface="Georgia"/>
              </a:rPr>
              <a:t> в</a:t>
            </a:r>
            <a:r>
              <a:rPr b="1" i="1" lang="uk-UA" sz="22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1" lang="uk-UA" sz="2200" spc="-1" strike="noStrike">
                <a:solidFill>
                  <a:srgbClr val="424456"/>
                </a:solidFill>
                <a:latin typeface="Georgia"/>
              </a:rPr>
              <a:t>процесі психологічної підготовки до діяльності в умовах змін у системі ППО</a:t>
            </a:r>
            <a:br>
              <a:rPr sz="2200"/>
            </a:b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організація процесу </a:t>
            </a:r>
            <a:r>
              <a:rPr b="1" i="1" lang="uk-UA" sz="1800" spc="-1" strike="noStrike">
                <a:solidFill>
                  <a:srgbClr val="ff9900"/>
                </a:solidFill>
                <a:latin typeface="Georgia"/>
              </a:rPr>
              <a:t>на засадах партнерства, спільної діяльності всіх суб’єктів, розвиток неупередженого ставлення до інших людей та їх дій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Georgia"/>
              </a:rPr>
              <a:t>Ю. Кулюткін: «Лише тією мірою, якою доросла людина отримує можливість реалізувати себе в системі соціально-трудових відносин, що визначають її статус, формується її потреба у все більш високих професійних досягненнях і в розвитку здібностей, що зумовлюють успішність діяльності»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створення </a:t>
            </a:r>
            <a:r>
              <a:rPr b="1" i="1" lang="uk-UA" sz="1800" spc="-1" strike="noStrike">
                <a:solidFill>
                  <a:srgbClr val="ff66cc"/>
                </a:solidFill>
                <a:latin typeface="Georgia"/>
              </a:rPr>
              <a:t>розвивального соціального середовища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, в якому поступово складаються групові норми й цінності професійного вдосконалення , особистісного розвитку, психологічної культури загалом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99"/>
                </a:solidFill>
                <a:latin typeface="Georgia"/>
              </a:rPr>
              <a:t>усвідомлення та врахування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в процесі психологічної підготовки  </a:t>
            </a:r>
            <a:r>
              <a:rPr b="1" i="1" lang="uk-UA" sz="1800" spc="-1" strike="noStrike">
                <a:solidFill>
                  <a:srgbClr val="990099"/>
                </a:solidFill>
                <a:latin typeface="Georgia"/>
              </a:rPr>
              <a:t>специфічних особливостей навчання дорослих учнів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із спиранням на їхній професійний досвід; ціннісного ставлення слухачів до дійсності, показників їх психологічної готовності до діяльності в умовах змін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забезпечення </a:t>
            </a:r>
            <a:r>
              <a:rPr b="1" i="1" lang="uk-UA" sz="1800" spc="-1" strike="noStrike">
                <a:solidFill>
                  <a:srgbClr val="a50021"/>
                </a:solidFill>
                <a:latin typeface="Georgia"/>
              </a:rPr>
              <a:t>самоуправління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(самопізнання, самоаналіз, саморегуляція, самовдосконалення тощо) </a:t>
            </a:r>
            <a:r>
              <a:rPr b="1" i="1" lang="uk-UA" sz="1800" spc="-1" strike="noStrike">
                <a:solidFill>
                  <a:srgbClr val="a50021"/>
                </a:solidFill>
                <a:latin typeface="Georgia"/>
              </a:rPr>
              <a:t>розвитком психологічної готовності до діяльності в умовах змі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5:12:05Z</dcterms:created>
  <dc:creator>олена</dc:creator>
  <dc:description/>
  <dc:language>en-US</dc:language>
  <cp:lastModifiedBy>psihology</cp:lastModifiedBy>
  <dcterms:modified xsi:type="dcterms:W3CDTF">2015-02-27T08:01:04Z</dcterms:modified>
  <cp:revision>124</cp:revision>
  <dc:subject/>
  <dc:title>Післядипломна педагогічна освіта як чинник особистісного розвитку керівників освітніх організацій</dc:title>
</cp:coreProperties>
</file>