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A83-B661-4979-A1D7-EC8FC133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96F-E3B8-409E-BED2-187EE02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FBD-B1D2-4735-92E0-0641398F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B1B-CB5B-4C8A-823F-BA9F92B6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E154-BB60-4339-BE8A-CACA9982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8E0A-1FA6-48E6-A11C-3DE3636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B7D-3B13-4187-9B30-420033D8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006C-3890-4024-AE19-5C72738A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4A97-ED27-413E-A2BF-B0067215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30D9-5DB3-4A8A-AA34-38E57649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BC54-0ACE-4071-B428-C07B745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6A5-DD54-4C6F-BAD5-37DE90CA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5CC2-3D0E-4EA5-A28F-6623153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A24C-C6E8-4960-8C43-69E5DEC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7E2C-BA0D-4C07-BA4D-F3819499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034E-DDF5-4E18-8FA3-F21F8684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A48B-2816-4713-923C-20C6EA78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48385-6D53-47DE-B05B-B76F1FC7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BA5A5-14A8-4C0E-B471-EA54F01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1B82D-F1F2-4071-B59B-FA8C47B3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A84C7-8804-4FB9-AF10-A25E554F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D2749-340A-4F49-AF48-B556EBB4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075-FB94-46D5-8BB9-7005CD7A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F4770-47FD-42C7-85AB-D6FC2726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DAD23-E421-4C05-A771-63C1677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5A487-762D-4CCB-A22E-C6BB7D9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9142E-4BC4-44A9-8498-EB62646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7BF26-56EC-465A-857D-047704FD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9B8A0-DCA4-4B67-9151-50E055C8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5C782-7C20-4169-9CE0-FF617C89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D2C9D-4E24-4831-B843-88C3D5EF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AA0F1-F374-4DE8-8927-8A19E966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0A4E-1C33-45DA-9EB1-A622999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E87-977F-4F77-9D37-134402DF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FAA6-F086-44FF-9DB9-29EF549A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22C4-0171-44A8-808D-65120693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8AA6-CE75-4621-9B27-7F460873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EFBC-96AE-4D98-8762-E32BF64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6FA2-2D7F-4122-9EA9-473979E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A03D2-E6B7-4D9F-8F07-33B723F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2486-9D10-423F-A980-327B2B9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09530-37FE-4C6F-A887-A8B6C523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58BED-6C63-4360-A438-069310E1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2AC-8D59-4D5E-994A-11F4D336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CC3-6780-4592-A522-B1E9DF45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D93-ADE7-4573-BCFE-A9CC811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113-3DA7-4CC0-9381-AFF8DB6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C2A-DED0-4689-9AEE-5B7A44A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A9E8-C82C-44D9-AC05-FB31E7CAB18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133-039F-44F3-AA0A-6B8C34FB445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3A5-07DF-49A9-B90D-105F6E29B2E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FDE3-9D73-46B1-87AC-D3BBC7CE0BD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Book Antiqua"/>
              </a:rPr>
              <a:t>ТЕХНОЛОГІЧНИЙ АСПЕКТ  ПСИХОЛОГІЧНОЇ ПІДГОТОВКИ КЕРІВНИКІВ ОСВІТНІХ ОРГАНІЗАЦІЙ ДО ДІЯЛЬНОСТІ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Book Antiqua"/>
              </a:rPr>
              <a:t>В УМОВАХ ЗМІН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4149720"/>
            <a:ext cx="86328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О. І. Бондарчук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доктор психологічних наук, професор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зав. кафедри психології управління,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ДВНЗ  “Університет менеджменту освіти”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НАПН Україн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Київ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24456"/>
                </a:solidFill>
                <a:latin typeface="Book Antiqua"/>
              </a:rPr>
              <a:t>28 лютого 2015 р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C:\Documents and Settings\Admin\Рабочий стол\человечки\Украина.jpg"/>
          <p:cNvPicPr/>
          <p:nvPr/>
        </p:nvPicPr>
        <p:blipFill>
          <a:blip r:embed="rId1"/>
          <a:stretch/>
        </p:blipFill>
        <p:spPr>
          <a:xfrm>
            <a:off x="214200" y="21420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 Antiqua"/>
              </a:rPr>
              <a:t>Змістовий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блок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технології психологічної підготовки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Зміст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складається з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навчальних ситуацій та завдань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розв’язання яких сприятиме розвитку психологічної готовності управлінців до діяльності в умовах змін загалом і за окремими її напрямами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00cc99"/>
                </a:solidFill>
                <a:latin typeface="Georgia"/>
              </a:rPr>
              <a:t>впровадження інноваційних змін в освітніх організаціях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33cc33"/>
                </a:solidFill>
                <a:latin typeface="Georgia"/>
              </a:rPr>
              <a:t>забезпечення конкурентоздатності освітніх організацій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 умовах змін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cc00ff"/>
                </a:solidFill>
                <a:latin typeface="Georgia"/>
              </a:rPr>
              <a:t>впровадження ґендерного підходу</a:t>
            </a:r>
            <a:r>
              <a:rPr b="1" lang="uk-UA" sz="2000" spc="-1" strike="noStrike">
                <a:solidFill>
                  <a:srgbClr val="cc00ff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 діяльність закладу освіт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</a:t>
            </a:r>
            <a:r>
              <a:rPr b="1" i="1" lang="uk-UA" sz="2000" spc="-1" strike="noStrike">
                <a:solidFill>
                  <a:srgbClr val="99cc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ff66cc"/>
                </a:solidFill>
                <a:latin typeface="Georgia"/>
              </a:rPr>
              <a:t>формування позитивного іміджу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як чинника ефективності діяльності освітніх організацій в умовах змін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до </a:t>
            </a:r>
            <a:r>
              <a:rPr b="1" i="1" lang="uk-UA" sz="2000" spc="-1" strike="noStrike">
                <a:solidFill>
                  <a:srgbClr val="ffcc00"/>
                </a:solidFill>
                <a:latin typeface="Georgia"/>
              </a:rPr>
              <a:t>особистісної саморегуляції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 умовах впровадження змін в освітніх організація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сихологічна підготовка керівників до </a:t>
            </a:r>
            <a:r>
              <a:rPr b="1" i="1" lang="uk-UA" sz="2000" spc="-1" strike="noStrike">
                <a:solidFill>
                  <a:srgbClr val="33ccff"/>
                </a:solidFill>
                <a:latin typeface="Georgia"/>
              </a:rPr>
              <a:t>вдосконалення когнітивного стилю особист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як чинника ефективності їхньої діяльності в умовах змі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Критерії ефективності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підготовки : мотиваційний, когнітивний, операційний та особистісний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7613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424456"/>
                </a:solidFill>
                <a:latin typeface="Book Antiqua"/>
              </a:rPr>
              <a:t>Процесуальний </a:t>
            </a:r>
            <a:r>
              <a:rPr b="1" lang="ru-RU" sz="2500" spc="-1" strike="noStrike">
                <a:solidFill>
                  <a:srgbClr val="424456"/>
                </a:solidFill>
                <a:latin typeface="Book Antiqua"/>
              </a:rPr>
              <a:t>блок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Book Antiqua"/>
              </a:rPr>
              <a:t>технології психологічної підготовки</a:t>
            </a:r>
            <a:br>
              <a:rPr sz="2500"/>
            </a:br>
            <a:r>
              <a:rPr b="1" lang="uk-UA" sz="2500" spc="-1" strike="noStrike">
                <a:solidFill>
                  <a:srgbClr val="424456"/>
                </a:solidFill>
                <a:latin typeface="Book Antiqua"/>
              </a:rPr>
              <a:t>Етапи психологічної підготовки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0128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b050"/>
                </a:solidFill>
                <a:latin typeface="Georgia"/>
              </a:rPr>
              <a:t>підготовчий етап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, на якому визначається ступінь готовності управлінців до саморозвитку та самовдосконаленн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c000"/>
                </a:solidFill>
                <a:latin typeface="Georgia"/>
              </a:rPr>
              <a:t>діагностичний етап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, спрямований на визначення вихідного рівня психологічної готовності управлінців до діяльності в умовах змін на основі актуалізації прагнення до самопізнання суб’єктом особливостей свого внутрішнього світу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Georgia"/>
              </a:rPr>
              <a:t>праксеологічний</a:t>
            </a:r>
            <a:r>
              <a:rPr b="1" i="1" lang="uk-UA" sz="2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що передбачає оволодіння психологічними знаннями, вміннями, навичками здійснення ефективної управлінської діяльності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b050"/>
                </a:solidFill>
                <a:latin typeface="Georgia"/>
              </a:rPr>
              <a:t>акмеологічний,</a:t>
            </a:r>
            <a:r>
              <a:rPr b="1" i="1" lang="uk-UA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спрямований на розвиток конструктивних особистісних новоутворень як складових психологічної готовності до діяльності  в умовах змін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оціально-психологічні засоби реалізації технології психологічної підготовки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714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9900"/>
                </a:solidFill>
                <a:latin typeface="Georgia"/>
              </a:rPr>
              <a:t>Модель редукції упереджень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Дж. Дакіт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на рівні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1) соціальної структури та міжгрупових стосунків, у ситуації спілкування рівних за статусом груп, що мають спільні цілі, досягнення яких вимагає спільної діяльності, і підкоряються єдиним правилам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2) соціального впливу, якому підлягає індиві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3) індивідуальному рівн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На рівні соціальної структури та міжгрупових стосунків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3840" y="2249640"/>
            <a:ext cx="8472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«</a:t>
            </a:r>
            <a:r>
              <a:rPr b="1" i="1" lang="uk-UA" sz="2200" spc="-1" strike="noStrike">
                <a:solidFill>
                  <a:srgbClr val="669900"/>
                </a:solidFill>
                <a:latin typeface="Georgia"/>
              </a:rPr>
              <a:t>перехрещування категорій»,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коли, зокрема, представник «чужої» групи стає членом своєї групи при виконанні спільного завдання, особливо змагального характеру з іншими подібними групам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669900"/>
                </a:solidFill>
                <a:latin typeface="Georgia"/>
              </a:rPr>
              <a:t>розширення репертуару ролей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, програвання ролей, що традиційно вважаються властивим представникам «чужої» груп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На рівні соціальних впливів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cc00"/>
                </a:solidFill>
                <a:latin typeface="Georgia"/>
              </a:rPr>
              <a:t>	</a:t>
            </a:r>
            <a:r>
              <a:rPr b="1" lang="uk-UA" sz="1800" spc="-1" strike="noStrike">
                <a:solidFill>
                  <a:srgbClr val="cccc00"/>
                </a:solidFill>
                <a:latin typeface="Georgia"/>
              </a:rPr>
              <a:t>активізація соціально-психологічних механізмів (ідентифікація, соціальне порівняння, наслідування та ін.) через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Georgia"/>
              </a:rPr>
              <a:t>власний приклад</a:t>
            </a:r>
            <a:r>
              <a:rPr b="1" lang="uk-UA" sz="1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референтних для управлінця осіб, зданих діяти в умовах змін, коли інші шляхом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наслідува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або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відомо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на основі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порівня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власних цінностей з тими, що демонструють «еталонні» управлінці, засвоюють зразки їх поведінки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c99"/>
                </a:solidFill>
                <a:latin typeface="Georgia"/>
              </a:rPr>
              <a:t>пряме навчання</a:t>
            </a:r>
            <a:r>
              <a:rPr b="1" lang="uk-UA" sz="1800" spc="-1" strike="noStrike">
                <a:solidFill>
                  <a:srgbClr val="ffcc99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 рахунок розширення системи уявлень освітян завдяки доповненню новими елементами знань про специфіку управлінської діяльності в умовах змін та відвідну психологічну готовність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так зване, </a:t>
            </a:r>
            <a:r>
              <a:rPr b="1" i="1" lang="uk-UA" sz="1800" spc="-1" strike="noStrike">
                <a:solidFill>
                  <a:srgbClr val="cc0099"/>
                </a:solidFill>
                <a:latin typeface="Georgia"/>
              </a:rPr>
              <a:t>«психологічне щеплення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іншими словами, надання індивіду інформації, що попередньо готує його до можливих негативних наслідків або труднощів на шляху інноваційної діяльності в умовах змін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Georgia"/>
              </a:rPr>
              <a:t>пряме перенавчання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коли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відбувається трансформація акутадіних професійних установок управлінців в ідеальні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800080"/>
                </a:solidFill>
                <a:latin typeface="Georgia"/>
              </a:rPr>
              <a:t>непряме</a:t>
            </a:r>
            <a:r>
              <a:rPr b="1" lang="uk-UA" sz="18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1" i="1" lang="uk-UA" sz="1800" spc="-1" strike="noStrike">
                <a:solidFill>
                  <a:srgbClr val="800080"/>
                </a:solidFill>
                <a:latin typeface="Georgia"/>
              </a:rPr>
              <a:t>перенавчання</a:t>
            </a:r>
            <a:r>
              <a:rPr b="1" lang="uk-UA" sz="18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шляхом інтерпретації результатів діяльності керівника таким чином, щоб сформувати у нього рефлексію, необхідну для усвідомлення та розвитку психологчної готовності до діяльності в умовах змі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На індивідуальному рівні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кладання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індивідуальної програми саморозвитк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Д. Дакіт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«...вільні від упереджень «відповіді» вимагають від людини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а)обізнаності щодо своєї упередженості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б)мотивації змінити свої переконання, виходячи з гуманістичних цінност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)володіння своїми когнітивними ресурсам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Book Antiqua"/>
              </a:rPr>
              <a:t>Перспективи дослідженн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6760" y="2143080"/>
            <a:ext cx="82155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Дослідження проблеми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готовності суб’єктів психологічної підготовки (викладачів вищої школи, в тому числі, закладів ПО) до відповідної діяльності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2" descr="C:\Documents and Settings\Admin\Рабочий стол\человечки\висновки.jpg"/>
          <p:cNvPicPr/>
          <p:nvPr/>
        </p:nvPicPr>
        <p:blipFill>
          <a:blip r:embed="rId1"/>
          <a:stretch/>
        </p:blipFill>
        <p:spPr>
          <a:xfrm>
            <a:off x="357120" y="92880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660564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424456"/>
                </a:solidFill>
                <a:latin typeface="Georgia"/>
              </a:rPr>
              <a:t>Дякую за увагу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!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412640"/>
            <a:ext cx="7775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Контак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О. І. Бондарчук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. Київ, вул. Артема, 52-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ВНЗ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«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Університет менеджменту освіт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, корпус 3, к. 3.1,  3.1.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кафедра психології управлі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Тел.  : (044) 481 38 5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Georgia"/>
              </a:rPr>
              <a:t>E-mail: kafedra.psychology@gmail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Рисунок 5" descr="3D Humans (16).jpg"/>
          <p:cNvPicPr/>
          <p:nvPr/>
        </p:nvPicPr>
        <p:blipFill>
          <a:blip r:embed="rId1"/>
          <a:stretch/>
        </p:blipFill>
        <p:spPr>
          <a:xfrm>
            <a:off x="6066000" y="853920"/>
            <a:ext cx="2773080" cy="20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Book Antiqua"/>
              </a:rPr>
              <a:t>Постановка пробле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57176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Керівники освітніх організацій мусять бути </a:t>
            </a:r>
            <a:r>
              <a:rPr b="1" i="1" lang="uk-UA" sz="2400" spc="-1" strike="noStrike">
                <a:solidFill>
                  <a:srgbClr val="c00000"/>
                </a:solidFill>
                <a:latin typeface="Georgia"/>
              </a:rPr>
              <a:t>готовими до впровадження інновацій в освітній процес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ідповідно до вимог сьогодення, володіти </a:t>
            </a:r>
            <a:r>
              <a:rPr b="1" i="1" lang="uk-UA" sz="2400" spc="-1" strike="noStrike">
                <a:solidFill>
                  <a:srgbClr val="406f8d"/>
                </a:solidFill>
                <a:latin typeface="Georgia"/>
              </a:rPr>
              <a:t>механізмами регулювання в трансформаційні періоди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які б сприяли як 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розвитку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освітньої організації загалом, так і кожного суб’єкта навчально-виховного проце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Це висуває особливі вимоги до 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сихологічної підготовки керівників освітніх організацій до відповідної діяльності</a:t>
            </a: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Documents and Settings\Admin\Рабочий стол\человечки\вопрос1.jpg"/>
          <p:cNvPicPr/>
          <p:nvPr/>
        </p:nvPicPr>
        <p:blipFill>
          <a:blip r:embed="rId1"/>
          <a:stretch/>
        </p:blipFill>
        <p:spPr>
          <a:xfrm>
            <a:off x="500040" y="214200"/>
            <a:ext cx="13572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8896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24456"/>
                </a:solidFill>
                <a:latin typeface="Book Antiqua"/>
              </a:rPr>
              <a:t>Психологічна підготовка особистості до професійної діяльності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2500200"/>
            <a:ext cx="885816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це процес формування психологічної готовності до продуктивної участі в ній через ряд етапів (підготовчий, діагностичний, праксеологічний, акмеологічний), які забезпечують становлення та розвиток психологічної грамотності (</a:t>
            </a: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мінімальний рівен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), психологічної компетентності (</a:t>
            </a:r>
            <a:r>
              <a:rPr b="1" i="1" lang="uk-UA" sz="2400" spc="-1" strike="noStrike">
                <a:solidFill>
                  <a:srgbClr val="406f8d"/>
                </a:solidFill>
                <a:latin typeface="Georgia"/>
              </a:rPr>
              <a:t>достатній рівен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), психологічної культури (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творчий рівен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) особистості</a:t>
            </a:r>
            <a:r>
              <a:rPr b="1" lang="uk-UA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8929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пецифічні особливості керівників освітніх організацій як суб’єктів психологічної підготовки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560" y="18568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00b050"/>
                </a:solidFill>
                <a:latin typeface="Georgia"/>
              </a:rPr>
              <a:t>ґрунтовні професійні знання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більш-менш упорядковані на етапі попереднього навчанн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34c22"/>
                </a:solidFill>
                <a:latin typeface="Georgia"/>
              </a:rPr>
              <a:t>спираються на власний управлінський досвід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може не збігається з пропонованими теоретичними знання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часто мають </a:t>
            </a: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високий рівень тривожн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комплекс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агрози авторитет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знак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моційного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вигоранн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тощо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систему психологічних захистів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спрямована на збереження сталості внутрішнього світу шляхом деструктурування світу зовнішньог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систему смислів, цінностей, оцінних критеріїв, яка часто відрізняється </a:t>
            </a: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певною інерційністю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бмеженою здатністю до змін тощ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5600" y="2571480"/>
            <a:ext cx="690084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Мета дослідження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світлити технологічний аспект психологічної підготовки керівників освітніх організацій до діяльності в умовах змін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5" descr="3D%20Humans%20%2860%29"/>
          <p:cNvPicPr/>
          <p:nvPr/>
        </p:nvPicPr>
        <p:blipFill>
          <a:blip r:embed="rId1"/>
          <a:stretch/>
        </p:blipFill>
        <p:spPr>
          <a:xfrm>
            <a:off x="0" y="2214720"/>
            <a:ext cx="171468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42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кладові технології психологічної підготовки керівників освітніх організацій до діяльності в умовах змін: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928520"/>
            <a:ext cx="8472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концептуальний</a:t>
            </a:r>
            <a:r>
              <a:rPr b="1" i="1" lang="ru-RU" sz="2000" spc="-1" strike="noStrike">
                <a:solidFill>
                  <a:srgbClr val="406f8d"/>
                </a:solidFill>
                <a:latin typeface="Georgia"/>
              </a:rPr>
              <a:t> блок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изначає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теоретичні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засади реалізації технології у системі післядипломної педагогічної освіти:  </a:t>
            </a:r>
            <a:r>
              <a:rPr b="1" i="1" lang="ru-RU" sz="2000" spc="-1" strike="noStrike">
                <a:solidFill>
                  <a:srgbClr val="669900"/>
                </a:solidFill>
                <a:latin typeface="Georgia"/>
              </a:rPr>
              <a:t>гуманістично-ціннісний підхід до психологічної підготовки керівників освітніх організацій до діяльності в умовах змін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змістовий </a:t>
            </a:r>
            <a:r>
              <a:rPr b="1" i="1" lang="ru-RU" sz="2000" spc="-1" strike="noStrike">
                <a:solidFill>
                  <a:srgbClr val="406f8d"/>
                </a:solidFill>
                <a:latin typeface="Georgia"/>
              </a:rPr>
              <a:t>блок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визначає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зміст і напрямки психологічної підготовки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управлінців до діяльності в умовах змін, а також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критерії ефективності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такої підготовки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процесуальний блок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характеризує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процес розвитку психологічної готовності до діяльності в умовах змін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через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ряд етапів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які забезпечують становлення та розвиток її мотиваційної, когнітивної, операційної та особистісної складових, а також обґрунтування найбільш доцільних </a:t>
            </a:r>
            <a:r>
              <a:rPr b="1" i="1" lang="uk-UA" sz="2000" spc="-1" strike="noStrike">
                <a:solidFill>
                  <a:srgbClr val="669900"/>
                </a:solidFill>
                <a:latin typeface="Georgia"/>
              </a:rPr>
              <a:t>форм і методів навчання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кожному з цих етапі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Концептуальний блок </a:t>
            </a:r>
            <a:br>
              <a:rPr sz="2400"/>
            </a:b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технології психологічної підготовки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42884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80008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800080"/>
                </a:solidFill>
                <a:latin typeface="Georgia"/>
              </a:rPr>
              <a:t>Підвищення якості психологічної підготовки керівників освітніх організацій</a:t>
            </a:r>
            <a:r>
              <a:rPr b="1" lang="uk-UA" sz="2000" spc="-1" strike="noStrike">
                <a:solidFill>
                  <a:srgbClr val="80008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ожливе лише за рахунок активізації їх внутрішніх ресурсів, серед яких системостворювальним є, як свідчать результати теоретичного аналізу літератури, </a:t>
            </a:r>
            <a:r>
              <a:rPr b="1" i="1" lang="uk-UA" sz="2000" spc="-1" strike="noStrike">
                <a:solidFill>
                  <a:srgbClr val="009900"/>
                </a:solidFill>
                <a:latin typeface="Georgia"/>
              </a:rPr>
              <a:t>система</a:t>
            </a:r>
            <a:r>
              <a:rPr b="1" lang="uk-UA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9900"/>
                </a:solidFill>
                <a:latin typeface="Georgia"/>
              </a:rPr>
              <a:t>цінностей</a:t>
            </a:r>
            <a:r>
              <a:rPr b="1" lang="uk-UA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як один із центральних механізм внутрішньої регуляції соціальної поведінки люди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Г. Олпорт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	</a:t>
            </a: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Цінн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- установки особливого роду, які визначають особистісну структуру і сприймаються як стандарти, норми, що є основою для вибору, який здійснює людин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людині необхідно упорядкувати знання про світ, досягти </a:t>
            </a:r>
            <a:r>
              <a:rPr b="1" i="1" lang="uk-UA" sz="2000" spc="-1" strike="noStrike">
                <a:solidFill>
                  <a:srgbClr val="c00000"/>
                </a:solidFill>
                <a:latin typeface="Georgia"/>
              </a:rPr>
              <a:t>гармонії форми і цінностей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на основі специфічного досвіду індивіда, що повторюєть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Georgia"/>
              </a:rPr>
              <a:t>О. Бал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Цінності є </a:t>
            </a:r>
            <a:r>
              <a:rPr b="1" i="1" lang="uk-UA" sz="2000" spc="-1" strike="noStrike">
                <a:solidFill>
                  <a:srgbClr val="c4652d"/>
                </a:solidFill>
                <a:latin typeface="Georgia"/>
              </a:rPr>
              <a:t>базою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без якої фахівець може бути носієм лише професійних функці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утність гуманістично-ціннісного підходу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7120" y="1571760"/>
            <a:ext cx="84441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d60093"/>
                </a:solidFill>
                <a:latin typeface="Georgia"/>
              </a:rPr>
              <a:t>гуманізація різноманітних аспектів психологічної підготовки </a:t>
            </a: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через</a:t>
            </a:r>
            <a:r>
              <a:rPr b="1" i="1" lang="uk-UA" sz="2000" spc="-1" strike="noStrike">
                <a:solidFill>
                  <a:srgbClr val="d60093"/>
                </a:solidFill>
                <a:latin typeface="Georgia"/>
              </a:rPr>
              <a:t>: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а) безоцінне позитивне прийняття іншої людини; б) активне емпатійне переживання, слухання; в) конгруентне, тобто адекватне, справжнє і щире самовираження себе в спілкуванні з іншою людиною; г) гармонізацію стосунків особистості із своїм внутрішнім, автентичним Я;</a:t>
            </a:r>
            <a:r>
              <a:rPr b="1" i="1" lang="uk-UA" sz="2000" spc="-1" strike="noStrike">
                <a:solidFill>
                  <a:srgbClr val="d60093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фасилітація професійного й особистісного розвитку в умовах постійних змін;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прийняття унікальної неповторності кожного учасника навчального процесу та довіра 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– особистісна впевненість педагога у можливостях і здібностях слухачів</a:t>
            </a: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;</a:t>
            </a:r>
            <a:r>
              <a:rPr b="1" lang="uk-UA" sz="2000" spc="-1" strike="noStrike">
                <a:solidFill>
                  <a:srgbClr val="ff33cc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створення умов для </a:t>
            </a:r>
            <a:r>
              <a:rPr b="1" i="1" lang="uk-UA" sz="2000" spc="-1" strike="noStrike">
                <a:solidFill>
                  <a:srgbClr val="cc0099"/>
                </a:solidFill>
                <a:latin typeface="Georgia"/>
              </a:rPr>
              <a:t>максимального вияву творчих потенцій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вільного розвитку, самореалізації, самотворчості у процесі діяльності;</a:t>
            </a:r>
            <a:r>
              <a:rPr b="1" i="1" lang="uk-UA" sz="19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Умови  реалізації гуманістично-ціннісного підходу</a:t>
            </a:r>
            <a:br>
              <a:rPr sz="2200"/>
            </a:b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 в</a:t>
            </a: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процесі психологічної підготовки до діяльності в умовах змін у системі ППО</a:t>
            </a:r>
            <a:br>
              <a:rPr sz="2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рганізація процесу </a:t>
            </a:r>
            <a:r>
              <a:rPr b="1" i="1" lang="uk-UA" sz="1800" spc="-1" strike="noStrike">
                <a:solidFill>
                  <a:srgbClr val="ff9900"/>
                </a:solidFill>
                <a:latin typeface="Georgia"/>
              </a:rPr>
              <a:t>на засадах партнерства, спільної діяльності всіх суб’єктів, розвиток неупередженого ставлення до інших людей та їх дій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Georgia"/>
              </a:rPr>
              <a:t>Ю. Кулюткін: «Лише тією мірою, якою доросла людина отримує можливість реалізувати себе в системі соціально-трудових відносин, що визначають її статус, формується її потреба у все більш високих професійних досягненнях і в розвитку здібностей, що зумовлюють успішність діяльності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створення </a:t>
            </a:r>
            <a:r>
              <a:rPr b="1" i="1" lang="uk-UA" sz="1800" spc="-1" strike="noStrike">
                <a:solidFill>
                  <a:srgbClr val="ff66cc"/>
                </a:solidFill>
                <a:latin typeface="Georgia"/>
              </a:rPr>
              <a:t>розвивального соціального середовища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в якому поступово складаються групові норми й цінності професійного вдосконалення , особистісного розвитку, психологічної культури загал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усвідомлення та врахува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в процесі психологічної підготовки  </a:t>
            </a: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специфічних особливостей навчання дорослих учнів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із спиранням на їхній професійний досвід; ціннісного ставлення слухачів до дійсності, показників їх психологічної готовності до діяльності в умовах змін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самоуправлі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амопізнання, самоаналіз, саморегуляція, самовдосконалення тощо)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розвитком психологічної готовності до діяльності в умовах змі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5:12:05Z</dcterms:created>
  <dc:creator>олена</dc:creator>
  <dc:description/>
  <dc:language>en-US</dc:language>
  <cp:lastModifiedBy>psihology</cp:lastModifiedBy>
  <dcterms:modified xsi:type="dcterms:W3CDTF">2015-02-27T08:01:04Z</dcterms:modified>
  <cp:revision>124</cp:revision>
  <dc:subject/>
  <dc:title>Післядипломна педагогічна освіта як чинник особистісного розвитку керівників освітніх організацій</dc:title>
</cp:coreProperties>
</file>