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840-93FA-47D2-B693-FA25C765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92A-3583-4EF7-B733-4A33555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98C-1D2F-4D4B-89F1-77DE3596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4ED-9057-445C-B7BF-DC44A490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F75B-5126-45F5-8E80-08BCC530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4FC-3680-4099-B9DE-ABBB26E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4C3-DEDF-4EA6-9D86-9D28A86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81BE-6F6F-4223-827E-A8D03B74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0BEA-9E84-4B64-A63B-7D34BA00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02E7-386B-47FB-BE58-FCE72A4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30C0-A581-45EF-9827-D8B3336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557-8660-4B74-B55A-D0956EA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8CA8-C7D5-4BD8-A990-E0ECC21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A13F-1CA6-4B0F-95A3-A4F05F0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C6F4-F68D-4D31-91C6-F9A1884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BD8-D081-4A00-A984-45FC980F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7D9-5200-4BF8-85A3-80B8C0C1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643AB-ABED-4E8D-BFBB-AFFA16F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93B24-EA13-4698-8E08-50F0D24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68B11-4B45-4E68-AADA-FAFCC0E5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2D4B0-BBB7-4678-8040-EE800FD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ACFB0-A616-4A65-9C48-00EF4498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398-5CDC-4562-AFFB-04082D0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C7E99-1BD6-4DB7-9B6E-BCB986F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DD897-FCF8-4B74-8D95-1F05EC8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24DCC-E9B6-48E4-8BC7-FAA2B2F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EC1D-2D2A-48D7-B5E6-ACEAC13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7527A-3C79-49A6-B0A6-80EF14AE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2A54E-D882-49A0-B189-8CAF9E74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322D0-03DE-41E3-873B-FE3EFDFD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40E0-C9CE-441F-95D2-18786E13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917A-66B1-4948-A4BD-55624D0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50AB-6EE7-4C49-86AF-00235BA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CB4-4880-43B6-9423-11C2F14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2D96-6AB2-4241-8644-95890EB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1787-171B-4C02-8E21-C012D76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DE99-1A7F-4C26-9C44-645E336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3EF3-3D18-4488-9E36-B3BE808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0224-DBF8-4000-B022-F0B889D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C1C8-6845-4065-9D51-75CA9F7A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C662-C919-490E-8B98-33CF67B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9984-859A-4970-A5FE-340273A1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B55C-B1AB-4C68-BE7B-D1C5E54B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2B8-E547-4671-BA2C-961476C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3FA-4690-408D-8245-4C9CC8D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2B4-C8CB-49F8-8A3D-6D51D6B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D51-B697-4733-BF8E-C13D176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FFE-7816-4501-82DF-BAE76F9B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727-4CCE-43BA-82F9-C4A4619A65F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B54-C420-4E58-8E63-CBF509A20A5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A2D5-173E-4FDC-9F87-BECC29B2EC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769-5AD7-4BAF-8D5C-4E25FD650D5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980640"/>
            <a:ext cx="8072640" cy="25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Book Antiqua"/>
              </a:rPr>
              <a:t>Психологічн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uk-UA" sz="3600" spc="-1" strike="noStrike">
                <a:solidFill>
                  <a:srgbClr val="ffffff"/>
                </a:solidFill>
                <a:latin typeface="Book Antiqua"/>
              </a:rPr>
              <a:t> особливості взаємодії керівників освітніх організацій у віртуальному освітньому середовищі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4149360"/>
            <a:ext cx="8632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О. І. Бондарчук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зав. кафедри психології управління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доктор психологічних наук, професор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24456"/>
                </a:solidFill>
                <a:latin typeface="Book Antiqua"/>
              </a:rPr>
              <a:t>ДВНЗ  “Університет менеджменту освіти”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24456"/>
                </a:solidFill>
                <a:latin typeface="Book Antiqua"/>
              </a:rPr>
              <a:t>НАПН Украї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424456"/>
                </a:solidFill>
                <a:latin typeface="Book Antiqua"/>
              </a:rPr>
              <a:t>Київ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424456"/>
                </a:solidFill>
                <a:latin typeface="Book Antiqua"/>
              </a:rPr>
              <a:t>27 квітня 2015 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C:\Documents and Settings\Admin\Рабочий стол\человечки\Украина.jpg"/>
          <p:cNvPicPr/>
          <p:nvPr/>
        </p:nvPicPr>
        <p:blipFill>
          <a:blip r:embed="rId1"/>
          <a:stretch/>
        </p:blipFill>
        <p:spPr>
          <a:xfrm>
            <a:off x="214200" y="21420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Віртуальні освітні середовища містять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26828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i="1" lang="uk-UA" sz="2400" spc="-1" strike="noStrike">
                <a:solidFill>
                  <a:srgbClr val="0000ff"/>
                </a:solidFill>
                <a:latin typeface="Georgia"/>
              </a:rPr>
              <a:t>людей (користувачів ресурсів),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які взаємодіють в них з метою задоволення певних потреб чи виконання певних соціальних ролей, у тому числі: щодо: а) обміну інформацією; б) пошуку та підтримання контактів відповідно до інтересів у діловій сфері, потреб професійного самовдосконалення та особистісного зростання; в) самоствердження та самореалізації через презентацію себе, своїх поглядів, думок, переконань референтній спільнот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i="1" lang="uk-UA" sz="2400" spc="-1" strike="noStrike">
                <a:solidFill>
                  <a:srgbClr val="cc00ff"/>
                </a:solidFill>
                <a:latin typeface="Georgia"/>
              </a:rPr>
              <a:t>норми (ритуали, принципи та правила взаємодії, забезпечення безпеки особистості в процесі взаємодії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тощо), які забезпечують певні зв’язки між учасник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i="1" lang="uk-UA" sz="2400" spc="-1" strike="noStrike">
                <a:solidFill>
                  <a:srgbClr val="6600ff"/>
                </a:solidFill>
                <a:latin typeface="Georgia"/>
              </a:rPr>
              <a:t>комп’ютерні системи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які забезпечують підтримку соціальної взаємодії на основі критеріїв участі (доступу в мережу) та є такими, що створюють відчуття близькості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А. Л. Журавльов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Багатоканальність і децентралізованість, властива компютерним мережам, дозволяє поєднати на перший погляд несумісне – з одного боку, зростаючу автономію індивідів, а з іншого – зростаючу залежність від суспільної солідарності та підтрим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Взаємодія у віртуальному освітньому просторі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рганізація </a:t>
            </a:r>
            <a:r>
              <a:rPr b="1" i="1" lang="uk-UA" sz="2400" spc="-1" strike="noStrike">
                <a:solidFill>
                  <a:srgbClr val="996633"/>
                </a:solidFill>
                <a:latin typeface="Georgia"/>
              </a:rPr>
              <a:t>спільної діяльності людей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що має на меті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акумулювання інформації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її упорядкування, </a:t>
            </a:r>
            <a:r>
              <a:rPr b="1" i="1" lang="uk-UA" sz="2400" spc="-1" strike="noStrike">
                <a:solidFill>
                  <a:srgbClr val="006600"/>
                </a:solidFill>
                <a:latin typeface="Georgia"/>
              </a:rPr>
              <a:t>колективний доступ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обмін інформацією та її </a:t>
            </a:r>
            <a:r>
              <a:rPr b="1" i="1" lang="uk-UA" sz="2400" spc="-1" strike="noStrike">
                <a:solidFill>
                  <a:srgbClr val="009900"/>
                </a:solidFill>
                <a:latin typeface="Georgia"/>
              </a:rPr>
              <a:t>обговорення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на основі соціального сприйняття, взаєморозуміння, емоційного ставлення та підтримки між користувачами.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езультатом спільної діяльності є </a:t>
            </a:r>
            <a:r>
              <a:rPr b="1" i="1" lang="uk-UA" sz="2400" spc="-1" strike="noStrike">
                <a:solidFill>
                  <a:srgbClr val="424456"/>
                </a:solidFill>
                <a:latin typeface="Georgia"/>
              </a:rPr>
              <a:t>перетворення певних об’єкті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що мають для користувачів предметно-практичну, пізнавальну та іншу цінність, створення нових віртуальних об’єктів; </a:t>
            </a:r>
            <a:r>
              <a:rPr b="1" i="1" lang="uk-UA" sz="2400" spc="-1" strike="noStrike">
                <a:solidFill>
                  <a:srgbClr val="996633"/>
                </a:solidFill>
                <a:latin typeface="Georgia"/>
              </a:rPr>
              <a:t>нових міжособистісних зв'язкі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тощ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8929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пецифічні особливості слухачів післядипломної педагогічної освіти як суб’єктів взаємодії у віртуальному освітньому просторі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2560" y="18568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00b050"/>
                </a:solidFill>
                <a:latin typeface="Georgia"/>
              </a:rPr>
              <a:t>ґрунтовні професійні знання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більш-менш упорядковані на етапі попереднього навчанн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34c22"/>
                </a:solidFill>
                <a:latin typeface="Georgia"/>
              </a:rPr>
              <a:t>спираються на власний професійний досвід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може не збігається з пропонованими знання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асто мають </a:t>
            </a: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високий рівень тривож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комплекс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грози авторитет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знак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моційного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вигоранн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тощ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систему психологічних захист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спрямована на збереження сталості внутрішнього світу шляхом деструктурування світу зовнішньог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систему смислів, цінностей, оцінних критеріїв, яка часто відрізняється 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певною інерційніст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бмеженою здатністю до змін тощ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604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Georgia"/>
              </a:rPr>
              <a:t>Переваги взаємодії у віртуальному освітньому просторі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1587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Загальн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доступність, трансцендентність, розширення можливостей людини у спілкуванні та інтеракц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гнучкість, необмеженість у часі, можливість здійснення власної навігації як передумови прояви суб'єктної активності особистості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олілогічність можливість не лише міжособистісної, а й внутрішньогрупової та міжгрупової взаємод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б'єднання учасників взаємодії у спільній діяльності з перетворення певних об'єктів, що мають для них предметно-практичну, пізнавальну цінніст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пецифічні для підвищення кваліфікації слухачі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оява нових мотивуючих факторів підвищення кваліфікації:                 1) новизна пропонованих форм роботи, що формує почуття причетності до сучасних технологій; 2) розширення можливості самостійних дій з опорою на власний досвід управлінської діяльності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блеми взаємодії у віртуальному освітньому простор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Загальн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бмеження сенсорного досвіду, неможливість забезпечити повною мірою «ефект присутності»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еренавантаження одних джерел оцінки індивідуально-психологічних якостей партнера по взаємодії і «незадіяння» інших (наприклад, надлишок візуальних образів і відсутність невербальних ознак у повному обсязі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кладнощіі у здійсненні невербальної комунікац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формальне ставлення до навчання, загроза втрати особистісного сенсу, відчуження та ін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пецифічні для підвищення кваліфікації слухач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едостатній рівень ІКТ-компетентності значної частини викладачів та слухачів курсів підвищення кваліфікації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аявність психологічних бар'єрів у частини слухачів при роботі з комп'ютер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едостатній рівень психологічної викладачів системи ПО з організації дистанційного навчання загалом  і взаємодії у віртуальному освітньому просторі зокрем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Умови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реалізації гуманістично-ціннісного підходу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в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процесі взаємодії управлінців у віртуальному освітньому просторі 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рганізація процесу взаємодії </a:t>
            </a:r>
            <a:r>
              <a:rPr b="1" i="1" lang="uk-UA" sz="1800" spc="-1" strike="noStrike">
                <a:solidFill>
                  <a:srgbClr val="ff9900"/>
                </a:solidFill>
                <a:latin typeface="Georgia"/>
              </a:rPr>
              <a:t>на засадах партнерства, спільної діяльності всіх суб’єктів, розвиток неупередженого ставлення до інших людей та їх дій,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Ю. Кулюткін: «Лише тією мірою, якою доросла людина отримує можливість реалізувати себе в системі соціально-трудових відносин, що визначають її статус, формується її потреба у все більш високих професійних досягненнях і в розвитку здібностей, що зумовлюють успішність діяльності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творення </a:t>
            </a:r>
            <a:r>
              <a:rPr b="1" i="1" lang="uk-UA" sz="1800" spc="-1" strike="noStrike">
                <a:solidFill>
                  <a:srgbClr val="ff66cc"/>
                </a:solidFill>
                <a:latin typeface="Georgia"/>
              </a:rPr>
              <a:t>розвивального освітньо-професійного середовища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в якому поступово складаються групові норми й цінності професійного вдосконалення, особистісного розвитку, психологічної культури загал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усвідомлення та врах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 процесі навчання  </a:t>
            </a: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специфічних особливостей навчання дорослих учн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із спиранням на їхній професійний досвід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самоуправлі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амопізнання, самоаналіз, саморегуляція, самовдосконалення тощо)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професійним розвитком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Georgia"/>
              </a:rPr>
              <a:t>Психологічна готовність до дистанційного навчанн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інтегральне особистісне утворення,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що містить сукупність мотивів, знань, умінь, особистісних якостей, що забезпечують високу успішність учнів в умовах дистанційного навчанн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У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труктурі психологічної готовност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ґрунтуючись на підході Л. Карамушки, можна виділити наступні складові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6633"/>
                </a:solidFill>
                <a:latin typeface="Georgia"/>
              </a:rPr>
              <a:t>1)мотивацій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зовнішніх і внутрішніх мотивів, забезпечують розвинену мотивацію дистанційного навчання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2)</a:t>
            </a:r>
            <a:r>
              <a:rPr b="1" i="1" lang="uk-UA" sz="1800" spc="-1" strike="noStrike">
                <a:solidFill>
                  <a:srgbClr val="808000"/>
                </a:solidFill>
                <a:latin typeface="Georgia"/>
              </a:rPr>
              <a:t>когнітив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знань про сутність, переваги та проблеми дистанційного навчання, вимоги до його суб'єктам, інформаційно-комунікаційних технологіях тощо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c00cc"/>
                </a:solidFill>
                <a:latin typeface="Georgia"/>
              </a:rPr>
              <a:t>3)операцій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умінь і навичок оволодіння спеціально розробленими навчальними матеріалами з використанням сучасних інформаційно-комунікаційних технологій; партнерської взаємодії у віртуальному освітньому просторі та ін.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4)</a:t>
            </a:r>
            <a:r>
              <a:rPr b="1" i="1" lang="uk-UA" sz="1800" spc="-1" strike="noStrike">
                <a:solidFill>
                  <a:srgbClr val="006600"/>
                </a:solidFill>
                <a:latin typeface="Georgia"/>
              </a:rPr>
              <a:t>особистіс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як сукупність особистісних якостей (відповідальність, самоефективність, толерантність до невизначеності, інтернальний локус контролю, гнучкість, високий рівень саморегуляції та самоконтролю та ін.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66056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424456"/>
                </a:solidFill>
                <a:latin typeface="Georgia"/>
              </a:rPr>
              <a:t>Дякую за увагу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1412640"/>
            <a:ext cx="7775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Контак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О. І. Бондарчук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. Київ, вул. Артема, 52-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ВНЗ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«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Університет менеджменту осві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, корпус 3, к. 3.1,  3.1.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кафедра психології управлі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Тел.  : (044) 481 38 5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Georgia"/>
              </a:rPr>
              <a:t>E-mail: kafedra.psychology@gmail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Рисунок 5" descr="3D Humans (16).jpg"/>
          <p:cNvPicPr/>
          <p:nvPr/>
        </p:nvPicPr>
        <p:blipFill>
          <a:blip r:embed="rId1"/>
          <a:stretch/>
        </p:blipFill>
        <p:spPr>
          <a:xfrm>
            <a:off x="6066000" y="853920"/>
            <a:ext cx="277308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оява нових інформаційно-комунікаційних технологі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істотна трансформація усталених соціальних практик, породження нових форм соціальних інтеракцій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еренесення значної частини соціальних інтеракцій з реального до Інтернет - простору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стрімке зростання кількості користувачів віртуальних соціальних мереж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571680" y="5000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57176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Активне впровадження дистанційного навчання у процес підвищення кваліфікації в умовах післядипломної педагогічної освіти зумовлює необхідність </a:t>
            </a:r>
            <a:r>
              <a:rPr b="1" i="1" lang="uk-UA" sz="2800" spc="-1" strike="noStrike">
                <a:solidFill>
                  <a:srgbClr val="53548a"/>
                </a:solidFill>
                <a:latin typeface="Georgia"/>
              </a:rPr>
              <a:t>організації ефективної взаємодії слухачів у віртуальному освітньому просторі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 як систематичної та ефективної спільної діяльності на основі інформаційно-комп’ютерних технологій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35712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95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Теоретична база дослідження проблем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нцептуальні положення мережевого підходу до аналізу особливостей функціонування віртуального простору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Р. Берт, М. Грановеттер та ін.), у тому числі,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режеві аспекти соціальної взаємодії та Інтернет-соціалізації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С. Бондаренко, А. Войскунський, А. Жичкіна, А. Лучинкіна, Д. Пріс, Дж. Сулер та ін.)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психолого-педагогічні засади проектування нових інформаційних технологій та віртуального освітнього простору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Ю. І. Машбиць, М. Л. Смульсон та ін.)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психологічні засади розвитку готовності менеджерів освіти до здійснення управлінської діяльності, у тому числі, в умовах післядипломної педагогічної освіти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О. Бондарчук, Н. Коломінський, Л. Карамушка та ін.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мпетентнісний підхід до управління безперервною освітою керівників освітніх організацій на основі (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В. Маслов, В. Олійник та ін.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C:\Documents and Settings\Admin\Рабочий стол\человечки\методики.jpg"/>
          <p:cNvPicPr/>
          <p:nvPr/>
        </p:nvPicPr>
        <p:blipFill>
          <a:blip r:embed="rId1"/>
          <a:stretch/>
        </p:blipFill>
        <p:spPr>
          <a:xfrm>
            <a:off x="0" y="333360"/>
            <a:ext cx="1692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908000" y="3284640"/>
            <a:ext cx="6778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та лекції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значити психологічні особливості взаємодії у віртуальному освітньому просторі, переваги та проблеми такої взаємодії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3D%20Humans%20%2860%29"/>
          <p:cNvPicPr/>
          <p:nvPr/>
        </p:nvPicPr>
        <p:blipFill>
          <a:blip r:embed="rId1"/>
          <a:stretch/>
        </p:blipFill>
        <p:spPr>
          <a:xfrm>
            <a:off x="468360" y="1700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Основні питанн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533680"/>
            <a:ext cx="876924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утність взаємодії у віртуальному освітньому просторі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ереваги взаємодії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віртуальному освітньому просторі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роблеми взаємодії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віртуальному освітньому просторі та умови їх розв'яза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4" descr="ANd9GcQexPnfNKEu9xjHQpBoLPZwQPTDVGTZnFrXR0muXPMWDOV290D7UoxiSA"/>
          <p:cNvPicPr/>
          <p:nvPr/>
        </p:nvPicPr>
        <p:blipFill>
          <a:blip r:embed="rId1"/>
          <a:stretch/>
        </p:blipFill>
        <p:spPr>
          <a:xfrm>
            <a:off x="755640" y="620640"/>
            <a:ext cx="1512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Book Antiqua"/>
              </a:rPr>
              <a:t>Літератур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арлоу Дж. П. Декларация независимости Киберпространств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/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ж. П. Барлоу // Компьютерра.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– [Електронний ресурс]. – Режим доступу : http://www.computerra.ru/offline/1997/206/678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уманитарные исследования в Интернете; под ред А. Е. Войскунского. – М.  : Можайск-Терра, 2000. –  432 с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истанційне навчання: психологічні засади : монографія / [М.Л. Смульсон, Ю.І. Машбиць, М.І. Жалдак та ін.] ; за ред. М.Л. Смульсон. — Кіровоград : Імекс-ЛТД, 2012. — 240 с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учинкина А. И.  Психология человека в Интернете : монография          / А. И. Лучинкина. – К.  : Информационные системы, 2012. – 200 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unities in cyberspace ; ed. M. A. Smith and P. Kollock. – London; New York : Rutledge, 1999 /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[Електронний ресурс]. – Режим доступу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https://books.google.com.ua/books?id=FrxgfAca7jUC&amp;pg=PA126&amp;lpg=PA126&amp;dq=Communities+in+cyberspace ;+ed.+M. A. Smith+and+P. Kollock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ece J. Online Communities: Designing Usability, Supporting Sociability / Jennifer J. Preece. – N.Y. : John Wiley Sons, 2000. –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68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939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Сутність взаємодії у віртуальному </a:t>
            </a:r>
            <a:br>
              <a:rPr sz="3200"/>
            </a:b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освітньому простор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988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іртуальний: «virtualis» (лат.) – «можливий, такий, що може або мусить з’явитися за певних умов</a:t>
            </a:r>
            <a:r>
              <a:rPr b="0" i="1" lang="uk-UA" sz="2800" spc="-1" strike="noStrike">
                <a:solidFill>
                  <a:srgbClr val="000000"/>
                </a:solidFill>
                <a:latin typeface="Georgia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оняття «віртуальний» відносять до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образів, моделей чи артефактів, які уявляються користувачу реальними, але фактично не</a:t>
            </a:r>
            <a:r>
              <a:rPr b="1" i="1" lang="uk-UA" sz="2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існуют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будучи створеними відповідними програмними засобам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тже,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віртуальним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називають об’єкт, який повністю виконує свої функції, але не має фізичного втілення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896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Специфіка віртуального освітнього простору як середовища, через яке відбувається взаємодія учасникі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988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ртуальність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никнення нових, віртуальних продуктів, що можуть існувати самостій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елінійний засіб організацій, коли існує один вхід і безліч виходів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гіпертекстова організація, можливість різноманітних зв’язків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епрограмованість, альтернативність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12:05Z</dcterms:created>
  <dc:creator>олена</dc:creator>
  <dc:description/>
  <dc:language>en-US</dc:language>
  <cp:lastModifiedBy>User</cp:lastModifiedBy>
  <dcterms:modified xsi:type="dcterms:W3CDTF">2015-04-26T07:21:47Z</dcterms:modified>
  <cp:revision>113</cp:revision>
  <dc:subject/>
  <dc:title>Післядипломна педагогічна освіта як чинник особистісного розвитку керівників освітніх організацій</dc:title>
</cp:coreProperties>
</file>