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1DE4F-2F55-4A30-AAA3-3D88CBCBB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41140-DB55-496B-A0B8-A640FE621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D46B9-E3CB-4EDD-8C85-F8C3F9616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23910-4907-4EE0-9868-257FC8477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9C1ED-BB33-4FD6-94C1-E89915500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3A84E-EDEC-4EF0-8EE7-D25448817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58890-2555-4A08-B374-AFE94039D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71E6F-5A24-43E3-B325-4183F3846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FDA10-83EF-4823-8ECD-5A148BC48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8DEEF-6885-4728-AC6A-55664EB6E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534DB-53D1-447E-8D3D-9823185F9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9E1F2-5D3B-4E38-9311-471CAB4C5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BF66C-5A13-457F-91D1-ACD8930D3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68D17-2768-4B4D-B3CB-17E7FBF53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9B0DB-FB28-40B8-BA3D-9EF16567B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99689-EE90-403B-ADE2-C0C2192B0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2927F-7226-4054-A180-6204759B8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F10EB7A-DB93-4A84-8FCE-F542BD692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E43199C-05D6-4D45-AA13-BD616A514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EAF9759-4390-4B36-B612-C6E52DEBB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BDDB29-3D62-4251-827B-D8D572DD7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9C00338-BB8E-4D85-8B27-5DDCCF0CC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77B6B-03BE-40BF-8F5F-6863133BB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7247056-6E80-4D99-BDF4-B269FAFD7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12E0D68-BDEF-49C8-8A78-E6ECF9AA1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56DEDE0-ACED-49D9-9E63-F245BFBD2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B5B9114-FE99-4082-8B8D-1FF24E630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3734692-56DB-4908-AD00-35E70B7C8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9CB1FD5-26EE-4DDE-B506-462871638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B470D16-3C1A-4BC1-AB41-C1FA325D3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1E03FB-419B-4DFB-89CD-4418B67B0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373965-DD55-431F-86C4-0C1C8AC08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D1C279-2ED7-4FFC-B53B-3906826F1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7138B-7563-4682-8726-F30D58E14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2AE7BD-54DE-4564-B8A5-E3DE4A50C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AD149A-CBCE-4749-9D02-CAC8B77B3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96A9EB-DBE9-4301-817F-E291412B6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F77E82-D9D7-47A5-8875-4D6739559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6536BA-D4A3-40BD-BA38-58C655042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E34A2B-E053-4955-A0EB-568BAE9AB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4DF8B3-2FA1-4BBD-AF85-A8BE578D7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E9D278-7A49-4E2E-B7D2-EB9B615D2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CD2E83-A2F1-4256-86E9-6BF384052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AC478-C88D-4EDD-B6C0-95F982114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96BB2-23DD-45FD-BB60-3FEB0E471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AD7A3-5649-4DE3-9856-C1E3C7B60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ED015-9FE8-4968-87BC-85541AEE4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B059D-C41C-4ABC-B035-0A6E6EBD3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AFA24-A105-4EA4-97F6-490033AD4178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22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23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4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5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26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Скругленный прямоугольник 29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Скругленный прямоугольник 30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6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9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10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1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62012-0541-4F7A-A616-7F2A66E0918F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52DEC-88A5-40D2-BE9E-7CEAF3CBB954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8DA43-EE60-4F85-A72E-9C12F061B6B8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14240" y="980640"/>
            <a:ext cx="8072640" cy="2584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Book Antiqua"/>
              </a:rPr>
              <a:t>Психологічн</a:t>
            </a:r>
            <a:r>
              <a:rPr b="1" lang="uk-UA" sz="3600" spc="-1" strike="noStrike">
                <a:solidFill>
                  <a:srgbClr val="ffffff"/>
                </a:solidFill>
                <a:latin typeface="Arial"/>
              </a:rPr>
              <a:t>і</a:t>
            </a:r>
            <a:r>
              <a:rPr b="1" lang="uk-UA" sz="3600" spc="-1" strike="noStrike">
                <a:solidFill>
                  <a:srgbClr val="ffffff"/>
                </a:solidFill>
                <a:latin typeface="Book Antiqua"/>
              </a:rPr>
              <a:t> особливості взаємодії керівників освітніх організацій у віртуальному освітньому середовищі</a:t>
            </a: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 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250920" y="4149360"/>
            <a:ext cx="8632800" cy="270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 algn="ctr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424456"/>
                </a:solidFill>
                <a:latin typeface="Book Antiqua"/>
              </a:rPr>
              <a:t>О. І. Бондарчук, 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63360" indent="0" algn="ctr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424456"/>
                </a:solidFill>
                <a:latin typeface="Book Antiqua"/>
              </a:rPr>
              <a:t>зав. кафедри психології управління, 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63360" indent="0" algn="ctr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424456"/>
                </a:solidFill>
                <a:latin typeface="Book Antiqua"/>
              </a:rPr>
              <a:t>доктор психологічних наук, професор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63360" indent="0" algn="ctr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424456"/>
                </a:solidFill>
                <a:latin typeface="Book Antiqua"/>
              </a:rPr>
              <a:t>ДВНЗ  “Університет менеджменту освіти”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3360" indent="0" algn="ctr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424456"/>
                </a:solidFill>
                <a:latin typeface="Book Antiqua"/>
              </a:rPr>
              <a:t>НАПН України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3360" indent="0" algn="ctr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3360" indent="0" algn="ctr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700" spc="-1" strike="noStrike">
                <a:solidFill>
                  <a:srgbClr val="424456"/>
                </a:solidFill>
                <a:latin typeface="Book Antiqua"/>
              </a:rPr>
              <a:t>Київ,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63360" indent="0" algn="ctr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700" spc="-1" strike="noStrike">
                <a:solidFill>
                  <a:srgbClr val="424456"/>
                </a:solidFill>
                <a:latin typeface="Book Antiqua"/>
              </a:rPr>
              <a:t>27 квітня 2015 р.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16" name="Picture 4" descr="C:\Documents and Settings\Admin\Рабочий стол\человечки\Украина.jpg"/>
          <p:cNvPicPr/>
          <p:nvPr/>
        </p:nvPicPr>
        <p:blipFill>
          <a:blip r:embed="rId1"/>
          <a:stretch/>
        </p:blipFill>
        <p:spPr>
          <a:xfrm>
            <a:off x="214200" y="214200"/>
            <a:ext cx="1524240" cy="1524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-360" y="475920"/>
            <a:ext cx="939636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424456"/>
                </a:solidFill>
                <a:latin typeface="Book Antiqua"/>
              </a:rPr>
              <a:t>Віртуальні освітні середовища містять:</a:t>
            </a:r>
            <a:endParaRPr b="0" lang="en-US" sz="32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0" y="1268280"/>
            <a:ext cx="914400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42640" algn="just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uk-UA" sz="20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uk-UA" sz="2400" spc="-1" strike="noStrike">
                <a:solidFill>
                  <a:srgbClr val="000000"/>
                </a:solidFill>
                <a:latin typeface="Georgia"/>
              </a:rPr>
              <a:t>1) </a:t>
            </a:r>
            <a:r>
              <a:rPr b="1" i="1" lang="uk-UA" sz="2400" spc="-1" strike="noStrike">
                <a:solidFill>
                  <a:srgbClr val="0000ff"/>
                </a:solidFill>
                <a:latin typeface="Georgia"/>
              </a:rPr>
              <a:t>людей (користувачів ресурсів),</a:t>
            </a:r>
            <a:r>
              <a:rPr b="1" lang="uk-UA" sz="2400" spc="-1" strike="noStrike">
                <a:solidFill>
                  <a:srgbClr val="000000"/>
                </a:solidFill>
                <a:latin typeface="Georgia"/>
              </a:rPr>
              <a:t> які взаємодіють в них з метою задоволення певних потреб чи виконання певних соціальних ролей, у тому числі: щодо: а) обміну інформацією; б) пошуку та підтримання контактів відповідно до інтересів у діловій сфері, потреб професійного самовдосконалення та особистісного зростання; в) самоствердження та самореалізації через презентацію себе, своїх поглядів, думок, переконань референтній спільноті;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6680" indent="-242640" algn="just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Georgia"/>
              </a:rPr>
              <a:t>2) </a:t>
            </a:r>
            <a:r>
              <a:rPr b="1" i="1" lang="uk-UA" sz="2400" spc="-1" strike="noStrike">
                <a:solidFill>
                  <a:srgbClr val="cc00ff"/>
                </a:solidFill>
                <a:latin typeface="Georgia"/>
              </a:rPr>
              <a:t>норми (ритуали, принципи та правила взаємодії, забезпечення безпеки особистості в процесі взаємодії</a:t>
            </a:r>
            <a:r>
              <a:rPr b="1" lang="uk-UA" sz="2400" spc="-1" strike="noStrike">
                <a:solidFill>
                  <a:srgbClr val="000000"/>
                </a:solidFill>
                <a:latin typeface="Georgia"/>
              </a:rPr>
              <a:t> тощо), які забезпечують певні зв’язки між учасниками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;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6680" indent="-242640" algn="just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3) </a:t>
            </a:r>
            <a:r>
              <a:rPr b="1" i="1" lang="uk-UA" sz="2400" spc="-1" strike="noStrike">
                <a:solidFill>
                  <a:srgbClr val="6600ff"/>
                </a:solidFill>
                <a:latin typeface="Georgia"/>
              </a:rPr>
              <a:t>комп’ютерні системи</a:t>
            </a:r>
            <a:r>
              <a:rPr b="1" lang="uk-UA" sz="2400" spc="-1" strike="noStrike">
                <a:solidFill>
                  <a:srgbClr val="000000"/>
                </a:solidFill>
                <a:latin typeface="Georgia"/>
              </a:rPr>
              <a:t>, які забезпечують підтримку соціальної взаємодії на основі критеріїв участі (доступу в мережу) та є такими, що створюють відчуття близькості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just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Georgia"/>
              </a:rPr>
              <a:t>А. Л. Журавльов :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1" i="1" lang="uk-UA" sz="2400" spc="-1" strike="noStrike">
                <a:solidFill>
                  <a:srgbClr val="000000"/>
                </a:solidFill>
                <a:latin typeface="Georgia"/>
              </a:rPr>
              <a:t>Багатоканальність і децентралізованість, властива компютерним мережам, дозволяє поєднати на перший погляд несумісне – з одного боку, зростаючу автономію індивідів, а з іншого – зростаючу залежність від суспільної солідарності та підтримки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24000" y="764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424456"/>
                </a:solidFill>
                <a:latin typeface="Book Antiqua"/>
              </a:rPr>
              <a:t>Взаємодія у віртуальному освітньому просторі:</a:t>
            </a:r>
            <a:endParaRPr b="0" lang="en-US" sz="32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just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Georgia"/>
              </a:rPr>
              <a:t>організація </a:t>
            </a:r>
            <a:r>
              <a:rPr b="1" i="1" lang="uk-UA" sz="2400" spc="-1" strike="noStrike">
                <a:solidFill>
                  <a:srgbClr val="996633"/>
                </a:solidFill>
                <a:latin typeface="Georgia"/>
              </a:rPr>
              <a:t>спільної діяльності людей</a:t>
            </a:r>
            <a:r>
              <a:rPr b="1" lang="uk-UA" sz="2400" spc="-1" strike="noStrike">
                <a:solidFill>
                  <a:srgbClr val="000000"/>
                </a:solidFill>
                <a:latin typeface="Georgia"/>
              </a:rPr>
              <a:t>, що має на меті </a:t>
            </a:r>
            <a:r>
              <a:rPr b="1" i="1" lang="uk-UA" sz="2400" spc="-1" strike="noStrike">
                <a:solidFill>
                  <a:srgbClr val="666633"/>
                </a:solidFill>
                <a:latin typeface="Georgia"/>
              </a:rPr>
              <a:t>акумулювання інформації</a:t>
            </a:r>
            <a:r>
              <a:rPr b="1" lang="uk-UA" sz="2400" spc="-1" strike="noStrike">
                <a:solidFill>
                  <a:srgbClr val="000000"/>
                </a:solidFill>
                <a:latin typeface="Georgia"/>
              </a:rPr>
              <a:t>, її упорядкування, </a:t>
            </a:r>
            <a:r>
              <a:rPr b="1" i="1" lang="uk-UA" sz="2400" spc="-1" strike="noStrike">
                <a:solidFill>
                  <a:srgbClr val="006600"/>
                </a:solidFill>
                <a:latin typeface="Georgia"/>
              </a:rPr>
              <a:t>колективний доступ</a:t>
            </a:r>
            <a:r>
              <a:rPr b="1" lang="uk-UA" sz="2400" spc="-1" strike="noStrike">
                <a:solidFill>
                  <a:srgbClr val="000000"/>
                </a:solidFill>
                <a:latin typeface="Georgia"/>
              </a:rPr>
              <a:t>, обмін інформацією та її </a:t>
            </a:r>
            <a:r>
              <a:rPr b="1" i="1" lang="uk-UA" sz="2400" spc="-1" strike="noStrike">
                <a:solidFill>
                  <a:srgbClr val="009900"/>
                </a:solidFill>
                <a:latin typeface="Georgia"/>
              </a:rPr>
              <a:t>обговорення</a:t>
            </a:r>
            <a:r>
              <a:rPr b="1" lang="uk-UA" sz="2400" spc="-1" strike="noStrike">
                <a:solidFill>
                  <a:srgbClr val="000000"/>
                </a:solidFill>
                <a:latin typeface="Georgia"/>
              </a:rPr>
              <a:t> на основі соціального сприйняття, взаєморозуміння, емоційного ставлення та підтримки між користувачами.;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Georgia"/>
              </a:rPr>
              <a:t>результатом спільної діяльності є </a:t>
            </a:r>
            <a:r>
              <a:rPr b="1" i="1" lang="uk-UA" sz="2400" spc="-1" strike="noStrike">
                <a:solidFill>
                  <a:srgbClr val="424456"/>
                </a:solidFill>
                <a:latin typeface="Georgia"/>
              </a:rPr>
              <a:t>перетворення певних об’єктів</a:t>
            </a:r>
            <a:r>
              <a:rPr b="1" lang="uk-UA" sz="2400" spc="-1" strike="noStrike">
                <a:solidFill>
                  <a:srgbClr val="000000"/>
                </a:solidFill>
                <a:latin typeface="Georgia"/>
              </a:rPr>
              <a:t>, що мають для користувачів предметно-практичну, пізнавальну та іншу цінність, створення нових віртуальних об’єктів; </a:t>
            </a:r>
            <a:r>
              <a:rPr b="1" i="1" lang="uk-UA" sz="2400" spc="-1" strike="noStrike">
                <a:solidFill>
                  <a:srgbClr val="996633"/>
                </a:solidFill>
                <a:latin typeface="Georgia"/>
              </a:rPr>
              <a:t>нових міжособистісних зв'язків</a:t>
            </a:r>
            <a:r>
              <a:rPr b="1" lang="uk-UA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  тощо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-360" y="714240"/>
            <a:ext cx="89298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424456"/>
                </a:solidFill>
                <a:latin typeface="Georgia"/>
              </a:rPr>
              <a:t>Специфічні особливості слухачів післядипломної педагогічної освіти як суб’єктів взаємодії у віртуальному освітньому просторі</a:t>
            </a:r>
            <a:endParaRPr b="0" lang="en-US" sz="2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142560" y="1856880"/>
            <a:ext cx="900108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Georgia"/>
              </a:rPr>
              <a:t>мають </a:t>
            </a:r>
            <a:r>
              <a:rPr b="1" i="1" lang="uk-UA" sz="2000" spc="-1" strike="noStrike">
                <a:solidFill>
                  <a:srgbClr val="00b050"/>
                </a:solidFill>
                <a:latin typeface="Georgia"/>
              </a:rPr>
              <a:t>ґрунтовні професійні знання</a:t>
            </a:r>
            <a:r>
              <a:rPr b="1" lang="uk-UA" sz="2000" spc="-1" strike="noStrike">
                <a:solidFill>
                  <a:srgbClr val="000000"/>
                </a:solidFill>
                <a:latin typeface="Georgia"/>
              </a:rPr>
              <a:t>, що більш-менш упорядковані на етапі попереднього навчання;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934c22"/>
                </a:solidFill>
                <a:latin typeface="Georgia"/>
              </a:rPr>
              <a:t>спираються на власний професійний досвід</a:t>
            </a:r>
            <a:r>
              <a:rPr b="1" lang="uk-UA" sz="2000" spc="-1" strike="noStrike">
                <a:solidFill>
                  <a:srgbClr val="000000"/>
                </a:solidFill>
                <a:latin typeface="Georgia"/>
              </a:rPr>
              <a:t>, що може не збігається з пропонованими знаннями;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Georgia"/>
              </a:rPr>
              <a:t>часто мають </a:t>
            </a:r>
            <a:r>
              <a:rPr b="1" i="1" lang="uk-UA" sz="2000" spc="-1" strike="noStrike">
                <a:solidFill>
                  <a:srgbClr val="ff0000"/>
                </a:solidFill>
                <a:latin typeface="Georgia"/>
              </a:rPr>
              <a:t>високий рівень тривожності</a:t>
            </a:r>
            <a:r>
              <a:rPr b="1" lang="uk-UA" sz="2000" spc="-1" strike="noStrike">
                <a:solidFill>
                  <a:srgbClr val="000000"/>
                </a:solidFill>
                <a:latin typeface="Georgia"/>
              </a:rPr>
              <a:t>, комплекс </a:t>
            </a: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«</a:t>
            </a:r>
            <a:r>
              <a:rPr b="1" lang="uk-UA" sz="2000" spc="-1" strike="noStrike">
                <a:solidFill>
                  <a:srgbClr val="000000"/>
                </a:solidFill>
                <a:latin typeface="Georgia"/>
              </a:rPr>
              <a:t>загрози авторитету</a:t>
            </a: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»</a:t>
            </a:r>
            <a:r>
              <a:rPr b="1" lang="uk-UA" sz="2000" spc="-1" strike="noStrike">
                <a:solidFill>
                  <a:srgbClr val="000000"/>
                </a:solidFill>
                <a:latin typeface="Georgia"/>
              </a:rPr>
              <a:t>, ознаки </a:t>
            </a: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«емоційного</a:t>
            </a:r>
            <a:r>
              <a:rPr b="1" lang="uk-UA" sz="2000" spc="-1" strike="noStrike">
                <a:solidFill>
                  <a:srgbClr val="000000"/>
                </a:solidFill>
                <a:latin typeface="Georgia"/>
              </a:rPr>
              <a:t> вигорання</a:t>
            </a: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»</a:t>
            </a:r>
            <a:r>
              <a:rPr b="1" lang="uk-UA" sz="2000" spc="-1" strike="noStrike">
                <a:solidFill>
                  <a:srgbClr val="000000"/>
                </a:solidFill>
                <a:latin typeface="Georgia"/>
              </a:rPr>
              <a:t> тощо;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Georgia"/>
              </a:rPr>
              <a:t>мають </a:t>
            </a:r>
            <a:r>
              <a:rPr b="1" i="1" lang="uk-UA" sz="2000" spc="-1" strike="noStrike">
                <a:solidFill>
                  <a:srgbClr val="406f8d"/>
                </a:solidFill>
                <a:latin typeface="Georgia"/>
              </a:rPr>
              <a:t>систему психологічних захистів</a:t>
            </a:r>
            <a:r>
              <a:rPr b="1" lang="uk-UA" sz="2000" spc="-1" strike="noStrike">
                <a:solidFill>
                  <a:srgbClr val="000000"/>
                </a:solidFill>
                <a:latin typeface="Georgia"/>
              </a:rPr>
              <a:t>, що спрямована на збереження сталості внутрішнього світу шляхом деструктурування світу зовнішнього;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Georgia"/>
              </a:rPr>
              <a:t>мають систему смислів, цінностей, оцінних критеріїв, яка часто відрізняється </a:t>
            </a:r>
            <a:r>
              <a:rPr b="1" i="1" lang="uk-UA" sz="2000" spc="-1" strike="noStrike">
                <a:solidFill>
                  <a:srgbClr val="7030a0"/>
                </a:solidFill>
                <a:latin typeface="Georgia"/>
              </a:rPr>
              <a:t>певною інерційністю</a:t>
            </a:r>
            <a:r>
              <a:rPr b="1" lang="uk-UA" sz="2000" spc="-1" strike="noStrike">
                <a:solidFill>
                  <a:srgbClr val="000000"/>
                </a:solidFill>
                <a:latin typeface="Georgia"/>
              </a:rPr>
              <a:t>, обмеженою здатністю до змін тощо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39280" y="620280"/>
            <a:ext cx="860436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424456"/>
                </a:solidFill>
                <a:latin typeface="Georgia"/>
              </a:rPr>
              <a:t>Переваги взаємодії у віртуальному освітньому просторі</a:t>
            </a:r>
            <a:endParaRPr b="0" lang="en-US" sz="28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1196640"/>
            <a:ext cx="91440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8200" indent="-15876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Georgia"/>
              </a:rPr>
              <a:t>Загальні</a:t>
            </a:r>
            <a:r>
              <a:rPr b="1" lang="uk-UA" sz="1800" spc="-1" strike="noStrike">
                <a:solidFill>
                  <a:srgbClr val="000000"/>
                </a:solidFill>
                <a:latin typeface="Georgia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68200" indent="-158760" algn="just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Georgia"/>
              </a:rPr>
              <a:t>доступність, трансцендентність, розширення можливостей людини у спілкуванні та інтеракції;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68200" indent="-158760" algn="just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Georgia"/>
              </a:rPr>
              <a:t>гнучкість, необмеженість у часі, можливість здійснення власної навігації як передумови прояви суб'єктної активності особистості;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68200" indent="-158760" algn="just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Georgia"/>
              </a:rPr>
              <a:t>полілогічність можливість не лише міжособистісної, а й внутрішньогрупової та міжгрупової взаємодії;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68200" indent="-158760" algn="just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Georgia"/>
              </a:rPr>
              <a:t>об'єднання учасників взаємодії у спільній діяльності з перетворення певних об'єктів, що мають для них предметно-практичну, пізнавальну цінність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68200" indent="-15876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Georgia"/>
              </a:rPr>
              <a:t>Специфічні для підвищення кваліфікації слухачів: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68200" indent="-158760" algn="just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Georgia"/>
              </a:rPr>
              <a:t>поява нових мотивуючих факторів підвищення кваліфікації:                 1) новизна пропонованих форм роботи, що формує почуття причетності до сучасних технологій; 2) розширення можливості самостійних дій з опорою на власний досвід управлінської діяльності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424456"/>
                </a:solidFill>
                <a:latin typeface="Georgia"/>
              </a:rPr>
              <a:t>Проблеми взаємодії у віртуальному освітньому просторі</a:t>
            </a:r>
            <a:endParaRPr b="0" lang="en-US" sz="32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0" y="1557000"/>
            <a:ext cx="91440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95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Georgia"/>
              </a:rPr>
              <a:t>Загальні</a:t>
            </a:r>
            <a:r>
              <a:rPr b="1" lang="uk-UA" sz="1800" spc="-1" strike="noStrike">
                <a:solidFill>
                  <a:srgbClr val="000000"/>
                </a:solidFill>
                <a:latin typeface="Georgia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lnSpc>
                <a:spcPct val="95000"/>
              </a:lnSpc>
              <a:spcBef>
                <a:spcPts val="99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Georgia"/>
              </a:rPr>
              <a:t>обмеження сенсорного досвіду, неможливість забезпечити повною мірою «ефект присутності»;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lnSpc>
                <a:spcPct val="95000"/>
              </a:lnSpc>
              <a:spcBef>
                <a:spcPts val="99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Georgia"/>
              </a:rPr>
              <a:t>перенавантаження одних джерел оцінки індивідуально-психологічних якостей партнера по взаємодії і «незадіяння» інших (наприклад, надлишок візуальних образів і відсутність невербальних ознак у повному обсязі);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lnSpc>
                <a:spcPct val="95000"/>
              </a:lnSpc>
              <a:spcBef>
                <a:spcPts val="99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Georgia"/>
              </a:rPr>
              <a:t>складнощіі у здійсненні невербальної комунікації;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lnSpc>
                <a:spcPct val="95000"/>
              </a:lnSpc>
              <a:spcBef>
                <a:spcPts val="99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Georgia"/>
              </a:rPr>
              <a:t>формальне ставлення до навчання, загроза втрати особистісного сенсу, відчуження та ін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lnSpc>
                <a:spcPct val="95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Georgia"/>
              </a:rPr>
              <a:t>Специфічні для підвищення кваліфікації слухачів</a:t>
            </a:r>
            <a:r>
              <a:rPr b="1" lang="uk-UA" sz="1800" spc="-1" strike="noStrike">
                <a:solidFill>
                  <a:srgbClr val="000000"/>
                </a:solidFill>
                <a:latin typeface="Georgia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lnSpc>
                <a:spcPct val="95000"/>
              </a:lnSpc>
              <a:spcBef>
                <a:spcPts val="99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Georgia"/>
              </a:rPr>
              <a:t>недостатній рівень ІКТ-компетентності значної частини викладачів та слухачів курсів підвищення кваліфікації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lnSpc>
                <a:spcPct val="95000"/>
              </a:lnSpc>
              <a:spcBef>
                <a:spcPts val="99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Georgia"/>
              </a:rPr>
              <a:t>наявність психологічних бар'єрів у частини слухачів при роботі з комп'ютером;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lnSpc>
                <a:spcPct val="95000"/>
              </a:lnSpc>
              <a:spcBef>
                <a:spcPts val="99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Georgia"/>
              </a:rPr>
              <a:t>недостатній рівень психологічної викладачів системи ПО з організації дистанційного навчання загалом  і взаємодії у віртуальному освітньому просторі зокрема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-360" y="356760"/>
            <a:ext cx="8658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r>
              <a:rPr b="1" i="1" lang="uk-UA" sz="2200" spc="-1" strike="noStrike">
                <a:solidFill>
                  <a:srgbClr val="424456"/>
                </a:solidFill>
                <a:latin typeface="Georgia"/>
              </a:rPr>
              <a:t>Умови</a:t>
            </a:r>
            <a:r>
              <a:rPr b="1" lang="uk-UA" sz="2200" spc="-1" strike="noStrike">
                <a:solidFill>
                  <a:srgbClr val="424456"/>
                </a:solidFill>
                <a:latin typeface="Georgia"/>
              </a:rPr>
              <a:t>  </a:t>
            </a:r>
            <a:r>
              <a:rPr b="1" i="1" lang="uk-UA" sz="2200" spc="-1" strike="noStrike">
                <a:solidFill>
                  <a:srgbClr val="424456"/>
                </a:solidFill>
                <a:latin typeface="Georgia"/>
              </a:rPr>
              <a:t>реалізації гуманістично-ціннісного підходу </a:t>
            </a:r>
            <a:r>
              <a:rPr b="1" lang="uk-UA" sz="2200" spc="-1" strike="noStrike">
                <a:solidFill>
                  <a:srgbClr val="424456"/>
                </a:solidFill>
                <a:latin typeface="Georgia"/>
              </a:rPr>
              <a:t>в</a:t>
            </a:r>
            <a:r>
              <a:rPr b="1" i="1" lang="uk-UA" sz="2200" spc="-1" strike="noStrike">
                <a:solidFill>
                  <a:srgbClr val="424456"/>
                </a:solidFill>
                <a:latin typeface="Georgia"/>
              </a:rPr>
              <a:t> </a:t>
            </a:r>
            <a:r>
              <a:rPr b="1" lang="uk-UA" sz="2200" spc="-1" strike="noStrike">
                <a:solidFill>
                  <a:srgbClr val="424456"/>
                </a:solidFill>
                <a:latin typeface="Georgia"/>
              </a:rPr>
              <a:t>процесі взаємодії управлінців у віртуальному освітньому просторі </a:t>
            </a:r>
            <a:br>
              <a:rPr sz="2200"/>
            </a:br>
            <a:endParaRPr b="0" lang="en-US" sz="22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0" y="1557360"/>
            <a:ext cx="91440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45160" algn="just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Georgia"/>
              </a:rPr>
              <a:t>організація процесу взаємодії </a:t>
            </a:r>
            <a:r>
              <a:rPr b="1" i="1" lang="uk-UA" sz="1800" spc="-1" strike="noStrike">
                <a:solidFill>
                  <a:srgbClr val="ff9900"/>
                </a:solidFill>
                <a:latin typeface="Georgia"/>
              </a:rPr>
              <a:t>на засадах партнерства, спільної діяльності всіх суб’єктів, розвиток неупередженого ставлення до інших людей та їх дій, </a:t>
            </a:r>
            <a:r>
              <a:rPr b="1" i="1" lang="uk-UA" sz="1800" spc="-1" strike="noStrike">
                <a:solidFill>
                  <a:srgbClr val="000000"/>
                </a:solidFill>
                <a:latin typeface="Georgia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000000"/>
                </a:solidFill>
                <a:latin typeface="Georgia"/>
              </a:rPr>
              <a:t>Ю. Кулюткін: «Лише тією мірою, якою доросла людина отримує можливість реалізувати себе в системі соціально-трудових відносин, що визначають її статус, формується її потреба у все більш високих професійних досягненнях і в розвитку здібностей, що зумовлюють успішність діяльності»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 algn="just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Georgia"/>
              </a:rPr>
              <a:t>створення </a:t>
            </a:r>
            <a:r>
              <a:rPr b="1" i="1" lang="uk-UA" sz="1800" spc="-1" strike="noStrike">
                <a:solidFill>
                  <a:srgbClr val="ff66cc"/>
                </a:solidFill>
                <a:latin typeface="Georgia"/>
              </a:rPr>
              <a:t>розвивального освітньо-професійного середовища</a:t>
            </a:r>
            <a:r>
              <a:rPr b="1" lang="uk-UA" sz="1800" spc="-1" strike="noStrike">
                <a:solidFill>
                  <a:srgbClr val="000000"/>
                </a:solidFill>
                <a:latin typeface="Georgia"/>
              </a:rPr>
              <a:t>, в якому поступово складаються групові норми й цінності професійного вдосконалення, особистісного розвитку, психологічної культури загалом;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 algn="just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990099"/>
                </a:solidFill>
                <a:latin typeface="Georgia"/>
              </a:rPr>
              <a:t>усвідомлення та врахування</a:t>
            </a:r>
            <a:r>
              <a:rPr b="1" lang="uk-UA" sz="1800" spc="-1" strike="noStrike">
                <a:solidFill>
                  <a:srgbClr val="000000"/>
                </a:solidFill>
                <a:latin typeface="Georgia"/>
              </a:rPr>
              <a:t> в процесі навчання  </a:t>
            </a:r>
            <a:r>
              <a:rPr b="1" i="1" lang="uk-UA" sz="1800" spc="-1" strike="noStrike">
                <a:solidFill>
                  <a:srgbClr val="990099"/>
                </a:solidFill>
                <a:latin typeface="Georgia"/>
              </a:rPr>
              <a:t>специфічних особливостей навчання дорослих учнів</a:t>
            </a:r>
            <a:r>
              <a:rPr b="1" lang="uk-UA" sz="1800" spc="-1" strike="noStrike">
                <a:solidFill>
                  <a:srgbClr val="000000"/>
                </a:solidFill>
                <a:latin typeface="Georgia"/>
              </a:rPr>
              <a:t> із спиранням на їхній професійний досвід;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 algn="just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Georgia"/>
              </a:rPr>
              <a:t>забезпечення </a:t>
            </a:r>
            <a:r>
              <a:rPr b="1" i="1" lang="uk-UA" sz="1800" spc="-1" strike="noStrike">
                <a:solidFill>
                  <a:srgbClr val="a50021"/>
                </a:solidFill>
                <a:latin typeface="Georgia"/>
              </a:rPr>
              <a:t>самоуправління</a:t>
            </a:r>
            <a:r>
              <a:rPr b="1" lang="uk-UA" sz="1800" spc="-1" strike="noStrike">
                <a:solidFill>
                  <a:srgbClr val="000000"/>
                </a:solidFill>
                <a:latin typeface="Georgia"/>
              </a:rPr>
              <a:t> (самопізнання, самоаналіз, саморегуляція, самовдосконалення тощо) </a:t>
            </a:r>
            <a:r>
              <a:rPr b="1" i="1" lang="uk-UA" sz="1800" spc="-1" strike="noStrike">
                <a:solidFill>
                  <a:srgbClr val="a50021"/>
                </a:solidFill>
                <a:latin typeface="Georgia"/>
              </a:rPr>
              <a:t>професійним розвитком </a:t>
            </a:r>
            <a:r>
              <a:rPr b="1" lang="uk-UA" sz="1600" spc="-1" strike="noStrike">
                <a:solidFill>
                  <a:srgbClr val="000000"/>
                </a:solidFill>
                <a:latin typeface="Georgi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424456"/>
                </a:solidFill>
                <a:latin typeface="Georgia"/>
              </a:rPr>
              <a:t>Психологічна готовність до дистанційного навчання</a:t>
            </a:r>
            <a:endParaRPr b="0" lang="en-US" sz="28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91440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42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1" i="1" lang="uk-UA" sz="1800" spc="-1" strike="noStrike">
                <a:solidFill>
                  <a:srgbClr val="000000"/>
                </a:solidFill>
                <a:latin typeface="Georgia"/>
              </a:rPr>
              <a:t>інтегральне особистісне утворення,</a:t>
            </a:r>
            <a:r>
              <a:rPr b="1" lang="uk-UA" sz="1800" spc="-1" strike="noStrike">
                <a:solidFill>
                  <a:srgbClr val="000000"/>
                </a:solidFill>
                <a:latin typeface="Georgia"/>
              </a:rPr>
              <a:t> що містить сукупність мотивів, знань, умінь, особистісних якостей, що забезпечують високу успішність учнів в умовах дистанційного навчання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642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642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1" lang="uk-UA" sz="1800" spc="-1" strike="noStrike">
                <a:solidFill>
                  <a:srgbClr val="000000"/>
                </a:solidFill>
                <a:latin typeface="Georgia"/>
              </a:rPr>
              <a:t>У </a:t>
            </a:r>
            <a:r>
              <a:rPr b="1" i="1" lang="uk-UA" sz="1800" spc="-1" strike="noStrike">
                <a:solidFill>
                  <a:srgbClr val="000000"/>
                </a:solidFill>
                <a:latin typeface="Georgia"/>
              </a:rPr>
              <a:t>структурі психологічної готовності</a:t>
            </a:r>
            <a:r>
              <a:rPr b="1" lang="uk-UA" sz="1800" spc="-1" strike="noStrike">
                <a:solidFill>
                  <a:srgbClr val="000000"/>
                </a:solidFill>
                <a:latin typeface="Georgia"/>
              </a:rPr>
              <a:t>, ґрунтуючись на підході Л. Карамушки, можна виділити наступні складові: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64296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996633"/>
                </a:solidFill>
                <a:latin typeface="Georgia"/>
              </a:rPr>
              <a:t>1)мотиваційну</a:t>
            </a:r>
            <a:r>
              <a:rPr b="1" lang="uk-UA" sz="1800" spc="-1" strike="noStrike">
                <a:solidFill>
                  <a:srgbClr val="000000"/>
                </a:solidFill>
                <a:latin typeface="Georgia"/>
              </a:rPr>
              <a:t> (сукупність зовнішніх і внутрішніх мотивів, забезпечують розвинену мотивацію дистанційного навчання);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64296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Georgia"/>
              </a:rPr>
              <a:t>2)</a:t>
            </a:r>
            <a:r>
              <a:rPr b="1" i="1" lang="uk-UA" sz="1800" spc="-1" strike="noStrike">
                <a:solidFill>
                  <a:srgbClr val="808000"/>
                </a:solidFill>
                <a:latin typeface="Georgia"/>
              </a:rPr>
              <a:t>когнітивну</a:t>
            </a:r>
            <a:r>
              <a:rPr b="1" lang="uk-UA" sz="1800" spc="-1" strike="noStrike">
                <a:solidFill>
                  <a:srgbClr val="000000"/>
                </a:solidFill>
                <a:latin typeface="Georgia"/>
              </a:rPr>
              <a:t> (сукупність знань про сутність, переваги та проблеми дистанційного навчання, вимоги до його суб'єктам, інформаційно-комунікаційних технологіях тощо);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64296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cc00cc"/>
                </a:solidFill>
                <a:latin typeface="Georgia"/>
              </a:rPr>
              <a:t>3)операційну</a:t>
            </a:r>
            <a:r>
              <a:rPr b="1" lang="uk-UA" sz="1800" spc="-1" strike="noStrike">
                <a:solidFill>
                  <a:srgbClr val="000000"/>
                </a:solidFill>
                <a:latin typeface="Georgia"/>
              </a:rPr>
              <a:t> (сукупність умінь і навичок оволодіння спеціально розробленими навчальними матеріалами з використанням сучасних інформаційно-комунікаційних технологій; партнерської взаємодії у віртуальному освітньому просторі та ін.);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64296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Georgia"/>
              </a:rPr>
              <a:t> </a:t>
            </a:r>
            <a:r>
              <a:rPr b="1" lang="uk-UA" sz="1800" spc="-1" strike="noStrike">
                <a:solidFill>
                  <a:srgbClr val="000000"/>
                </a:solidFill>
                <a:latin typeface="Georgia"/>
              </a:rPr>
              <a:t>4)</a:t>
            </a:r>
            <a:r>
              <a:rPr b="1" i="1" lang="uk-UA" sz="1800" spc="-1" strike="noStrike">
                <a:solidFill>
                  <a:srgbClr val="006600"/>
                </a:solidFill>
                <a:latin typeface="Georgia"/>
              </a:rPr>
              <a:t>особистісну</a:t>
            </a:r>
            <a:r>
              <a:rPr b="1" lang="uk-UA" sz="1800" spc="-1" strike="noStrike">
                <a:solidFill>
                  <a:srgbClr val="000000"/>
                </a:solidFill>
                <a:latin typeface="Georgia"/>
              </a:rPr>
              <a:t> як сукупність особистісних якостей (відповідальність, самоефективність, толерантність до невизначеності, інтернальний локус контролю, гнучкість, високий рівень саморегуляції та самоконтролю та ін.)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285560" y="642600"/>
            <a:ext cx="6605640" cy="121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424456"/>
                </a:solidFill>
                <a:latin typeface="Georgia"/>
              </a:rPr>
              <a:t>Дякую за увагу</a:t>
            </a:r>
            <a:r>
              <a:rPr b="0" lang="en-US" sz="3000" spc="-1" strike="noStrike">
                <a:solidFill>
                  <a:srgbClr val="424456"/>
                </a:solidFill>
                <a:latin typeface="Georgia"/>
              </a:rPr>
              <a:t>!</a:t>
            </a:r>
            <a:endParaRPr b="0" lang="en-US" sz="3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4360" y="1412640"/>
            <a:ext cx="777528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b050"/>
                </a:solidFill>
                <a:latin typeface="Georgia"/>
              </a:rPr>
              <a:t>Контакти: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Georgia"/>
              </a:rPr>
              <a:t>О. І. Бондарчук,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i="1" lang="uk-UA" sz="2400" spc="-1" strike="noStrike">
                <a:solidFill>
                  <a:srgbClr val="000000"/>
                </a:solidFill>
                <a:latin typeface="Georgia"/>
              </a:rPr>
              <a:t>м. Київ, вул. Артема, 52-А,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Georgia"/>
              </a:rPr>
              <a:t>ДВНЗ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«</a:t>
            </a:r>
            <a:r>
              <a:rPr b="1" i="1" lang="uk-UA" sz="2400" spc="-1" strike="noStrike">
                <a:solidFill>
                  <a:srgbClr val="000000"/>
                </a:solidFill>
                <a:latin typeface="Georgia"/>
              </a:rPr>
              <a:t>Університет менеджменту освіти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»</a:t>
            </a:r>
            <a:r>
              <a:rPr b="1" i="1" lang="uk-UA" sz="2400" spc="-1" strike="noStrike">
                <a:solidFill>
                  <a:srgbClr val="000000"/>
                </a:solidFill>
                <a:latin typeface="Georgia"/>
              </a:rPr>
              <a:t>, корпус 3, к. 3.1,  3.1.1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i="1" lang="uk-UA" sz="2400" spc="-1" strike="noStrike">
                <a:solidFill>
                  <a:srgbClr val="000000"/>
                </a:solidFill>
                <a:latin typeface="Georgia"/>
              </a:rPr>
              <a:t>кафедра психології управління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70c0"/>
                </a:solidFill>
                <a:latin typeface="Georgia"/>
              </a:rPr>
              <a:t>Тел.  : (044) 481 38 57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70c0"/>
                </a:solidFill>
                <a:latin typeface="Georgia"/>
              </a:rPr>
              <a:t>E-mail: kafedra.psychology@gmail.com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56" name="Рисунок 5" descr="3D Humans (16).jpg"/>
          <p:cNvPicPr/>
          <p:nvPr/>
        </p:nvPicPr>
        <p:blipFill>
          <a:blip r:embed="rId1"/>
          <a:stretch/>
        </p:blipFill>
        <p:spPr>
          <a:xfrm>
            <a:off x="6066000" y="853920"/>
            <a:ext cx="2773080" cy="207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28760" y="7855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424456"/>
                </a:solidFill>
                <a:latin typeface="Book Antiqua"/>
              </a:rPr>
              <a:t>Постановка проблеми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98072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438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1" lang="uk-UA" sz="2800" spc="-1" strike="noStrike">
                <a:solidFill>
                  <a:srgbClr val="000000"/>
                </a:solidFill>
                <a:latin typeface="Georgia"/>
              </a:rPr>
              <a:t>поява нових інформаційно-комунікаційних технологій;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438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uk-UA" sz="2800" spc="-1" strike="noStrike">
                <a:solidFill>
                  <a:srgbClr val="000000"/>
                </a:solidFill>
                <a:latin typeface="Georgia"/>
              </a:rPr>
              <a:t>істотна трансформація усталених соціальних практик, породження нових форм соціальних інтеракцій;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438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Georgia"/>
              </a:rPr>
              <a:t>перенесення значної частини соціальних інтеракцій з реального до Інтернет - простору;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438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Georgia"/>
              </a:rPr>
              <a:t>стрімке зростання кількості користувачів віртуальних соціальних мереж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19" name="Picture 2" descr="C:\Documents and Settings\Admin\Рабочий стол\человечки\вопрос1.jpg"/>
          <p:cNvPicPr/>
          <p:nvPr/>
        </p:nvPicPr>
        <p:blipFill>
          <a:blip r:embed="rId1"/>
          <a:stretch/>
        </p:blipFill>
        <p:spPr>
          <a:xfrm>
            <a:off x="571680" y="500040"/>
            <a:ext cx="1571400" cy="15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424456"/>
                </a:solidFill>
                <a:latin typeface="Book Antiqua"/>
              </a:rPr>
              <a:t>Постановка проблеми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0" y="1571760"/>
            <a:ext cx="91440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Georgia"/>
              </a:rPr>
              <a:t>Активне впровадження дистанційного навчання у процес підвищення кваліфікації в умовах післядипломної педагогічної освіти зумовлює необхідність </a:t>
            </a:r>
            <a:r>
              <a:rPr b="1" i="1" lang="uk-UA" sz="2800" spc="-1" strike="noStrike">
                <a:solidFill>
                  <a:srgbClr val="53548a"/>
                </a:solidFill>
                <a:latin typeface="Georgia"/>
              </a:rPr>
              <a:t>організації ефективної взаємодії слухачів у віртуальному освітньому просторі</a:t>
            </a:r>
            <a:r>
              <a:rPr b="1" lang="uk-UA" sz="2800" spc="-1" strike="noStrike">
                <a:solidFill>
                  <a:srgbClr val="000000"/>
                </a:solidFill>
                <a:latin typeface="Georgia"/>
              </a:rPr>
              <a:t> як систематичної та ефективної спільної діяльності на основі інформаційно-комп’ютерних технологій.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22" name="Picture 2" descr="C:\Documents and Settings\Admin\Рабочий стол\человечки\вопрос1.jpg"/>
          <p:cNvPicPr/>
          <p:nvPr/>
        </p:nvPicPr>
        <p:blipFill>
          <a:blip r:embed="rId1"/>
          <a:stretch/>
        </p:blipFill>
        <p:spPr>
          <a:xfrm>
            <a:off x="357120" y="0"/>
            <a:ext cx="1571760" cy="15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187280" y="620640"/>
            <a:ext cx="7956720" cy="102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424456"/>
                </a:solidFill>
                <a:latin typeface="Book Antiqua"/>
              </a:rPr>
              <a:t>Теоретична база дослідження проблеми</a:t>
            </a:r>
            <a:endParaRPr b="0" lang="en-US" sz="32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0" y="1428480"/>
            <a:ext cx="91440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Georgia"/>
              </a:rPr>
              <a:t>концептуальні положення мережевого підходу до аналізу особливостей функціонування віртуального простору </a:t>
            </a:r>
            <a:r>
              <a:rPr b="0" i="1" lang="uk-UA" sz="2200" spc="-1" strike="noStrike">
                <a:solidFill>
                  <a:srgbClr val="000000"/>
                </a:solidFill>
                <a:latin typeface="Georgia"/>
              </a:rPr>
              <a:t>(Р. Берт, М. Грановеттер та ін.), у тому числі,</a:t>
            </a:r>
            <a:r>
              <a:rPr b="1" lang="ru-RU" sz="2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uk-UA" sz="2200" spc="-1" strike="noStrike">
                <a:solidFill>
                  <a:srgbClr val="000000"/>
                </a:solidFill>
                <a:latin typeface="Georgia"/>
              </a:rPr>
              <a:t>мережеві аспекти соціальної взаємодії та Інтернет-соціалізації </a:t>
            </a:r>
            <a:r>
              <a:rPr b="0" i="1" lang="uk-UA" sz="2200" spc="-1" strike="noStrike">
                <a:solidFill>
                  <a:srgbClr val="000000"/>
                </a:solidFill>
                <a:latin typeface="Georgia"/>
              </a:rPr>
              <a:t>(С. Бондаренко, А. Войскунський, А. Жичкіна, А. Лучинкіна, Д. Пріс, Дж. Сулер та ін.)</a:t>
            </a:r>
            <a:r>
              <a:rPr b="1" lang="uk-UA" sz="2200" spc="-1" strike="noStrike">
                <a:solidFill>
                  <a:srgbClr val="000000"/>
                </a:solidFill>
                <a:latin typeface="Georgia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Georgia"/>
              </a:rPr>
              <a:t>психолого-педагогічні засади проектування нових інформаційних технологій та віртуального освітнього простору </a:t>
            </a:r>
            <a:r>
              <a:rPr b="0" i="1" lang="uk-UA" sz="2200" spc="-1" strike="noStrike">
                <a:solidFill>
                  <a:srgbClr val="000000"/>
                </a:solidFill>
                <a:latin typeface="Georgia"/>
              </a:rPr>
              <a:t>(Ю. І. Машбиць, М. Л. Смульсон та ін.)</a:t>
            </a:r>
            <a:r>
              <a:rPr b="0" i="1" lang="ru-RU" sz="2200" spc="-1" strike="noStrike">
                <a:solidFill>
                  <a:srgbClr val="000000"/>
                </a:solidFill>
                <a:latin typeface="Georgia"/>
              </a:rPr>
              <a:t> ;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Georgia"/>
              </a:rPr>
              <a:t>психологічні засади розвитку готовності менеджерів освіти до здійснення управлінської діяльності, у тому числі, в умовах післядипломної педагогічної освіти </a:t>
            </a:r>
            <a:r>
              <a:rPr b="0" i="1" lang="uk-UA" sz="2200" spc="-1" strike="noStrike">
                <a:solidFill>
                  <a:srgbClr val="000000"/>
                </a:solidFill>
                <a:latin typeface="Georgia"/>
              </a:rPr>
              <a:t>(О. Бондарчук, Н. Коломінський, Л. Карамушка та ін.);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Georgia"/>
              </a:rPr>
              <a:t>компетентнісний підхід до управління безперервною освітою керівників освітніх організацій на основі (</a:t>
            </a:r>
            <a:r>
              <a:rPr b="0" i="1" lang="uk-UA" sz="2200" spc="-1" strike="noStrike">
                <a:solidFill>
                  <a:srgbClr val="000000"/>
                </a:solidFill>
                <a:latin typeface="Georgia"/>
              </a:rPr>
              <a:t>В. Маслов, В. Олійник та ін.</a:t>
            </a:r>
            <a:r>
              <a:rPr b="1" lang="uk-UA" sz="2200" spc="-1" strike="noStrike">
                <a:solidFill>
                  <a:srgbClr val="000000"/>
                </a:solidFill>
                <a:latin typeface="Georgia"/>
              </a:rPr>
              <a:t>).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25" name="Picture 3" descr="C:\Documents and Settings\Admin\Рабочий стол\человечки\методики.jpg"/>
          <p:cNvPicPr/>
          <p:nvPr/>
        </p:nvPicPr>
        <p:blipFill>
          <a:blip r:embed="rId1"/>
          <a:stretch/>
        </p:blipFill>
        <p:spPr>
          <a:xfrm>
            <a:off x="0" y="333360"/>
            <a:ext cx="1692360" cy="110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1908000" y="3284640"/>
            <a:ext cx="677880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1" i="1" lang="uk-UA" sz="2400" spc="-1" strike="noStrike">
                <a:solidFill>
                  <a:srgbClr val="000000"/>
                </a:solidFill>
                <a:latin typeface="Georgia"/>
              </a:rPr>
              <a:t>Мета лекції</a:t>
            </a:r>
            <a:r>
              <a:rPr b="0" lang="uk-UA" sz="2400" spc="-1" strike="noStrike">
                <a:solidFill>
                  <a:srgbClr val="000000"/>
                </a:solidFill>
                <a:latin typeface="Georgia"/>
              </a:rPr>
              <a:t> – </a:t>
            </a:r>
            <a:r>
              <a:rPr b="1" lang="uk-UA" sz="2400" spc="-1" strike="noStrike">
                <a:solidFill>
                  <a:srgbClr val="000000"/>
                </a:solidFill>
                <a:latin typeface="Georgia"/>
              </a:rPr>
              <a:t>визначити психологічні особливості взаємодії у віртуальному освітньому просторі, переваги та проблеми такої взаємодії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28" name="Picture 5" descr="3D%20Humans%20%2860%29"/>
          <p:cNvPicPr/>
          <p:nvPr/>
        </p:nvPicPr>
        <p:blipFill>
          <a:blip r:embed="rId1"/>
          <a:stretch/>
        </p:blipFill>
        <p:spPr>
          <a:xfrm>
            <a:off x="468360" y="1700280"/>
            <a:ext cx="192888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424456"/>
                </a:solidFill>
                <a:latin typeface="Book Antiqua"/>
              </a:rPr>
              <a:t>Основні питання</a:t>
            </a:r>
            <a:endParaRPr b="0" lang="en-US" sz="32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-360" y="2533680"/>
            <a:ext cx="8769240" cy="37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4296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42960" indent="-533520" algn="just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Georgia"/>
              </a:rPr>
              <a:t>Сутність взаємодії у віртуальному освітньому просторі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42960" indent="-533520" algn="just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Georgia"/>
              </a:rPr>
              <a:t>Переваги взаємодії</a:t>
            </a:r>
            <a:r>
              <a:rPr b="0" lang="uk-UA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uk-UA" sz="2400" spc="-1" strike="noStrike">
                <a:solidFill>
                  <a:srgbClr val="000000"/>
                </a:solidFill>
                <a:latin typeface="Georgia"/>
              </a:rPr>
              <a:t>у віртуальному освітньому просторі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42960" indent="-533520" algn="just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Georgia"/>
              </a:rPr>
              <a:t>Проблеми взаємодії</a:t>
            </a:r>
            <a:r>
              <a:rPr b="0" lang="uk-UA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uk-UA" sz="2400" spc="-1" strike="noStrike">
                <a:solidFill>
                  <a:srgbClr val="000000"/>
                </a:solidFill>
                <a:latin typeface="Georgia"/>
              </a:rPr>
              <a:t>у віртуальному освітньому просторі та умови їх розв'язання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31" name="Picture 4" descr="ANd9GcQexPnfNKEu9xjHQpBoLPZwQPTDVGTZnFrXR0muXPMWDOV290D7UoxiSA"/>
          <p:cNvPicPr/>
          <p:nvPr/>
        </p:nvPicPr>
        <p:blipFill>
          <a:blip r:embed="rId1"/>
          <a:stretch/>
        </p:blipFill>
        <p:spPr>
          <a:xfrm>
            <a:off x="755640" y="620640"/>
            <a:ext cx="151272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424456"/>
                </a:solidFill>
                <a:latin typeface="Book Antiqua"/>
              </a:rPr>
              <a:t>Література</a:t>
            </a:r>
            <a:endParaRPr b="0" lang="en-US" sz="28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914400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610560" indent="-506520" algn="just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36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Барлоу Дж. П. Декларация независимости Киберпространства </a:t>
            </a:r>
            <a:r>
              <a:rPr b="0" lang="uk-UA" sz="2000" spc="-1" strike="noStrike">
                <a:solidFill>
                  <a:srgbClr val="000000"/>
                </a:solidFill>
                <a:latin typeface="Georgia"/>
              </a:rPr>
              <a:t>/ 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Дж. П. Барлоу // Компьютерра.</a:t>
            </a:r>
            <a:r>
              <a:rPr b="0" lang="uk-UA" sz="2000" spc="-1" strike="noStrike">
                <a:solidFill>
                  <a:srgbClr val="000000"/>
                </a:solidFill>
                <a:latin typeface="Georgia"/>
              </a:rPr>
              <a:t> – [Електронний ресурс]. – Режим доступу : http://www.computerra.ru/offline/1997/206/678/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610560" indent="-506520" algn="just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36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Гуманитарные исследования в Интернете; под ред А. Е. Войскунского. – М.  : Можайск-Терра, 2000. –  432 с</a:t>
            </a:r>
            <a:r>
              <a:rPr b="0" lang="uk-UA" sz="2000" spc="-1" strike="noStrike">
                <a:solidFill>
                  <a:srgbClr val="000000"/>
                </a:solidFill>
                <a:latin typeface="Georgia"/>
              </a:rPr>
              <a:t>.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610560" indent="-506520" algn="just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36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Дистанційне навчання: психологічні засади : монографія / [М.Л. Смульсон, Ю.І. Машбиць, М.І. Жалдак та ін.] ; за ред. М.Л. Смульсон. — Кіровоград : Імекс-ЛТД, 2012. — 240 с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610560" indent="-506520" algn="just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36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Лучинкина А. И.  Психология человека в Интернете : монография          / А. И. Лучинкина. – К.  : Информационные системы, 2012. – 200 с.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610560" indent="-506520" algn="just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36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Communities in cyberspace ; ed. M. A. Smith and P. Kollock. – London; New York : Rutledge, 1999 / </a:t>
            </a:r>
            <a:r>
              <a:rPr b="0" lang="uk-UA" sz="2000" spc="-1" strike="noStrike">
                <a:solidFill>
                  <a:srgbClr val="000000"/>
                </a:solidFill>
                <a:latin typeface="Georgia"/>
              </a:rPr>
              <a:t>[Електронний ресурс]. – Режим доступу: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  https://books.google.com.ua/books?id=FrxgfAca7jUC&amp;pg=PA126&amp;lpg=PA126&amp;dq=Communities+in+cyberspace ;+ed.+M. A. Smith+and+P. Kollock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610560" indent="-506520" algn="just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36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Preece J. Online Communities: Designing Usability, Supporting Sociability / Jennifer J. Preece. – N.Y. : John Wiley Sons, 2000. –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468 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р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-360" y="620640"/>
            <a:ext cx="939636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424456"/>
                </a:solidFill>
                <a:latin typeface="Book Antiqua"/>
              </a:rPr>
              <a:t>Сутність взаємодії у віртуальному </a:t>
            </a:r>
            <a:br>
              <a:rPr sz="3200"/>
            </a:br>
            <a:r>
              <a:rPr b="1" lang="uk-UA" sz="3200" spc="-1" strike="noStrike">
                <a:solidFill>
                  <a:srgbClr val="424456"/>
                </a:solidFill>
                <a:latin typeface="Book Antiqua"/>
              </a:rPr>
              <a:t>освітньому просторі</a:t>
            </a:r>
            <a:endParaRPr b="0" lang="en-US" sz="32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1988640"/>
            <a:ext cx="91440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lnSpc>
                <a:spcPct val="95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Georgia"/>
              </a:rPr>
              <a:t>віртуальний: «virtualis» (лат.) – «можливий, такий, що може або мусить з’явитися за певних умов</a:t>
            </a:r>
            <a:r>
              <a:rPr b="0" i="1" lang="uk-UA" sz="2800" spc="-1" strike="noStrike">
                <a:solidFill>
                  <a:srgbClr val="000000"/>
                </a:solidFill>
                <a:latin typeface="Georgia"/>
              </a:rPr>
              <a:t>»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lnSpc>
                <a:spcPct val="95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1" lang="uk-UA" sz="2400" spc="-1" strike="noStrike">
                <a:solidFill>
                  <a:srgbClr val="000000"/>
                </a:solidFill>
                <a:latin typeface="Georgia"/>
              </a:rPr>
              <a:t>Поняття «віртуальний» відносять до </a:t>
            </a:r>
            <a:r>
              <a:rPr b="1" i="1" lang="uk-UA" sz="2400" spc="-1" strike="noStrike">
                <a:solidFill>
                  <a:srgbClr val="666633"/>
                </a:solidFill>
                <a:latin typeface="Georgia"/>
              </a:rPr>
              <a:t>образів, моделей чи артефактів, які уявляються користувачу реальними, але фактично не</a:t>
            </a:r>
            <a:r>
              <a:rPr b="1" i="1" lang="uk-UA" sz="2400" spc="-1" strike="noStrike">
                <a:solidFill>
                  <a:srgbClr val="009900"/>
                </a:solidFill>
                <a:latin typeface="Georgia"/>
              </a:rPr>
              <a:t> </a:t>
            </a:r>
            <a:r>
              <a:rPr b="1" i="1" lang="uk-UA" sz="2400" spc="-1" strike="noStrike">
                <a:solidFill>
                  <a:srgbClr val="666633"/>
                </a:solidFill>
                <a:latin typeface="Georgia"/>
              </a:rPr>
              <a:t>існують</a:t>
            </a:r>
            <a:r>
              <a:rPr b="1" lang="uk-UA" sz="2400" spc="-1" strike="noStrike">
                <a:solidFill>
                  <a:srgbClr val="000000"/>
                </a:solidFill>
                <a:latin typeface="Georgia"/>
              </a:rPr>
              <a:t>, будучи створеними відповідними програмними засобами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lnSpc>
                <a:spcPct val="95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1" lang="uk-UA" sz="2400" spc="-1" strike="noStrike">
                <a:solidFill>
                  <a:srgbClr val="000000"/>
                </a:solidFill>
                <a:latin typeface="Georgia"/>
              </a:rPr>
              <a:t>Отже, </a:t>
            </a:r>
            <a:r>
              <a:rPr b="1" i="1" lang="uk-UA" sz="2400" spc="-1" strike="noStrike">
                <a:solidFill>
                  <a:srgbClr val="666633"/>
                </a:solidFill>
                <a:latin typeface="Georgia"/>
              </a:rPr>
              <a:t>віртуальним</a:t>
            </a:r>
            <a:r>
              <a:rPr b="1" lang="uk-UA" sz="2400" spc="-1" strike="noStrike">
                <a:solidFill>
                  <a:srgbClr val="000000"/>
                </a:solidFill>
                <a:latin typeface="Georgia"/>
              </a:rPr>
              <a:t> називають об’єкт, який повністю виконує свої функції, але не має фізичного втілення</a:t>
            </a:r>
            <a:r>
              <a:rPr b="0" lang="uk-UA" sz="28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0" y="714240"/>
            <a:ext cx="88963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424456"/>
                </a:solidFill>
                <a:latin typeface="Book Antiqua"/>
              </a:rPr>
              <a:t>Специфіка віртуального освітнього простору як середовища, через яке відбувається взаємодія учасників</a:t>
            </a:r>
            <a:endParaRPr b="0" lang="en-US" sz="32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0" y="1988640"/>
            <a:ext cx="91440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Georgi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Georgia"/>
              </a:rPr>
              <a:t>віртуальність,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Georgia"/>
              </a:rPr>
              <a:t>виникнення нових, віртуальних продуктів, що можуть існувати самостійно;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Georgia"/>
              </a:rPr>
              <a:t>нелінійний засіб організацій, коли існує один вхід і безліч виходів;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Georgia"/>
              </a:rPr>
              <a:t>гіпертекстова організація, можливість різноманітних зв’язків,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Georgia"/>
              </a:rPr>
              <a:t>непрограмованість, альтернативність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7T05:12:05Z</dcterms:created>
  <dc:creator>олена</dc:creator>
  <dc:description/>
  <dc:language>en-US</dc:language>
  <cp:lastModifiedBy>User</cp:lastModifiedBy>
  <dcterms:modified xsi:type="dcterms:W3CDTF">2015-04-26T07:21:47Z</dcterms:modified>
  <cp:revision>113</cp:revision>
  <dc:subject/>
  <dc:title>Післядипломна педагогічна освіта як чинник особистісного розвитку керівників освітніх організацій</dc:title>
</cp:coreProperties>
</file>