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5E00-1338-4379-987D-D1601CDF3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E81E-AC3A-4C7C-A329-D54380F8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E418-E032-4FEF-ABBA-D3544492F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E0A7-0F07-4AE8-A824-0689D393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B695-2DD0-4289-B7B2-A0129B5DB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F0B7-CFE2-4F7B-830C-A8BB05F0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FFE7-843C-4DE3-880E-B4B1AACF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A87B-5054-477F-83EC-D1B748DA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C1F7-B753-4C4F-AAA7-6B5F57F6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7931-55EE-400C-8B92-43B83BF2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7732-6EC6-4FF4-95B9-2BF64377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3CD5-D6AF-4370-A0D0-E60021E1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77E5-D5A1-473B-9781-754E3BED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FF25-771F-4530-98CC-230B5446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3DF1-9A65-4504-810F-7F5031FE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8308-3E6D-4EB0-A20F-263151E59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F872-90F3-4E7C-BE47-966A55830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B7EED3-2C7A-4298-8315-BC056A38D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654440-448B-411B-B80A-4936B894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8741CE-CA62-43BA-9065-9D30C156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3087FA-A05A-4850-B729-953B6C6C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699602-3624-4E26-AA9B-F9EDF93B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DF1D-59FD-4C22-B60D-58CB7D51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1AB3EB-6BA5-4768-8DD0-CC1A5571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216D8D-360B-45CF-BF62-455F9648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1B9773-8375-4397-981A-163D3196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96D99A-80A1-4B25-BCF6-BDB787AB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517DBE-8282-4968-9989-07FF1F3F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5E2B5D-6862-492C-A81B-90D8626F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0216CE-F2FB-4002-AC42-3700A13DD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824E5-E57E-4407-9D2A-8EDE848AD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C8798-A262-4C87-9DDE-927C349D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83E1B-B793-4BD8-8BB6-A600B6D2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2140-8F30-4E53-8335-4C42A7CD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E5CBF-4D27-4AB0-9CAF-BBFD8032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FCB06-BF38-422A-9461-0F1BB8E5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3A3EF-3189-4052-A8B1-E7987C06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58A6E-64E9-4F41-841A-C65E1BE7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E29CD-BD7A-459E-87B4-D4E75D49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3E27D-1480-40AA-B5B3-19F0DAA1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FD6FD-E45D-4284-9C26-BDFB7670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DBFA1-AA94-4721-9204-3E73547BD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7FDD2-E64C-48D2-9D11-17CB6A914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627D-3F1B-4E04-B52F-B845BD7D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0120-6302-457B-89AF-376D9C53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5B5B-DC48-427B-AA48-1D0AAE57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244D-ABB1-4D70-8C77-E903DD9C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E38E-D056-4FA8-8FEF-87D89EDB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5eccf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212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5eccf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274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5eccf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e67c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e67c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7ea5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5eccf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5eccf3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F1B7-C818-4F7E-81DD-785A0A590EB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5eccf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5eccf3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5eccf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5eccf3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5eccf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212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274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5eccf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e67c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e67c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7ea5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5eccf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5eccf3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6499-0722-49F1-BD77-785352F946C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5eccf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212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5eccf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274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5eccf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e67c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e67c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7ea5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5eccf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5eccf3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0745-173B-4516-8275-03E58814B01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5eccf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212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5eccf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274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5eccf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e67c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e67c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7ea5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5eccf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5eccf3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C5E7-CB9E-46C3-B2B3-59FCF24D5045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  <a:ea typeface="Arial"/>
              </a:rPr>
              <a:t>МАЙБУТНІЙ ПРОФЕСІЙНИЙ ВИБІР ШКОЛЯРА: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Georgia"/>
                <a:ea typeface="Arial"/>
              </a:rPr>
              <a:t>УПРАВЛІНСЬКИЙ ТА ПЕДАГОГІЧНИЙ АСПЕКТИ СПРИЯННЯ УСПІХУ</a:t>
            </a:r>
            <a:br>
              <a:rPr sz="3600"/>
            </a:br>
            <a:endParaRPr b="0" lang="en-US" sz="36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124000" y="3933360"/>
            <a:ext cx="663408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2745"/>
                </a:solidFill>
                <a:latin typeface="Arial"/>
                <a:ea typeface="Arial"/>
              </a:rPr>
              <a:t>Сорочан Тамара Михайлівна</a:t>
            </a:r>
            <a:r>
              <a:rPr b="1" lang="ru-RU" sz="2000" spc="-1" strike="noStrike">
                <a:solidFill>
                  <a:srgbClr val="212745"/>
                </a:solidFill>
                <a:latin typeface="Arial"/>
                <a:ea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12745"/>
                </a:solidFill>
                <a:latin typeface="Arial"/>
                <a:ea typeface="Arial"/>
              </a:rPr>
              <a:t>доктор педагогічних наук, професор,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12745"/>
                </a:solidFill>
                <a:latin typeface="Arial"/>
                <a:ea typeface="Arial"/>
              </a:rPr>
              <a:t>Заслужений працівник освіти України,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12745"/>
                </a:solidFill>
                <a:latin typeface="Arial"/>
                <a:ea typeface="Arial"/>
              </a:rPr>
              <a:t>директор Центрального інституту післядипломної педагогічної освіти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12745"/>
                </a:solidFill>
                <a:latin typeface="Arial"/>
                <a:ea typeface="Arial"/>
              </a:rPr>
              <a:t>ДВНЗ «Університет менеджменту освіти» Національної академії педагогічних наук Україн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2745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12745"/>
                </a:solidFill>
                <a:latin typeface="Georgia"/>
              </a:rPr>
              <a:t>Управлінський аспект ранньої професіоналізації </a:t>
            </a:r>
            <a:br>
              <a:rPr sz="3200"/>
            </a:br>
            <a:r>
              <a:rPr b="1" lang="uk-UA" sz="3200" spc="-1" strike="noStrike">
                <a:solidFill>
                  <a:srgbClr val="212745"/>
                </a:solidFill>
                <a:latin typeface="Georgia"/>
              </a:rPr>
              <a:t>(специфічні технології)</a:t>
            </a:r>
            <a:endParaRPr b="0" lang="en-US" sz="3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492280"/>
            <a:ext cx="8229600" cy="40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d79ca"/>
                </a:solidFill>
                <a:latin typeface="Georgia"/>
              </a:rPr>
              <a:t>Створення умов для самореалізації школярів у різних видах діяльності.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d79ca"/>
                </a:solidFill>
                <a:latin typeface="Georgia"/>
              </a:rPr>
              <a:t>Ознайомлення з практичними, фаховими та психологічними особливостями професійної діяльності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d79ca"/>
                </a:solidFill>
                <a:latin typeface="Georgia"/>
              </a:rPr>
              <a:t>Професійне індивідуальне консультування.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d79ca"/>
                </a:solidFill>
                <a:latin typeface="Georgia"/>
              </a:rPr>
              <a:t>Залучення фахівців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212745"/>
                </a:solidFill>
                <a:latin typeface="Georgia"/>
              </a:rPr>
              <a:t>Успіх</a:t>
            </a:r>
            <a:endParaRPr b="0" lang="en-US" sz="54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637000"/>
            <a:ext cx="8229600" cy="39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d79ca"/>
                </a:solidFill>
                <a:latin typeface="Georgia"/>
              </a:rPr>
              <a:t>позитивний наслідок роботи, справи; значні досягнення; громадське визнання, схвалення чого-небудь, чиїхось досягнень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212745"/>
                </a:solidFill>
                <a:latin typeface="Georgia"/>
              </a:rPr>
              <a:t>Умови  успіху</a:t>
            </a:r>
            <a:br>
              <a:rPr sz="4400"/>
            </a:br>
            <a:endParaRPr b="0" lang="en-US" sz="44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8360" y="155736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13920" indent="-219600"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d79ca"/>
                </a:solidFill>
                <a:latin typeface="Georgia"/>
              </a:rPr>
              <a:t>успіху має передувати діяльність, наполеглива робота (над собою, індивідуальна, спільна, колективна)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d79ca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d79ca"/>
                </a:solidFill>
                <a:latin typeface="Georgia"/>
              </a:rPr>
              <a:t>успіх полягає в результаті (сьогодні результат більший, ніж раніше, а в перспективі ще зростатиме)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d79ca"/>
                </a:solidFill>
                <a:latin typeface="Georgia"/>
              </a:rPr>
              <a:t>успіх має бути визнаний іншими людьми (ми приносимо користь не лише собі, а й іншим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d79ca"/>
                </a:solidFill>
                <a:latin typeface="Georgi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12745"/>
                </a:solidFill>
                <a:latin typeface="Georgia"/>
              </a:rPr>
              <a:t>Пріоритети нової школи – </a:t>
            </a:r>
            <a:br>
              <a:rPr sz="3200"/>
            </a:br>
            <a:r>
              <a:rPr b="1" lang="uk-UA" sz="3200" spc="-1" strike="noStrike">
                <a:solidFill>
                  <a:srgbClr val="212745"/>
                </a:solidFill>
                <a:latin typeface="Georgia"/>
              </a:rPr>
              <a:t>школи успіху</a:t>
            </a:r>
            <a:endParaRPr b="0" lang="en-US" sz="3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d79ca"/>
                </a:solidFill>
                <a:latin typeface="Georgia"/>
              </a:rPr>
              <a:t>Цінність педагогічного досвіду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d79ca"/>
                </a:solidFill>
                <a:latin typeface="Georgia"/>
              </a:rPr>
              <a:t>Збереження здоров’я діте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d79ca"/>
                </a:solidFill>
                <a:latin typeface="Georgia"/>
              </a:rPr>
              <a:t>Розвиток творчих здібностей, бажання пізнават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d79ca"/>
                </a:solidFill>
                <a:latin typeface="Georgia"/>
              </a:rPr>
              <a:t>Створення сприятливого середовищ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d79ca"/>
                </a:solidFill>
                <a:latin typeface="Georgia"/>
              </a:rPr>
              <a:t>Обладнання та технічні засоб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d79ca"/>
                </a:solidFill>
                <a:latin typeface="Georgia"/>
              </a:rPr>
              <a:t>Дитина вибудовує власну особистість, а ми їй допомагаємо, створюючи сприятливі умови у будь-якій сфері діяльності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212745"/>
                </a:solidFill>
                <a:latin typeface="Arial"/>
                <a:ea typeface="Arial"/>
              </a:rPr>
              <a:t>             </a:t>
            </a:r>
            <a:r>
              <a:rPr b="1" lang="uk-UA" sz="4000" spc="-1" strike="noStrike">
                <a:solidFill>
                  <a:srgbClr val="212745"/>
                </a:solidFill>
                <a:latin typeface="Georgia"/>
                <a:ea typeface="Arial"/>
              </a:rPr>
              <a:t>Кожна людина прагне </a:t>
            </a:r>
            <a:br>
              <a:rPr sz="4000"/>
            </a:br>
            <a:r>
              <a:rPr b="1" lang="uk-UA" sz="4000" spc="-1" strike="noStrike">
                <a:solidFill>
                  <a:srgbClr val="212745"/>
                </a:solidFill>
                <a:latin typeface="Georgia"/>
                <a:ea typeface="Arial"/>
              </a:rPr>
              <a:t>до успіху</a:t>
            </a: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944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  <a:ea typeface="Arial"/>
              </a:rPr>
              <a:t>                        </a:t>
            </a:r>
            <a:r>
              <a:rPr b="1" lang="uk-UA" sz="2000" spc="-1" strike="noStrike">
                <a:solidFill>
                  <a:srgbClr val="031828"/>
                </a:solidFill>
                <a:latin typeface="Georgia"/>
                <a:ea typeface="Arial"/>
              </a:rPr>
              <a:t>Педагогічний інваріант Селестена Френ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31828"/>
                </a:solidFill>
                <a:latin typeface="Georgia"/>
                <a:ea typeface="Arial"/>
              </a:rPr>
              <a:t> </a:t>
            </a:r>
            <a:r>
              <a:rPr b="1" i="1" lang="ru-RU" sz="2000" spc="-1" strike="noStrike">
                <a:solidFill>
                  <a:srgbClr val="031828"/>
                </a:solidFill>
                <a:latin typeface="Georgia"/>
                <a:ea typeface="Arial"/>
              </a:rPr>
              <a:t>Célestin Freinet (</a:t>
            </a:r>
            <a:r>
              <a:rPr b="1" lang="ru-RU" sz="2000" spc="-1" strike="noStrike">
                <a:solidFill>
                  <a:srgbClr val="031828"/>
                </a:solidFill>
                <a:latin typeface="Georgia"/>
                <a:ea typeface="Arial"/>
              </a:rPr>
              <a:t>1896 – 1966) – </a:t>
            </a:r>
            <a:r>
              <a:rPr b="1" lang="uk-UA" sz="2000" spc="-1" strike="noStrike">
                <a:solidFill>
                  <a:srgbClr val="031828"/>
                </a:solidFill>
                <a:latin typeface="Georgia"/>
                <a:ea typeface="Arial"/>
              </a:rPr>
              <a:t>французький педагог,  директор школи, засновник «Міжнародної федерації прихильників нової школи» (1957 р.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944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79ca"/>
                </a:solidFill>
                <a:latin typeface="Georgia"/>
                <a:ea typeface="Arial"/>
              </a:rPr>
              <a:t>«Разрабатывая нашу педагогическую технику, мы никогда не исходили из каких бы то ни было педагогических теорий. Наши методы базируются исключительно на опыте, который мы получили наощупь, в ходе непосредственной работы с детьми. Ни одно из наших нововведений не имеет корней в какой-либо априорной идее»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174492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12745"/>
                </a:solidFill>
                <a:latin typeface="Georgia"/>
              </a:rPr>
              <a:t>Проблема професійного вибору, професійної орієнтації, професіоналізації школярів</a:t>
            </a:r>
            <a:br>
              <a:rPr sz="2800"/>
            </a:br>
            <a:endParaRPr b="0" lang="en-US" sz="28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73c65"/>
                </a:solidFill>
                <a:latin typeface="Georgia"/>
              </a:rPr>
              <a:t>Плани:</a:t>
            </a:r>
            <a:r>
              <a:rPr b="1" lang="uk-UA" sz="2800" spc="-1" strike="noStrike">
                <a:solidFill>
                  <a:srgbClr val="0c779d"/>
                </a:solidFill>
                <a:latin typeface="Georgia"/>
              </a:rPr>
              <a:t> особисті плани школяра щодо кар'єри і майбутнього. Плани батькі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73c65"/>
                </a:solidFill>
                <a:latin typeface="Georgia"/>
              </a:rPr>
              <a:t>Схильності:</a:t>
            </a:r>
            <a:r>
              <a:rPr b="1" lang="uk-UA" sz="2800" spc="-1" strike="noStrike">
                <a:solidFill>
                  <a:srgbClr val="0c779d"/>
                </a:solidFill>
                <a:latin typeface="Georgia"/>
              </a:rPr>
              <a:t> інтерес до певних видів діяльності, побажанн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73c65"/>
                </a:solidFill>
                <a:latin typeface="Georgia"/>
              </a:rPr>
              <a:t>Здібності:</a:t>
            </a:r>
            <a:r>
              <a:rPr b="1" lang="uk-UA" sz="2800" spc="-1" strike="noStrike">
                <a:solidFill>
                  <a:srgbClr val="0c779d"/>
                </a:solidFill>
                <a:latin typeface="Georgia"/>
              </a:rPr>
              <a:t> які вже виявлені та приховані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73c65"/>
                </a:solidFill>
                <a:latin typeface="Georgia"/>
              </a:rPr>
              <a:t>Актуальний соціальний запит </a:t>
            </a:r>
            <a:r>
              <a:rPr b="1" lang="uk-UA" sz="2800" spc="-1" strike="noStrike">
                <a:solidFill>
                  <a:srgbClr val="0c779d"/>
                </a:solidFill>
                <a:latin typeface="Georgia"/>
              </a:rPr>
              <a:t>на окремий вид професії прогноз динаміки попиту на професіоналів в майбутньому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12745"/>
                </a:solidFill>
                <a:latin typeface="Georgia"/>
              </a:rPr>
              <a:t>Основні поняття</a:t>
            </a: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844280"/>
            <a:ext cx="8229600" cy="47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12745"/>
                </a:solidFill>
                <a:latin typeface="Georgia"/>
              </a:rPr>
              <a:t>Вибір</a:t>
            </a:r>
            <a:r>
              <a:rPr b="0" lang="uk-UA" sz="2000" spc="-1" strike="noStrike">
                <a:solidFill>
                  <a:srgbClr val="212745"/>
                </a:solidFill>
                <a:latin typeface="Georgia"/>
              </a:rPr>
              <a:t> 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uk-UA" sz="2000" spc="-1" strike="noStrike">
                <a:solidFill>
                  <a:srgbClr val="212745"/>
                </a:solidFill>
                <a:latin typeface="Georgia"/>
              </a:rPr>
              <a:t>-</a:t>
            </a:r>
            <a:r>
              <a:rPr b="1" lang="uk-UA" sz="2000" spc="-1" strike="noStrike">
                <a:solidFill>
                  <a:srgbClr val="0d79ca"/>
                </a:solidFill>
                <a:latin typeface="Georgia"/>
              </a:rPr>
              <a:t>  вольовий акт,  який дозволяє надати перевагу одній із альтернатив після періоду обмірковування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12745"/>
                </a:solidFill>
                <a:latin typeface="Georgia"/>
              </a:rPr>
              <a:t>Професійна орієнтація 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1" lang="uk-UA" sz="2000" spc="-1" strike="noStrike">
                <a:solidFill>
                  <a:srgbClr val="0d79ca"/>
                </a:solidFill>
                <a:latin typeface="Georgia"/>
              </a:rPr>
              <a:t>комплексна науково обґрунтована система форм, методів та засобів впливу на особу з метою оптимізації її професійного самовизначення на основі врахування особистісних характеристик кожного індивідуума та потреб ринку праці. Вона спрямована на досягнення збалансованості між професійними інтересами і можливостями людини та потребами суспільства в конкретних видах професійної діяльності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12745"/>
                </a:solidFill>
                <a:latin typeface="Georgia"/>
              </a:rPr>
              <a:t>Професіоналізація</a:t>
            </a:r>
            <a:r>
              <a:rPr b="0" lang="uk-UA" sz="2000" spc="-1" strike="noStrike">
                <a:solidFill>
                  <a:srgbClr val="212745"/>
                </a:solidFill>
                <a:latin typeface="Georgia"/>
              </a:rPr>
              <a:t> -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uk-UA" sz="2000" spc="-1" strike="noStrike">
                <a:solidFill>
                  <a:srgbClr val="0d79ca"/>
                </a:solidFill>
                <a:latin typeface="Georgia"/>
              </a:rPr>
              <a:t>це цілісний безперервний процес становлення професіонала, фахівця, що починається з моменту вибору майбутньої професії та завершується, коли особистість припиняє активну трудову діяльність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5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212745"/>
                </a:solidFill>
                <a:latin typeface="Georgia"/>
              </a:rPr>
              <a:t>Порівняння філософії минулої та нової школи </a:t>
            </a:r>
            <a:endParaRPr b="0" lang="en-US" sz="36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24" name="Объект 3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4038840" cy="428940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1" descr=""/>
          <p:cNvPicPr/>
          <p:nvPr/>
        </p:nvPicPr>
        <p:blipFill>
          <a:blip r:embed="rId3"/>
          <a:stretch/>
        </p:blipFill>
        <p:spPr>
          <a:xfrm>
            <a:off x="4067280" y="1773360"/>
            <a:ext cx="4844880" cy="432432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5"/>
          <p:cNvSpPr/>
          <p:nvPr/>
        </p:nvSpPr>
        <p:spPr>
          <a:xfrm>
            <a:off x="777960" y="6168960"/>
            <a:ext cx="7632720" cy="573120"/>
          </a:xfrm>
          <a:prstGeom prst="rect">
            <a:avLst/>
          </a:prstGeom>
          <a:solidFill>
            <a:srgbClr val="4e67c8"/>
          </a:solidFill>
          <a:ln w="1908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житт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00000" y="-27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Порівняння філософії минулої та сучасної школи</a:t>
            </a:r>
            <a:endParaRPr b="0" lang="en-US" sz="2400" spc="-1" strike="noStrike">
              <a:solidFill>
                <a:srgbClr val="212745"/>
              </a:solidFill>
              <a:latin typeface="Trebuchet MS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79280" y="604800"/>
          <a:ext cx="8785440" cy="5789520"/>
        </p:xfrm>
        <a:graphic>
          <a:graphicData uri="http://schemas.openxmlformats.org/drawingml/2006/table">
            <a:tbl>
              <a:tblPr/>
              <a:tblGrid>
                <a:gridCol w="2592360"/>
                <a:gridCol w="2952720"/>
                <a:gridCol w="324036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ритері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філософія школ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минулого період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філософія нової шко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528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191d34"/>
                          </a:solidFill>
                          <a:latin typeface="Arial"/>
                          <a:ea typeface="Arial"/>
                        </a:rPr>
                        <a:t>суспільство, для життя в якому готується дит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191d34"/>
                          </a:solidFill>
                          <a:latin typeface="Arial"/>
                          <a:ea typeface="Arial"/>
                        </a:rPr>
                        <a:t>патерналістський ти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191d34"/>
                          </a:solidFill>
                          <a:latin typeface="Arial"/>
                          <a:ea typeface="Arial"/>
                        </a:rPr>
                        <a:t>постіндустріальне, інформаційне, суспільство зна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45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191d34"/>
                          </a:solidFill>
                          <a:latin typeface="Arial"/>
                          <a:ea typeface="Arial"/>
                        </a:rPr>
                        <a:t>основні категорії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191d34"/>
                          </a:solidFill>
                          <a:latin typeface="Arial"/>
                          <a:ea typeface="Times New Roman"/>
                        </a:rPr>
                        <a:t>основи наук, догматична ідеолог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191d34"/>
                          </a:solidFill>
                          <a:latin typeface="Arial"/>
                          <a:ea typeface="Times New Roman"/>
                        </a:rPr>
                        <a:t>наука, культура, гуманізація, інформац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53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191d34"/>
                          </a:solidFill>
                          <a:latin typeface="Arial"/>
                          <a:ea typeface="Times New Roman"/>
                        </a:rPr>
                        <a:t>чинники впливу на осві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191d34"/>
                          </a:solidFill>
                          <a:latin typeface="Arial"/>
                          <a:ea typeface="Arial"/>
                        </a:rPr>
                        <a:t>держа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191d34"/>
                          </a:solidFill>
                          <a:latin typeface="Arial"/>
                          <a:ea typeface="Times New Roman"/>
                        </a:rPr>
                        <a:t>суспільство, держава, громадськість, батьки, бізнес, політичні партії, релігійні конфесії тощ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854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191d34"/>
                          </a:solidFill>
                          <a:latin typeface="Arial"/>
                          <a:ea typeface="Times New Roman"/>
                        </a:rPr>
                        <a:t>особливість інформаційних поток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191d34"/>
                          </a:solidFill>
                          <a:latin typeface="Arial"/>
                          <a:ea typeface="Times New Roman"/>
                        </a:rPr>
                        <a:t>загальний потік від ЗМІ, освіти, родини крізь призму ідеології. Учитель – основний носій інформац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191d34"/>
                          </a:solidFill>
                          <a:latin typeface="Arial"/>
                          <a:ea typeface="Times New Roman"/>
                        </a:rPr>
                        <a:t>множинність, суперечливість, нерівнозначність інформац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52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191d34"/>
                          </a:solidFill>
                          <a:latin typeface="Arial"/>
                          <a:ea typeface="Arial"/>
                        </a:rPr>
                        <a:t>особисті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191d34"/>
                          </a:solidFill>
                          <a:latin typeface="Arial"/>
                          <a:ea typeface="Times New Roman"/>
                        </a:rPr>
                        <a:t>пасивно сприймає і відтворює інформацію. Соціальна роль – учен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191d34"/>
                          </a:solidFill>
                          <a:latin typeface="Arial"/>
                          <a:ea typeface="Times New Roman"/>
                        </a:rPr>
                        <a:t>активно сприймає інформацію, вміє самостійно здобувати та використовувати знання. Множинність соціальних ро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66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191d34"/>
                          </a:solidFill>
                          <a:latin typeface="Arial"/>
                          <a:ea typeface="Times New Roman"/>
                        </a:rPr>
                        <a:t>ідеал учня у навчанн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191d34"/>
                          </a:solidFill>
                          <a:latin typeface="Arial"/>
                          <a:ea typeface="Times New Roman"/>
                        </a:rPr>
                        <a:t>великий обсяг знань, сформований на основі розвитку пам’я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191d34"/>
                          </a:solidFill>
                          <a:latin typeface="Arial"/>
                          <a:ea typeface="Times New Roman"/>
                        </a:rPr>
                        <a:t>сформовані компетентнос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53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191d34"/>
                          </a:solidFill>
                          <a:latin typeface="Arial"/>
                          <a:ea typeface="Times New Roman"/>
                        </a:rPr>
                        <a:t>ідеал учня у вихованн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191d34"/>
                          </a:solidFill>
                          <a:latin typeface="Arial"/>
                          <a:ea typeface="Times New Roman"/>
                        </a:rPr>
                        <a:t>у цілому відповідає вимогам «Морального кодексу будівника комунізму», слухняний, колективі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191d34"/>
                          </a:solidFill>
                          <a:latin typeface="Arial"/>
                          <a:ea typeface="Times New Roman"/>
                        </a:rPr>
                        <a:t>здатний до морального вчинку, прагне до самореалізації, творчості, виявляє індивідуальність та індивідуаліз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</a:tbl>
          </a:graphicData>
        </a:graphic>
      </p:graphicFrame>
      <p:grpSp>
        <p:nvGrpSpPr>
          <p:cNvPr id="229" name="Скругленный прямоугольник 6"/>
          <p:cNvGrpSpPr/>
          <p:nvPr/>
        </p:nvGrpSpPr>
        <p:grpSpPr>
          <a:xfrm>
            <a:off x="-30240" y="-128520"/>
            <a:ext cx="920880" cy="750960"/>
            <a:chOff x="-30240" y="-128520"/>
            <a:chExt cx="920880" cy="750960"/>
          </a:xfrm>
        </p:grpSpPr>
        <p:pic>
          <p:nvPicPr>
            <p:cNvPr id="230" name="Скругленный прямоугольник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-30240" y="-128520"/>
              <a:ext cx="92088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49320" y="130320"/>
              <a:ext cx="76356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ffff"/>
                  </a:solidFill>
                  <a:latin typeface="Georgia"/>
                </a:rPr>
                <a:t>меню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191d34"/>
                </a:solidFill>
                <a:latin typeface="Georgia"/>
                <a:ea typeface="Arial"/>
              </a:rPr>
              <a:t>Порівняння філософії минулої та сучасної школи </a:t>
            </a:r>
            <a:br>
              <a:rPr sz="2200"/>
            </a:br>
            <a:r>
              <a:rPr b="0" lang="uk-UA" sz="1200" spc="-1" strike="noStrike">
                <a:solidFill>
                  <a:srgbClr val="191d34"/>
                </a:solidFill>
                <a:latin typeface="Arial"/>
                <a:ea typeface="Arial"/>
              </a:rPr>
              <a:t>(продовження табл.) </a:t>
            </a:r>
            <a:endParaRPr b="0" lang="en-US" sz="1200" spc="-1" strike="noStrike">
              <a:solidFill>
                <a:srgbClr val="212745"/>
              </a:solidFill>
              <a:latin typeface="Trebuchet MS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79280" y="1747800"/>
          <a:ext cx="8785440" cy="3265560"/>
        </p:xfrm>
        <a:graphic>
          <a:graphicData uri="http://schemas.openxmlformats.org/drawingml/2006/table">
            <a:tbl>
              <a:tblPr/>
              <a:tblGrid>
                <a:gridCol w="2592360"/>
                <a:gridCol w="2952720"/>
                <a:gridCol w="3240360"/>
              </a:tblGrid>
              <a:tr h="7318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ритері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філософія школи радянського період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філософія нової шко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781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деал уч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нання предмета, методики викладання та вихо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фесіоналізм, здатність до набуття нових компетент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898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зультати осві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фесія на все житт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датність до навчання впродовж життя, професійна мобільність, конкурентноздатн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54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обливості управління школо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вертикаль», керівництво, тотальний контроль, авторитариз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безпечення розвитку об’єкта управління, менеджмент, «горизонталь», відповідальність за ухвалені рішення, лідер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</a:tbl>
          </a:graphicData>
        </a:graphic>
      </p:graphicFrame>
      <p:grpSp>
        <p:nvGrpSpPr>
          <p:cNvPr id="234" name="Скругленный прямоугольник 4"/>
          <p:cNvGrpSpPr/>
          <p:nvPr/>
        </p:nvGrpSpPr>
        <p:grpSpPr>
          <a:xfrm>
            <a:off x="-30240" y="-128520"/>
            <a:ext cx="920880" cy="750960"/>
            <a:chOff x="-30240" y="-128520"/>
            <a:chExt cx="920880" cy="750960"/>
          </a:xfrm>
        </p:grpSpPr>
        <p:pic>
          <p:nvPicPr>
            <p:cNvPr id="235" name="Скругленный прямоугольник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-30240" y="-128520"/>
              <a:ext cx="92088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49320" y="130320"/>
              <a:ext cx="76356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ffff"/>
                  </a:solidFill>
                  <a:latin typeface="Georgia"/>
                </a:rPr>
                <a:t>меню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212745"/>
                </a:solidFill>
                <a:latin typeface="Georgia"/>
              </a:rPr>
              <a:t>Педагогічний аспект ранньої професіоналізації</a:t>
            </a:r>
            <a:endParaRPr b="0" lang="en-US" sz="36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2636640"/>
            <a:ext cx="8229600" cy="42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d79ca"/>
                </a:solidFill>
                <a:latin typeface="Georgia"/>
              </a:rPr>
              <a:t>психологічні основи;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d79ca"/>
                </a:solidFill>
                <a:latin typeface="Georgia"/>
              </a:rPr>
              <a:t>навчання;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d79ca"/>
                </a:solidFill>
                <a:latin typeface="Georgia"/>
              </a:rPr>
              <a:t>виховання;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d79ca"/>
                </a:solidFill>
                <a:latin typeface="Georgia"/>
              </a:rPr>
              <a:t>розвиток;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d79ca"/>
                </a:solidFill>
                <a:latin typeface="Georgia"/>
              </a:rPr>
              <a:t>взаємодія з батьками;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d79ca"/>
                </a:solidFill>
                <a:latin typeface="Georgia"/>
              </a:rPr>
              <a:t>педагогічна підтримка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212745"/>
                </a:solidFill>
                <a:latin typeface="Georgia"/>
              </a:rPr>
              <a:t>Управлінський аспект ранньої професіоналізації </a:t>
            </a:r>
            <a:br>
              <a:rPr sz="2900"/>
            </a:br>
            <a:r>
              <a:rPr b="1" lang="uk-UA" sz="2900" spc="-1" strike="noStrike">
                <a:solidFill>
                  <a:srgbClr val="212745"/>
                </a:solidFill>
                <a:latin typeface="Georgia"/>
              </a:rPr>
              <a:t>(загальне управління)</a:t>
            </a:r>
            <a:endParaRPr b="0" lang="en-US" sz="29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421000"/>
            <a:ext cx="8229600" cy="41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d79ca"/>
                </a:solidFill>
                <a:latin typeface="Georgia"/>
              </a:rPr>
              <a:t>функції управління із забезпечення ранньої професіоналізації (планування, організація, координація, контроль, аналіз);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d79ca"/>
                </a:solidFill>
                <a:latin typeface="Georgia"/>
              </a:rPr>
              <a:t>підготовка педагогічних кадрів до цього напряму;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d79ca"/>
                </a:solidFill>
                <a:latin typeface="Georgia"/>
              </a:rPr>
              <a:t>комунікація із зовнішнім середовищем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2T10:06:58Z</dcterms:created>
  <dc:creator>Тома</dc:creator>
  <dc:description/>
  <dc:language>en-US</dc:language>
  <cp:lastModifiedBy>SamLab.ws</cp:lastModifiedBy>
  <dcterms:modified xsi:type="dcterms:W3CDTF">2017-03-20T06:30:38Z</dcterms:modified>
  <cp:revision>15</cp:revision>
  <dc:subject/>
  <dc:title>МАЙБУТНІЙ ПРОФЕСІЙНИЙ ВИБІР ШКОЛЯРА:  УПРАВЛІНСЬКИЙ ТА ПЕДАГОГІЧНИЙ АСПЕКТИ СПРИЯННЯ УСПІХУ</dc:title>
</cp:coreProperties>
</file>