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ACD-10AF-4B30-85B1-1A65859E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966-236D-440C-A912-3088A6D1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E33-345F-4665-962A-AB571CA8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F19-6BFD-4733-8CB4-BF806B65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814E-AE37-4655-B6B1-431C0331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E547-9B9E-4F0A-9AB3-1D63243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9E51-01C6-4C7A-A206-B8DA8FF0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9E63-F6A8-4C87-A5D1-A7ABA44F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B380-37AC-429A-B4AA-9AB5EB7F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3714-AB6E-44D3-9599-89C01AE1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6A11-BB95-4034-9AB0-58E42A5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A9A-C5DA-4DA1-9504-A65F6D72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7E36-87DB-4A67-B627-5ADBCED0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497C-9752-4141-B4C9-BE258B97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0897-8C06-4522-9A99-0706A23B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9A83-5AD6-4C0D-8688-C931B8BD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FCFF-84DD-4DDC-9FA5-4F8561AC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7D9D7-717B-4F26-A92B-DEA88965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92C16-DECE-4C79-83D3-22FB7B97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0562C-7002-4D7A-8FFF-89FFD11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73EB9-54E0-4724-A24A-C1FDBF7F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54A91-0372-4014-B29E-6FE436A6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1B9-DB66-41C0-9153-01962A42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B0DAE-7125-4216-9476-B79E1303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7EBEA-96B5-4D70-A378-8A99923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C4AB3-DD8B-4172-B434-AA58EC9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6E6D7-71AF-4E73-A7E5-4653549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D04C4-F297-497E-B305-8BA03F12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97843-7C60-47F6-9918-C3919E92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F6A7D-EC9F-446A-8B72-F09DF212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0FC7-C7F6-47C7-8AD8-8BD653E3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9031-ED1D-48DF-BFB3-41C77772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8B88-7E68-450F-A3F6-85BB0DEF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E83-5B9C-4725-9F25-2CB948CE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92A2-241A-41E0-8127-AB9D2E42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A0F7-DC6D-47EA-8BE2-AE621199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3159D-59B6-4915-BFD8-CFE11481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784BA-FD24-4E96-9064-00246F1A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A0A4-E844-448E-AE83-898B6A68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7CF6F-ED61-4FBA-9AB2-175D7B98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B78D-DA82-4C7F-B470-D9B52CB6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52B5-0612-4AF2-A7C6-B7821301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D6F6-E49E-4F42-BE28-F9697B0F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F1F-D875-44E8-93A2-13526B81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12A-CD31-42F4-9309-F4F0070F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BA4-4311-43B3-B429-5F3C44A2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298-CA76-4057-AA0B-C26B20EA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D34-9430-4226-AB8B-DF00973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4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5eccf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7ea5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ecc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eccf3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BC6-1566-4B03-B3FD-80A4405B983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5eccf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5eccf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5eccf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4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5eccf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7ea5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ecc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eccf3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4915-2868-453D-988C-62F79FDD6B9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4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5eccf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7ea5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ecc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eccf3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1BA6-5047-4E0A-9877-0BB55C8574D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5eccf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274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5eccf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e67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7ea5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ecc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eccf3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B8A5-DB61-4A47-833B-130923AA505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  <a:ea typeface="Arial"/>
              </a:rPr>
              <a:t>МАЙБУТНІЙ ПРОФЕСІЙНИЙ ВИБІР ШКОЛЯРА: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eorgia"/>
                <a:ea typeface="Arial"/>
              </a:rPr>
              <a:t>УПРАВЛІНСЬКИЙ ТА ПЕДАГОГІЧНИЙ АСПЕКТИ СПРИЯННЯ УСПІХУ</a:t>
            </a:r>
            <a:br>
              <a:rPr sz="3600"/>
            </a:br>
            <a:endParaRPr b="0" lang="en-US" sz="36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124000" y="3933360"/>
            <a:ext cx="66340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745"/>
                </a:solidFill>
                <a:latin typeface="Arial"/>
                <a:ea typeface="Arial"/>
              </a:rPr>
              <a:t>Сорочан Тамара Михайлівна</a:t>
            </a: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Arial"/>
                <a:ea typeface="Arial"/>
              </a:rPr>
              <a:t>доктор педагогічних наук, професор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Arial"/>
                <a:ea typeface="Arial"/>
              </a:rPr>
              <a:t>Заслужений працівник освіти України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Arial"/>
                <a:ea typeface="Arial"/>
              </a:rPr>
              <a:t>директор Центрального інституту післядипломної педагогічної освіт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Arial"/>
                <a:ea typeface="Arial"/>
              </a:rPr>
              <a:t>ДВНЗ «Університет менеджменту освіти» Національної академії педагогічних наук Україн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12745"/>
                </a:solidFill>
                <a:latin typeface="Georgia"/>
              </a:rPr>
              <a:t>Управлінський аспект ранньої професіоналізації </a:t>
            </a:r>
            <a:br>
              <a:rPr sz="3200"/>
            </a:br>
            <a:r>
              <a:rPr b="1" lang="uk-UA" sz="3200" spc="-1" strike="noStrike">
                <a:solidFill>
                  <a:srgbClr val="212745"/>
                </a:solidFill>
                <a:latin typeface="Georgia"/>
              </a:rPr>
              <a:t>(специфічні технології)</a:t>
            </a:r>
            <a:endParaRPr b="0" lang="en-US" sz="3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49228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d79ca"/>
                </a:solidFill>
                <a:latin typeface="Georgia"/>
              </a:rPr>
              <a:t>Створення умов для самореалізації школярів у різних видах діяльності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d79ca"/>
                </a:solidFill>
                <a:latin typeface="Georgia"/>
              </a:rPr>
              <a:t>Ознайомлення з практичними, фаховими та психологічними особливостями професійної діяльності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d79ca"/>
                </a:solidFill>
                <a:latin typeface="Georgia"/>
              </a:rPr>
              <a:t>Професійне індивідуальне консультування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d79ca"/>
                </a:solidFill>
                <a:latin typeface="Georgia"/>
              </a:rPr>
              <a:t>Залучення фахівців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212745"/>
                </a:solidFill>
                <a:latin typeface="Georgia"/>
              </a:rPr>
              <a:t>Успіх</a:t>
            </a:r>
            <a:endParaRPr b="0" lang="en-US" sz="54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70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d79ca"/>
                </a:solidFill>
                <a:latin typeface="Georgia"/>
              </a:rPr>
              <a:t>позитивний наслідок роботи, справи; значні досягнення; громадське визнання, схвалення чого-небудь, чиїхось досягнен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12745"/>
                </a:solidFill>
                <a:latin typeface="Georgia"/>
              </a:rPr>
              <a:t>Умови  успіху</a:t>
            </a:r>
            <a:br>
              <a:rPr sz="4400"/>
            </a:br>
            <a:endParaRPr b="0" lang="en-US" sz="44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3920" indent="-219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успіху має передувати діяльність, наполеглива робота (над собою, індивідуальна, спільна, колективна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успіх полягає в результаті (сьогодні результат більший, ніж раніше, а в перспективі ще зростатиме)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успіх має бути визнаний іншими людьми (ми приносимо користь не лише собі, а й іншим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79ca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12745"/>
                </a:solidFill>
                <a:latin typeface="Georgia"/>
              </a:rPr>
              <a:t>Пріоритети нової школи – </a:t>
            </a:r>
            <a:br>
              <a:rPr sz="3200"/>
            </a:br>
            <a:r>
              <a:rPr b="1" lang="uk-UA" sz="3200" spc="-1" strike="noStrike">
                <a:solidFill>
                  <a:srgbClr val="212745"/>
                </a:solidFill>
                <a:latin typeface="Georgia"/>
              </a:rPr>
              <a:t>школи успіху</a:t>
            </a:r>
            <a:endParaRPr b="0" lang="en-US" sz="3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Цінність педагогічного досвід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Збереження здоров’я ді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Розвиток творчих здібностей, бажання пізнава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Створення сприятливого середовищ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Обладнання та технічні засоб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d79ca"/>
                </a:solidFill>
                <a:latin typeface="Georgia"/>
              </a:rPr>
              <a:t>Дитина вибудовує власну особистість, а ми їй допомагаємо, створюючи сприятливі умови у будь-якій сфері діяльності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212745"/>
                </a:solidFill>
                <a:latin typeface="Arial"/>
                <a:ea typeface="Arial"/>
              </a:rPr>
              <a:t>             </a:t>
            </a:r>
            <a:r>
              <a:rPr b="1" lang="uk-UA" sz="4000" spc="-1" strike="noStrike">
                <a:solidFill>
                  <a:srgbClr val="212745"/>
                </a:solidFill>
                <a:latin typeface="Georgia"/>
                <a:ea typeface="Arial"/>
              </a:rPr>
              <a:t>Кожна людина прагне </a:t>
            </a:r>
            <a:br>
              <a:rPr sz="4000"/>
            </a:br>
            <a:r>
              <a:rPr b="1" lang="uk-UA" sz="4000" spc="-1" strike="noStrike">
                <a:solidFill>
                  <a:srgbClr val="212745"/>
                </a:solidFill>
                <a:latin typeface="Georgia"/>
                <a:ea typeface="Arial"/>
              </a:rPr>
              <a:t>до успіху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eorgia"/>
                <a:ea typeface="Arial"/>
              </a:rPr>
              <a:t>                        </a:t>
            </a:r>
            <a:r>
              <a:rPr b="1" lang="uk-UA" sz="2000" spc="-1" strike="noStrike">
                <a:solidFill>
                  <a:srgbClr val="031828"/>
                </a:solidFill>
                <a:latin typeface="Georgia"/>
                <a:ea typeface="Arial"/>
              </a:rPr>
              <a:t>Педагогічний інваріант Селестена Френ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1828"/>
                </a:solidFill>
                <a:latin typeface="Georgia"/>
                <a:ea typeface="Arial"/>
              </a:rPr>
              <a:t> </a:t>
            </a:r>
            <a:r>
              <a:rPr b="1" i="1" lang="ru-RU" sz="2000" spc="-1" strike="noStrike">
                <a:solidFill>
                  <a:srgbClr val="031828"/>
                </a:solidFill>
                <a:latin typeface="Georgia"/>
                <a:ea typeface="Arial"/>
              </a:rPr>
              <a:t>Célestin Freinet (</a:t>
            </a:r>
            <a:r>
              <a:rPr b="1" lang="ru-RU" sz="2000" spc="-1" strike="noStrike">
                <a:solidFill>
                  <a:srgbClr val="031828"/>
                </a:solidFill>
                <a:latin typeface="Georgia"/>
                <a:ea typeface="Arial"/>
              </a:rPr>
              <a:t>1896 – 1966) – </a:t>
            </a:r>
            <a:r>
              <a:rPr b="1" lang="uk-UA" sz="2000" spc="-1" strike="noStrike">
                <a:solidFill>
                  <a:srgbClr val="031828"/>
                </a:solidFill>
                <a:latin typeface="Georgia"/>
                <a:ea typeface="Arial"/>
              </a:rPr>
              <a:t>французький педагог,  директор школи, засновник «Міжнародної федерації прихильників нової школи» (1957 р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79ca"/>
                </a:solidFill>
                <a:latin typeface="Georgia"/>
                <a:ea typeface="Arial"/>
              </a:rPr>
              <a:t>«Разрабатывая нашу педагогическую технику, мы никогда не исходили из каких бы то ни было педагогических теорий. Наши методы базируются исключительно на опыте, который мы получили наощупь, в ходе непосредственной работы с детьми. Ни одно из наших нововведений не имеет корней в какой-либо априорной идее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17449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12745"/>
                </a:solidFill>
                <a:latin typeface="Georgia"/>
              </a:rPr>
              <a:t>Проблема професійного вибору, професійної орієнтації, професіоналізації школярів</a:t>
            </a:r>
            <a:br>
              <a:rPr sz="2800"/>
            </a:br>
            <a:endParaRPr b="0" lang="en-US" sz="28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3c65"/>
                </a:solidFill>
                <a:latin typeface="Georgia"/>
              </a:rPr>
              <a:t>Плани:</a:t>
            </a:r>
            <a:r>
              <a:rPr b="1" lang="uk-UA" sz="2800" spc="-1" strike="noStrike">
                <a:solidFill>
                  <a:srgbClr val="0c779d"/>
                </a:solidFill>
                <a:latin typeface="Georgia"/>
              </a:rPr>
              <a:t> особисті плани школяра щодо кар'єри і майбутнього. Плани батькі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3c65"/>
                </a:solidFill>
                <a:latin typeface="Georgia"/>
              </a:rPr>
              <a:t>Схильності:</a:t>
            </a:r>
            <a:r>
              <a:rPr b="1" lang="uk-UA" sz="2800" spc="-1" strike="noStrike">
                <a:solidFill>
                  <a:srgbClr val="0c779d"/>
                </a:solidFill>
                <a:latin typeface="Georgia"/>
              </a:rPr>
              <a:t> інтерес до певних видів діяльності, побажанн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3c65"/>
                </a:solidFill>
                <a:latin typeface="Georgia"/>
              </a:rPr>
              <a:t>Здібності:</a:t>
            </a:r>
            <a:r>
              <a:rPr b="1" lang="uk-UA" sz="2800" spc="-1" strike="noStrike">
                <a:solidFill>
                  <a:srgbClr val="0c779d"/>
                </a:solidFill>
                <a:latin typeface="Georgia"/>
              </a:rPr>
              <a:t> які вже виявлені та приховані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3c65"/>
                </a:solidFill>
                <a:latin typeface="Georgia"/>
              </a:rPr>
              <a:t>Актуальний соціальний запит </a:t>
            </a:r>
            <a:r>
              <a:rPr b="1" lang="uk-UA" sz="2800" spc="-1" strike="noStrike">
                <a:solidFill>
                  <a:srgbClr val="0c779d"/>
                </a:solidFill>
                <a:latin typeface="Georgia"/>
              </a:rPr>
              <a:t>на окремий вид професії прогноз динаміки попиту на професіоналів в майбутньо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12745"/>
                </a:solidFill>
                <a:latin typeface="Georgia"/>
              </a:rPr>
              <a:t>Основні поняття</a:t>
            </a:r>
            <a:endParaRPr b="0" lang="en-US" sz="40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Georgia"/>
              </a:rPr>
              <a:t>Вибір</a:t>
            </a:r>
            <a:r>
              <a:rPr b="0" lang="uk-UA" sz="2000" spc="-1" strike="noStrike">
                <a:solidFill>
                  <a:srgbClr val="212745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212745"/>
                </a:solidFill>
                <a:latin typeface="Georgia"/>
              </a:rPr>
              <a:t>-</a:t>
            </a:r>
            <a:r>
              <a:rPr b="1" lang="uk-UA" sz="2000" spc="-1" strike="noStrike">
                <a:solidFill>
                  <a:srgbClr val="0d79ca"/>
                </a:solidFill>
                <a:latin typeface="Georgia"/>
              </a:rPr>
              <a:t>  вольовий акт,  який дозволяє надати перевагу одній із альтернатив після періоду обмірковуванн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Georgia"/>
              </a:rPr>
              <a:t>Професійна орієнтація 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lang="uk-UA" sz="2000" spc="-1" strike="noStrike">
                <a:solidFill>
                  <a:srgbClr val="0d79ca"/>
                </a:solidFill>
                <a:latin typeface="Georgia"/>
              </a:rPr>
              <a:t>комплексна науково обґрунтована система форм, методів та засобів впливу на особу з метою оптимізації її професійного самовизначення на основі врахування особистісних характеристик кожного індивідуума та потреб ринку праці. Вона спрямована на досягнення збалансованості між професійними інтересами і можливостями людини та потребами суспільства в конкретних видах професійної діяльності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12745"/>
                </a:solidFill>
                <a:latin typeface="Georgia"/>
              </a:rPr>
              <a:t>Професіоналізація</a:t>
            </a:r>
            <a:r>
              <a:rPr b="0" lang="uk-UA" sz="2000" spc="-1" strike="noStrike">
                <a:solidFill>
                  <a:srgbClr val="212745"/>
                </a:solidFill>
                <a:latin typeface="Georgia"/>
              </a:rPr>
              <a:t> -</a:t>
            </a: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d79ca"/>
                </a:solidFill>
                <a:latin typeface="Georgia"/>
              </a:rPr>
              <a:t>це цілісний безперервний процес становлення професіонала, фахівця, що починається з моменту вибору майбутньої професії та завершується, коли особистість припиняє активну трудову діяльніст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12745"/>
                </a:solidFill>
                <a:latin typeface="Georgia"/>
              </a:rPr>
              <a:t>Порівняння філософії минулої та нової школи </a:t>
            </a:r>
            <a:endParaRPr b="0" lang="en-US" sz="36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24" name="Объект 3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038840" cy="42894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" descr=""/>
          <p:cNvPicPr/>
          <p:nvPr/>
        </p:nvPicPr>
        <p:blipFill>
          <a:blip r:embed="rId3"/>
          <a:stretch/>
        </p:blipFill>
        <p:spPr>
          <a:xfrm>
            <a:off x="4067280" y="1773360"/>
            <a:ext cx="4844880" cy="43243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5"/>
          <p:cNvSpPr/>
          <p:nvPr/>
        </p:nvSpPr>
        <p:spPr>
          <a:xfrm>
            <a:off x="777960" y="6168960"/>
            <a:ext cx="7632720" cy="573120"/>
          </a:xfrm>
          <a:prstGeom prst="rect">
            <a:avLst/>
          </a:prstGeom>
          <a:solidFill>
            <a:srgbClr val="4e67c8"/>
          </a:solidFill>
          <a:ln w="1908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житт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0000" y="-27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орівняння філософії минулої та сучасної школи</a:t>
            </a:r>
            <a:endParaRPr b="0" lang="en-US" sz="2400" spc="-1" strike="noStrike">
              <a:solidFill>
                <a:srgbClr val="212745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9280" y="604800"/>
          <a:ext cx="8785440" cy="5789520"/>
        </p:xfrm>
        <a:graphic>
          <a:graphicData uri="http://schemas.openxmlformats.org/drawingml/2006/table">
            <a:tbl>
              <a:tblPr/>
              <a:tblGrid>
                <a:gridCol w="2592360"/>
                <a:gridCol w="2952720"/>
                <a:gridCol w="324036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итері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ілософія шко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инулого пері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ілософія нової ш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52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суспільство, для життя в якому готується ди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патерналістський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постіндустріальне, інформаційне, суспільство зн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основні категорі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основи наук, догматична ідеоло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наука, культура, гуманізація, інформа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чинники впливу на осві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держ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суспільство, держава, громадськість, батьки, бізнес, політичні партії, релігійні конфесії тощ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особливість інформаційних пото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загальний потік від ЗМІ, освіти, родини крізь призму ідеології. Учитель – основний носій інфор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множинність, суперечливість, нерівнозначність інфор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5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Arial"/>
                        </a:rPr>
                        <a:t>особисті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пасивно сприймає і відтворює інформацію. Соціальна роль – уч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активно сприймає інформацію, вміє самостійно здобувати та використовувати знання. Множинність соціальних ро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ідеал учня у навча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великий обсяг знань, сформований на основі розвитку пам’я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сформовані компетент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ідеал учня у вихова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у цілому відповідає вимогам «Морального кодексу будівника комунізму», слухняний, колективі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91d34"/>
                          </a:solidFill>
                          <a:latin typeface="Arial"/>
                          <a:ea typeface="Times New Roman"/>
                        </a:rPr>
                        <a:t>здатний до морального вчинку, прагне до самореалізації, творчості, виявляє індивідуальність та індивідуаліз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grpSp>
        <p:nvGrpSpPr>
          <p:cNvPr id="229" name="Скругленный прямоугольник 6"/>
          <p:cNvGrpSpPr/>
          <p:nvPr/>
        </p:nvGrpSpPr>
        <p:grpSpPr>
          <a:xfrm>
            <a:off x="-30240" y="-128520"/>
            <a:ext cx="920880" cy="750960"/>
            <a:chOff x="-30240" y="-128520"/>
            <a:chExt cx="920880" cy="750960"/>
          </a:xfrm>
        </p:grpSpPr>
        <p:pic>
          <p:nvPicPr>
            <p:cNvPr id="230" name="Скругленный прямоугольник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30240" y="-128520"/>
              <a:ext cx="9208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9320" y="130320"/>
              <a:ext cx="763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Georgia"/>
                </a:rPr>
                <a:t>меню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191d34"/>
                </a:solidFill>
                <a:latin typeface="Georgia"/>
                <a:ea typeface="Arial"/>
              </a:rPr>
              <a:t>Порівняння філософії минулої та сучасної школи </a:t>
            </a:r>
            <a:br>
              <a:rPr sz="2200"/>
            </a:br>
            <a:r>
              <a:rPr b="0" lang="uk-UA" sz="1200" spc="-1" strike="noStrike">
                <a:solidFill>
                  <a:srgbClr val="191d34"/>
                </a:solidFill>
                <a:latin typeface="Arial"/>
                <a:ea typeface="Arial"/>
              </a:rPr>
              <a:t>(продовження табл.) </a:t>
            </a:r>
            <a:endParaRPr b="0" lang="en-US" sz="1200" spc="-1" strike="noStrike">
              <a:solidFill>
                <a:srgbClr val="212745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9280" y="1747800"/>
          <a:ext cx="8785440" cy="3265560"/>
        </p:xfrm>
        <a:graphic>
          <a:graphicData uri="http://schemas.openxmlformats.org/drawingml/2006/table">
            <a:tbl>
              <a:tblPr/>
              <a:tblGrid>
                <a:gridCol w="2592360"/>
                <a:gridCol w="2952720"/>
                <a:gridCol w="3240360"/>
              </a:tblGrid>
              <a:tr h="731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ритері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ілософія школи радянського пері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ілософія нової шк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781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ідеал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ння предмета, методики викладання та вихо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іоналізм, здатність до набуття нових компетент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9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и осві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ія на все жит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датність до навчання впродовж життя, професійна мобільність, конкурентноздат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бливості управління школо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вертикаль», керівництво, тотальний контроль, авторитар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безпечення розвитку об’єкта управління, менеджмент, «горизонталь», відповідальність за ухвалені рішення, лідер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  <p:grpSp>
        <p:nvGrpSpPr>
          <p:cNvPr id="234" name="Скругленный прямоугольник 4"/>
          <p:cNvGrpSpPr/>
          <p:nvPr/>
        </p:nvGrpSpPr>
        <p:grpSpPr>
          <a:xfrm>
            <a:off x="-30240" y="-128520"/>
            <a:ext cx="920880" cy="750960"/>
            <a:chOff x="-30240" y="-128520"/>
            <a:chExt cx="920880" cy="750960"/>
          </a:xfrm>
        </p:grpSpPr>
        <p:pic>
          <p:nvPicPr>
            <p:cNvPr id="235" name="Скругленный прямоугольник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30240" y="-128520"/>
              <a:ext cx="9208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9320" y="130320"/>
              <a:ext cx="7635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Georgia"/>
                </a:rPr>
                <a:t>меню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12745"/>
                </a:solidFill>
                <a:latin typeface="Georgia"/>
              </a:rPr>
              <a:t>Педагогічний аспект ранньої професіоналізації</a:t>
            </a:r>
            <a:endParaRPr b="0" lang="en-US" sz="36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636640"/>
            <a:ext cx="8229600" cy="42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психологічні основи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навчання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виховання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розвиток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взаємодія з батьками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d79ca"/>
                </a:solidFill>
                <a:latin typeface="Georgia"/>
              </a:rPr>
              <a:t>педагогічна підтримка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212745"/>
                </a:solidFill>
                <a:latin typeface="Georgia"/>
              </a:rPr>
              <a:t>Управлінський аспект ранньої професіоналізації </a:t>
            </a:r>
            <a:br>
              <a:rPr sz="2900"/>
            </a:br>
            <a:r>
              <a:rPr b="1" lang="uk-UA" sz="2900" spc="-1" strike="noStrike">
                <a:solidFill>
                  <a:srgbClr val="212745"/>
                </a:solidFill>
                <a:latin typeface="Georgia"/>
              </a:rPr>
              <a:t>(загальне управління)</a:t>
            </a:r>
            <a:endParaRPr b="0" lang="en-US" sz="29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4210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79ca"/>
                </a:solidFill>
                <a:latin typeface="Georgia"/>
              </a:rPr>
              <a:t>функції управління із забезпечення ранньої професіоналізації (планування, організація, координація, контроль, аналіз)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79ca"/>
                </a:solidFill>
                <a:latin typeface="Georgia"/>
              </a:rPr>
              <a:t>підготовка педагогічних кадрів до цього напряму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d79ca"/>
                </a:solidFill>
                <a:latin typeface="Georgia"/>
              </a:rPr>
              <a:t>комунікація із зовнішнім середовище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7ea5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2T10:06:58Z</dcterms:created>
  <dc:creator>Тома</dc:creator>
  <dc:description/>
  <dc:language>en-US</dc:language>
  <cp:lastModifiedBy>SamLab.ws</cp:lastModifiedBy>
  <dcterms:modified xsi:type="dcterms:W3CDTF">2017-03-20T06:30:38Z</dcterms:modified>
  <cp:revision>15</cp:revision>
  <dc:subject/>
  <dc:title>МАЙБУТНІЙ ПРОФЕСІЙНИЙ ВИБІР ШКОЛЯРА:  УПРАВЛІНСЬКИЙ ТА ПЕДАГОГІЧНИЙ АСПЕКТИ СПРИЯННЯ УСПІХУ</dc:title>
</cp:coreProperties>
</file>