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4.gif" ContentType="image/gif"/>
  <Override PartName="/ppt/media/image3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png" ContentType="image/png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424-4DCD-4D6B-A83A-FB8B00CB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D8E-7C96-4B8E-8BD5-B0135B4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1534-9BED-47EF-8F0E-088A5A4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E408C-8A01-4E97-818C-297B79B2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6C91-3597-4B09-9719-556BFDB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1B89-05D3-47A0-B9DD-0C345F2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B2DD1-33CC-4C9A-8568-7DA93D4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C0EF2-7DBE-40B7-8799-E6E3C94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23C05-5F6A-4CEA-A2F5-3F7B7FAF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88EE1-EBF1-4B53-8FE7-A11FAC1B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79AE0-62E8-4EA6-B706-B1E05844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6F61A-90A6-40E1-B0A4-13C1F096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2F5-D6D7-48BF-AAF2-DA51138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BE2D2-8AE1-4C66-90B7-F52868A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47FBB-4E52-4DEE-8295-2A083F1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CDBBA-E97E-44D1-B300-34C0CB7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A8CD8-BF84-4436-ACFE-809DEE5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87FD7-44B0-4E76-9F85-0B99201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C67A-021F-48AC-A34E-D00E047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B8A16-30C7-41B5-93C8-D563BCA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A7495-9B38-4BBD-B745-B49FEF3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418C5-234B-4991-AF83-5EABE21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5B980-5C5B-450F-85B9-05187A9D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420-0F1F-426F-B286-CC7E261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BC91-256E-4ED1-8534-41A60B41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893A2-6A90-4EBF-B2AE-17F6DA9A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88B8A-E06A-4E82-A32F-1E04580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B7EB-8604-4F82-8A81-0442270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6F4F1-896A-4009-8BD6-1E41AFE7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F031-FDA2-4CBC-8BBA-10B04E4A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ECEF-A93C-4459-A8B8-AE022F4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5CF7F-D011-432D-AAA8-EA2042D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488B-E94E-44E8-A6A0-EA712EF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CF7D-7564-4CDC-8A0B-E7EB733E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8E11-065E-40D8-8287-E06FD400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1642D-D3D3-43DD-99EC-34FEF82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3A7B-64DE-4191-A176-3E669C93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DFB0-20C8-41E2-A479-501CE3AE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052AD-CBFC-4F89-A42E-489F3C25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3A9FB-E12D-476F-B4E9-167A7E6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4299-036D-4E96-9ABB-1F2072F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1E269-DDA2-4A1C-B723-6C83D7D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76398-B1B1-495E-99FC-D0B0ACA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F72F5-659C-487A-8816-8993B8B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A327F-2E6A-4CE7-BFCB-BAA0CEF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5C4-D872-4C72-A062-9F3EE17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BBD91-6C44-494C-8DCE-F41F4CF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BBDEE-2807-42E9-B00F-15C62D9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A05B3-7F74-4A5A-8C95-9C11A0F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7C345-F3EE-4A33-B2FA-E13C4AD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641CE-4F7F-419D-9DFF-B50B6E20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414C2-8BAE-4C08-AD41-8ED57198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60976-7A7E-4B81-BD93-D2B6C20B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95E39-7954-448E-BD13-04BE5BAD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3A99C-3506-4F60-BE09-5426A7F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282A7-39EB-49FC-B2C2-2D4EAAC4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EB0C-3131-4D3D-A9EA-23680B2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FDC4A-C584-4308-BFBB-16AB2762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B50D5-CD46-4025-83B4-AA893135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424E3-2452-40E6-9A14-FC42D5F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8F2F8-15EB-4F15-AD62-0A37620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2B71C-5F53-4B1F-9CD7-F99AF3A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344E6-B0AA-46E2-9988-8010F271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4BE96-4E85-430B-92C7-E49421E3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4A4D-6BA4-4664-89DB-CEF57CB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1F6-5519-44EF-AC08-65228CF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E123-2B27-4F57-9726-32A6B1D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B94-266F-4E4A-B74A-2581F00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4C7-E3F4-4F6F-AC58-3858F62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476C-426D-4FD8-9432-C5B2698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5B07-5B8A-4D69-B683-78846FA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8C73-788E-4B51-9EF6-09E19A35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387-DB67-4BCB-B244-A97DCD35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5A3A-E71E-44ED-9DDC-1FEDB087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FB48-80F1-4DBC-87D6-C45A8432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A98E-814D-4731-AECA-44ED770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9624-1C4D-49FC-B795-FAB6083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E605-DF86-42B6-A778-C33A4BAD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AAA9-F9D8-418B-95BB-A5A1F4D1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024-BF76-4DD9-B9A2-56D99E40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174E-8F76-4010-AC86-CDAE04A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BE64-882E-4308-8593-8F76629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4E9A6-B887-4CD1-9DA4-F8D04E3F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6436-0071-44B2-BC40-87BD54D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3E75-5030-4382-AF22-388A9A0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AC15-4E02-4CA2-917D-B4DFCE2D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69DA-D0F0-4352-AFCD-33E2B525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129E-B108-4C4D-9690-A3F8B9A3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4DA6-CE2C-43F6-9E6A-36F53E8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F673-58D2-42CB-A78E-D5343DDD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7E9-A8B2-437E-932A-673CF5D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B874-5041-4ACF-AD53-002425B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308B-A99C-4006-8307-F690067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792B-16EE-48C1-9CDC-AE7B585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C51D-4DF4-4126-BF22-220100F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B8B8-1BCE-4482-8B75-3355AD32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6EAD-E5C5-4E94-8F89-26E2B1D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CB44-C2E8-4F83-9F03-CC32620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2526-02F8-459A-97F2-72C726BE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B9B9-4C0F-43BF-B62A-0B11B1D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674F-9023-4BF7-A969-A0442467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0EB-4635-4C60-AFC0-E655411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2F52-4E63-4EE7-A020-F425D07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8E43-94C3-4661-8AFA-084DE9FD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226A-E35F-4F65-9BA3-A10A923A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DB36-BD6A-4955-8462-52C5AF41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0E30-29FD-4CE3-AC41-58B380F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4F2F-837D-4CFB-B201-680CA10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90B5-C6D6-4820-BA77-137EF10B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ECD8-08BA-4C70-A443-DD2C907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7D1D-6950-42B3-8A63-7F56F987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F35C-1A56-4D14-A045-63492690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CAA-31C0-4E2F-96A5-F315364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F645-307D-4B57-8934-E77B8CAA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D0C6F-6B74-4C82-BD9B-33ECBB20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F24B-5F22-47DE-A58E-00E0AC1D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B6E8-69F8-4571-B66B-1430CA7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7F7C3-C1B6-45EA-B3C8-9009A81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D718D-1863-4A90-AD98-FE207D5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B713-10E2-47EA-B902-E9C6BA57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C809-D9FD-4DAE-88B5-17F009F5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BD4A-3E53-4FF7-A2FD-20A999A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A7C0-DC65-4CA5-8AF6-1FDE600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F32-9297-4A86-AE92-6CE322A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87C3-C4A6-4A93-A609-2BFBE40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F2713-27BE-4385-87E4-0C7CF286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16631-14D4-4197-9797-D05B647D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37878-B33A-4157-865A-CC24B972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BEBD-9EE9-4760-BF2F-2277734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271A-A048-4FC2-9E2A-48E17659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6B848-79B0-49A1-8970-AED0382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6BE79-A2F9-4FB8-86B1-95B3A9D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37F3-FE3D-4F73-B096-EB04D12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70E4-8ABD-4953-8AEC-9415C65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483-3BB8-4DDD-BC48-6193702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3EF4-02AE-4FD1-AA56-3F6FA69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54B0-050D-4F8E-812F-0A7A476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99D9-FE8E-4781-AC63-9F5E637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102E0-4367-4BD0-96E7-9712C325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5F81-C53E-4D23-B32C-EB21190A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77E8-CC90-4BBF-9477-58E05961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05BD-F616-4596-B090-1FB579C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ABFE-8891-4A99-B582-94663F1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1C8E-E5FB-42A8-A2E8-0E553CE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24AE-8C95-4CA9-BE9D-75D3692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1B4-0C2C-45CD-8A57-1EE9436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C684-B416-44E5-B336-853E887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EA90B-18F9-492A-A1D5-6DA3ECC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60CB-E8CA-4F26-BE8A-40AEA7E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F15D-261E-47F9-AB82-2AEF632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1F3F-2854-4007-9717-39D90DD3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D444-7770-4F97-95FA-5C892EBB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BEAD-D3DF-4BB0-AF9A-9C348D9C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E50F-58B1-42DD-A6EE-C2C1C2B5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42F0E-6E7F-453E-B2C9-74D4A57E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F494A-D6F6-4B00-8E1A-F7FFDE4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5FD4-061F-4198-BB9A-F1F7793CC5E3}" type="slidenum">
              <a:rPr b="1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9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1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54A-1D70-4807-81AC-3E641129B2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5F3D-6F06-4A12-A932-E4E780095F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7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8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89B-4B7E-4CFE-B5C4-DCBFFDE2C2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5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5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7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6CC-9E18-4121-9738-D9D1C4DD5E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6976-4242-4A64-BD2E-AB1080944D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396A-5CC7-45F1-8AA3-B00398D7AC60}" type="slidenum">
              <a:rPr b="1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CC4-1058-450A-9B6E-082FFAB5EF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DC04-8417-4509-AB3B-4C3F88D23A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D575-85C7-4766-9C14-19EED000C5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5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77E-C482-4ADE-8590-0EECD3515D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8808-9581-4D5C-8D73-1173030079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1462-AB11-42EF-AF8B-7A128CBD60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384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uk-UA" sz="2800" spc="-1" strike="noStrike">
                <a:solidFill>
                  <a:srgbClr val="000000"/>
                </a:solidFill>
                <a:latin typeface="Palatino Linotype"/>
              </a:rPr>
              <a:t>Лабораторія проблем педагогіки та психології післядипломної освіти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4200" spc="-1" strike="noStrike">
                <a:solidFill>
                  <a:srgbClr val="2f5897"/>
                </a:solidFill>
                <a:latin typeface="Palatino Linotype"/>
              </a:rPr>
              <a:t>Р</a:t>
            </a:r>
            <a:r>
              <a:rPr b="1" lang="uk-UA" sz="4200" spc="-1" strike="noStrike">
                <a:solidFill>
                  <a:srgbClr val="2f5897"/>
                </a:solidFill>
                <a:latin typeface="Palatino Linotype"/>
              </a:rPr>
              <a:t>езультати виконання науково-дослідної роботи «Підготовка конкурентоздатного фахівця в умовах післядипломної освіти»</a:t>
            </a:r>
            <a:br>
              <a:rPr sz="4200"/>
            </a:b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uk-UA" sz="22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1" lang="en-US" sz="2200" spc="-1" strike="noStrike">
                <a:solidFill>
                  <a:srgbClr val="2f5897"/>
                </a:solidFill>
                <a:latin typeface="Palatino Linotype"/>
              </a:rPr>
              <a:t>№0116U004869</a:t>
            </a:r>
            <a:r>
              <a:rPr b="1" lang="ru-RU" sz="2200" spc="-1" strike="noStrike">
                <a:solidFill>
                  <a:srgbClr val="2f5897"/>
                </a:solidFill>
                <a:latin typeface="Palatino Linotype"/>
              </a:rPr>
              <a:t> , </a:t>
            </a:r>
            <a:r>
              <a:rPr b="1" lang="uk-UA" sz="2200" spc="-1" strike="noStrike">
                <a:solidFill>
                  <a:srgbClr val="2f5897"/>
                </a:solidFill>
                <a:latin typeface="Palatino Linotype"/>
              </a:rPr>
              <a:t>2016 р.) </a:t>
            </a:r>
            <a:br>
              <a:rPr sz="2200"/>
            </a:b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0" y="468648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uk-UA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000099"/>
                </a:solidFill>
                <a:latin typeface="Tahoma"/>
              </a:rPr>
              <a:t>Філь Олена Анатоліївна</a:t>
            </a:r>
            <a:r>
              <a:rPr b="1" i="1" lang="uk-UA" sz="2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зав. лабораторією, кандидат  психологічних наук, доц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9900"/>
                </a:solidFill>
                <a:latin typeface="Palatino Linotype"/>
              </a:rPr>
              <a:t>1. Чи я зустрічаю вияви конкуренції в своєму житті?</a:t>
            </a:r>
            <a:endParaRPr b="0" lang="en-US" sz="43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2" name="Object 3"/>
          <p:cNvGraphicFramePr/>
          <p:nvPr/>
        </p:nvGraphicFramePr>
        <p:xfrm>
          <a:off x="0" y="1700280"/>
          <a:ext cx="889308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88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Gothic"/>
              </a:rPr>
              <a:t>Шкала 2. Стратегії конкуренції фахівців на сучасному ринку праці та послуг</a:t>
            </a: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осліджується відповідями на питання «</a:t>
            </a:r>
            <a:r>
              <a:rPr b="0" i="1" lang="uk-UA" sz="3600" spc="-1" strike="noStrike">
                <a:solidFill>
                  <a:srgbClr val="000000"/>
                </a:solidFill>
                <a:latin typeface="Century Gothic"/>
              </a:rPr>
              <a:t>В ситуації конкуренції на ринку сучасні фахівці найчастіше себе поводять...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»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00"/>
                </a:solidFill>
                <a:latin typeface="Palatino Linotype"/>
              </a:rPr>
              <a:t>Здебільшого фахівці в ситуації  конкуренції на сучасному ринку …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7" name="Object 3"/>
          <p:cNvGraphicFramePr/>
          <p:nvPr/>
        </p:nvGraphicFramePr>
        <p:xfrm>
          <a:off x="324000" y="1844640"/>
          <a:ext cx="835164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44640"/>
                    <a:ext cx="8351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Palatino Linotype"/>
              </a:rPr>
              <a:t>1.  Деструктивна стратегія :</a:t>
            </a:r>
            <a:r>
              <a:rPr b="0" lang="uk-UA" sz="34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719280" y="179028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Symbol"/>
                <a:ea typeface="Symbol"/>
              </a:rPr>
              <a:t></a:t>
            </a: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                   </a:t>
            </a:r>
            <a:r>
              <a:rPr b="1" lang="uk-UA" sz="2800" spc="-1" strike="noStrike">
                <a:solidFill>
                  <a:srgbClr val="7f7f7f"/>
                </a:solidFill>
                <a:latin typeface="Symbol"/>
                <a:ea typeface="Symbol"/>
              </a:rPr>
              <a:t>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51" name="Picture 4" descr="j0284078"/>
          <p:cNvPicPr/>
          <p:nvPr/>
        </p:nvPicPr>
        <p:blipFill>
          <a:blip r:embed="rId2"/>
          <a:stretch/>
        </p:blipFill>
        <p:spPr>
          <a:xfrm>
            <a:off x="6516720" y="2492280"/>
            <a:ext cx="1800360" cy="1648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j0283834"/>
          <p:cNvPicPr/>
          <p:nvPr/>
        </p:nvPicPr>
        <p:blipFill>
          <a:blip r:embed="rId3"/>
          <a:stretch/>
        </p:blipFill>
        <p:spPr>
          <a:xfrm>
            <a:off x="395280" y="3141720"/>
            <a:ext cx="2158920" cy="113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6" descr="bs02096_"/>
          <p:cNvPicPr/>
          <p:nvPr/>
        </p:nvPicPr>
        <p:blipFill>
          <a:blip r:embed="rId4"/>
          <a:stretch/>
        </p:blipFill>
        <p:spPr>
          <a:xfrm>
            <a:off x="4140360" y="4017960"/>
            <a:ext cx="1726920" cy="1703520"/>
          </a:xfrm>
          <a:prstGeom prst="rect">
            <a:avLst/>
          </a:prstGeom>
          <a:ln w="0">
            <a:noFill/>
          </a:ln>
        </p:spPr>
      </p:pic>
      <p:sp>
        <p:nvSpPr>
          <p:cNvPr id="1054" name="Oval 7"/>
          <p:cNvSpPr/>
          <p:nvPr/>
        </p:nvSpPr>
        <p:spPr>
          <a:xfrm>
            <a:off x="1574640" y="1849320"/>
            <a:ext cx="979560" cy="360360"/>
          </a:xfrm>
          <a:prstGeom prst="ellipse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8" descr="j0157881"/>
          <p:cNvPicPr/>
          <p:nvPr/>
        </p:nvPicPr>
        <p:blipFill>
          <a:blip r:embed="rId5"/>
          <a:stretch/>
        </p:blipFill>
        <p:spPr>
          <a:xfrm>
            <a:off x="7416720" y="4446720"/>
            <a:ext cx="1150920" cy="1817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9" descr="cautious"/>
          <p:cNvPicPr/>
          <p:nvPr/>
        </p:nvPicPr>
        <p:blipFill>
          <a:blip r:embed="rId6"/>
          <a:stretch/>
        </p:blipFill>
        <p:spPr>
          <a:xfrm>
            <a:off x="1425600" y="5270400"/>
            <a:ext cx="201600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Palatino Linotype"/>
              </a:rPr>
              <a:t>Д</a:t>
            </a:r>
            <a:r>
              <a:rPr b="1" i="1" lang="uk-UA" sz="4400" spc="-1" strike="noStrike">
                <a:solidFill>
                  <a:srgbClr val="000000"/>
                </a:solidFill>
                <a:latin typeface="Palatino Linotype"/>
              </a:rPr>
              <a:t>еструктивна стратегія конкуренції 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Palatino Linotype"/>
              </a:rPr>
              <a:t>(агресивно-маніпулятивна)</a:t>
            </a:r>
            <a:r>
              <a:rPr b="0" lang="uk-UA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6840" y="2276640"/>
            <a:ext cx="8218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- стратегія конкурентної взаємодії, яка  передбачає «жорстку» боротьбу двох або більше конкурентів за обмежений ресурс / при досягненні значущої для них мети/задоволенні їх власних потреб маіпулятивними методами/методами</a:t>
            </a:r>
            <a:r>
              <a:rPr b="0" i="1" lang="uk-UA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„нечесної (“дикої”) конкуренції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2f5897"/>
                </a:solidFill>
                <a:latin typeface="Palatino Linotype"/>
              </a:rPr>
              <a:t>2. Конструктивна стратегія</a:t>
            </a:r>
            <a:r>
              <a:rPr b="0" lang="uk-UA" sz="41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41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f7f7f"/>
                </a:solidFill>
                <a:latin typeface="Century Gothic"/>
              </a:rPr>
              <a:t>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</a:t>
            </a: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          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</a:t>
            </a: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1" name="Picture 4" descr="j0236251"/>
          <p:cNvPicPr/>
          <p:nvPr/>
        </p:nvPicPr>
        <p:blipFill>
          <a:blip r:embed="rId2"/>
          <a:stretch/>
        </p:blipFill>
        <p:spPr>
          <a:xfrm>
            <a:off x="395280" y="2060640"/>
            <a:ext cx="2808360" cy="2601720"/>
          </a:xfrm>
          <a:prstGeom prst="rect">
            <a:avLst/>
          </a:prstGeom>
          <a:ln w="0">
            <a:noFill/>
          </a:ln>
        </p:spPr>
      </p:pic>
      <p:sp>
        <p:nvSpPr>
          <p:cNvPr id="1062" name="Oval 5"/>
          <p:cNvSpPr/>
          <p:nvPr/>
        </p:nvSpPr>
        <p:spPr>
          <a:xfrm>
            <a:off x="6732720" y="3429000"/>
            <a:ext cx="2087280" cy="1008000"/>
          </a:xfrm>
          <a:prstGeom prst="ellipse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6" descr="j0283839"/>
          <p:cNvPicPr/>
          <p:nvPr/>
        </p:nvPicPr>
        <p:blipFill>
          <a:blip r:embed="rId3"/>
          <a:stretch/>
        </p:blipFill>
        <p:spPr>
          <a:xfrm>
            <a:off x="5076720" y="1989000"/>
            <a:ext cx="1513080" cy="1336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7" descr="j0149852"/>
          <p:cNvPicPr/>
          <p:nvPr/>
        </p:nvPicPr>
        <p:blipFill>
          <a:blip r:embed="rId4"/>
          <a:stretch/>
        </p:blipFill>
        <p:spPr>
          <a:xfrm>
            <a:off x="6659640" y="4859280"/>
            <a:ext cx="1957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онструктивна стратегія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конкуренції</a:t>
            </a:r>
            <a:r>
              <a:rPr b="0" i="1" lang="uk-UA" sz="2800" spc="-1" strike="noStrike">
                <a:solidFill>
                  <a:srgbClr val="000000"/>
                </a:solidFill>
                <a:latin typeface="Century Gothic"/>
              </a:rPr>
              <a:t> (асертивно-гуманістична) –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тратегія конкурентної взаємодії, що передбачає цивілізовану психологічну взаємодію особистостей у процесі досягнення однаково значущої для них мети /  задоволенні їх власних потреб, причому не за рахунок жорсткого «зіткнення» або дискредитації авторитету опонента, а завдяки розвитку та презентації своєї «конкурентної власності»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2f5897"/>
                </a:solidFill>
                <a:latin typeface="Palatino Linotype"/>
              </a:rPr>
              <a:t>3. Ігнорування конкуренції</a:t>
            </a:r>
            <a:r>
              <a:rPr b="0" lang="uk-UA" sz="41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41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8" name="Picture 4" descr="j0233556"/>
          <p:cNvPicPr/>
          <p:nvPr/>
        </p:nvPicPr>
        <p:blipFill>
          <a:blip r:embed="rId2"/>
          <a:stretch/>
        </p:blipFill>
        <p:spPr>
          <a:xfrm>
            <a:off x="6588000" y="450864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j0149576"/>
          <p:cNvPicPr/>
          <p:nvPr/>
        </p:nvPicPr>
        <p:blipFill>
          <a:blip r:embed="rId3"/>
          <a:stretch/>
        </p:blipFill>
        <p:spPr>
          <a:xfrm>
            <a:off x="3492360" y="2133720"/>
            <a:ext cx="1368720" cy="1084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j0303480"/>
          <p:cNvPicPr/>
          <p:nvPr/>
        </p:nvPicPr>
        <p:blipFill>
          <a:blip r:embed="rId4"/>
          <a:stretch/>
        </p:blipFill>
        <p:spPr>
          <a:xfrm>
            <a:off x="3419640" y="4149720"/>
            <a:ext cx="1871640" cy="1614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j0312450"/>
          <p:cNvPicPr/>
          <p:nvPr/>
        </p:nvPicPr>
        <p:blipFill>
          <a:blip r:embed="rId5"/>
          <a:stretch/>
        </p:blipFill>
        <p:spPr>
          <a:xfrm>
            <a:off x="7596360" y="2060640"/>
            <a:ext cx="1023840" cy="1359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8" descr="j0334298"/>
          <p:cNvPicPr/>
          <p:nvPr/>
        </p:nvPicPr>
        <p:blipFill>
          <a:blip r:embed="rId6"/>
          <a:stretch/>
        </p:blipFill>
        <p:spPr>
          <a:xfrm>
            <a:off x="5508720" y="2133720"/>
            <a:ext cx="1325520" cy="21351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9" descr="j0230821"/>
          <p:cNvPicPr/>
          <p:nvPr/>
        </p:nvPicPr>
        <p:blipFill>
          <a:blip r:embed="rId7"/>
          <a:stretch/>
        </p:blipFill>
        <p:spPr>
          <a:xfrm>
            <a:off x="539640" y="3933720"/>
            <a:ext cx="2519640" cy="1787760"/>
          </a:xfrm>
          <a:prstGeom prst="rect">
            <a:avLst/>
          </a:prstGeom>
          <a:ln w="0">
            <a:noFill/>
          </a:ln>
        </p:spPr>
      </p:pic>
      <p:sp>
        <p:nvSpPr>
          <p:cNvPr id="1074" name="Rectangle 10"/>
          <p:cNvSpPr/>
          <p:nvPr/>
        </p:nvSpPr>
        <p:spPr>
          <a:xfrm>
            <a:off x="3590280" y="2781000"/>
            <a:ext cx="117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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1" descr="j0397470"/>
          <p:cNvPicPr/>
          <p:nvPr/>
        </p:nvPicPr>
        <p:blipFill>
          <a:blip r:embed="rId8"/>
          <a:stretch/>
        </p:blipFill>
        <p:spPr>
          <a:xfrm>
            <a:off x="971640" y="1989000"/>
            <a:ext cx="1800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Palatino Linotype"/>
              </a:rPr>
              <a:t>стратегія «Ігнорування / уникання» конкуренції</a:t>
            </a:r>
            <a:r>
              <a:rPr b="0" lang="uk-UA" sz="3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(пасивно-залежна, фрустраційна) –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тратегія конкурентної взаємодії, що передбачає свідоме або несвідоме уникнення особистістю ситуацій участі в конкуренції та взаємодії з потенційними / реальними конкурентами (відмову від досягнення раніше значущої мети / задоволення власних потреб, пасивність, зниження рівня домагань та ін.)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2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5897"/>
                </a:solidFill>
                <a:latin typeface="Palatino Linotype"/>
              </a:rPr>
              <a:t>Виконавці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Бондарчук О.І., д. психол. н., проф., зав. кафедрою психології управління ДВНЗ "Університет менеджменту освіти"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Алєксєєва О..І., науковий кореспондент  ДВНЗ "Університет менеджменту освіти, </a:t>
            </a:r>
            <a:r>
              <a:rPr b="0" i="1" lang="uk-UA" sz="2100" spc="-1" strike="noStrike">
                <a:solidFill>
                  <a:srgbClr val="000000"/>
                </a:solidFill>
                <a:latin typeface="Century Gothic"/>
              </a:rPr>
              <a:t>старший викладач кафедри  філософії  освіти та управління КВНЗ КОР «Академія неперервної освіти», кандидат психологічних наук</a:t>
            </a: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Волинськ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Закарпатськ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Запоріз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Івано-Франківс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Полтавський обласний інститут післядипломної педагогічної освіти ім. М. Остроградського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Рівненс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Харківська академія неперерв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Херсонська академія неперервної освіти.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Підготовлено 3 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публікації з проблеми дослідження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1. Філь О. А. Система психологічного забезпечення управління персоналом як конкурентна перевага компанії на ринку праці, товарів та послуг / О. А. Філь  // Правничий вісник Університету «КРОК» / Вищий навчальний заклад «Університет економіки та права «КРОК». – Вип. 22. – К., 2016. – С. 184– 190. (Міжнародне фахове видання, входить до бази даних Ulrich’sPeriodicalsDirectory, США (internationaldatabaseUlrich’sPeriodicalsDirectory, USA). (1 др. арк.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2. Філь О. А. Психологічне забезпечення конкурентоздатності освітніх організацій в умовах соціальних трансформацій / О. А. Філь // Психолого-педагогічний супровід фахової підготовки та підвищення кваліфікації особистості в умовах трансформації освіти: тези всеукраїнської науково-практичної конференції (м. Київ, 27 травня 2016 р.) – К. : ДВНЗ «Університет менеджменту освіти», 2016. – с. 115–117. [електронний ресурс]. – режим доступу: http://umo.edu.ua/konferenciji-ta-seminari (0,1 др. арк.)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3. Бондарчук О. І., Філь О.А. Психологічне дослідження конкурентоздатності науково-педагогічних працівників: методичний аспект //«Конкурентологія та ринок праці: психологічні аспекти» : Тези І міжнародної науково-практичної конференції (м. Київ, 8-9 грудня 2016 р.) – К. : ДВНЗ «Університет менеджменту освіти», 2016. – 75 с. [Електронний ресурс]. – Режим доступу: http://.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ttp://umo.edu.ua/konferenciji-ta-seminari 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3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Організовано та проведено І міжнародну  науково-практичну конференцію  Конкурентологія та ринок праці: психологічні аспекти»  (м. Київ, 8-9 грудня 2016 р.) 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ttps://www.facebook.com/groups/1247210475360282/?pnref=story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3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4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Впровадження.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 Результати науково-дослідної роботи (НДР) упроваджені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в процес підвищення кваліфікації керівних, науково-педагогічних та педагогічних працівників освіти у закладах післядипломної педагогічної освіти України: Центральний інститут післядипломної педагогічної освіти ДВНЗ «Університет менеджменту освіти» НАПН України (довідка про впровадження № 19-03/41 26.12.2016 р.) (О. Філь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електронна бібліотека та депозитарій Державного вищого навчального закладу «Університет менеджменту освіти»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сторінка на Фейсбук «Конкурентологія» (https://www.facebook.com/groups)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сайт Броварського алюмінієвого заводу (http://braz.com.ua/blog/news?post=72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Об’єкт дослідження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особистість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онкурентоздатного фахівця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редмет дослідження</a:t>
            </a:r>
            <a:r>
              <a:rPr b="0" i="1" lang="ru-RU" sz="3600" spc="-1" strike="noStrike">
                <a:solidFill>
                  <a:srgbClr val="000000"/>
                </a:solidFill>
                <a:latin typeface="Century Gothic"/>
              </a:rPr>
              <a:t>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іагностична складова підготовки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онкурентоздатного фахівця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в умовах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іслядипломної  педагогічної осві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Мета дослідження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розробити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діагностичн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складов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у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ідготовки конкурентоздатного фахівця в умовах післядипломної  педагогічної осві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1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1. Діагностичн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 складова підготовки конкурентоздатного фахівця в умовах післядипломної педагогічної освіти –</a:t>
            </a:r>
            <a:r>
              <a:rPr b="0" lang="uk-UA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00cc"/>
                </a:solidFill>
                <a:latin typeface="Century Gothic"/>
              </a:rPr>
              <a:t>Комплекс діагностичних методик «Конкурентоздатність фахівця на сучасному ринку праці, товарів та послуг»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(автори: О.А. Філь, О.І. Бондарчук, О.І. Алєксєєва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1. Психологічні проблеми конкуренції фахівців на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2. Психологічна культура конкуренції фахівців на сучасному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Частина 3. Конкурентоздатність фахівців на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1. Психологічні проблеми конкуренції фахівців на ринку праці та послуг: р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езультати апробації комплексу діагностичних методик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Вибірк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42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Gothic"/>
              </a:rPr>
              <a:t>Дослідження проведено серед 100 керівників та працівників освітніх організацій  2016 р. 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Gothic"/>
              </a:rPr>
              <a:t>курси перепідготовки керівників освітніх організацій на факультеті підвищення кваліфікації педагогічних кадрів та на курсах підвищення кваліфікації науково-педагогічних кадрів в ДВНЗ «Університет менеджменту освіти» (м. Київ, 2016 р.);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Gothic"/>
              </a:rPr>
              <a:t>Шкала 1. Наявність конкуренції у житті фахівців на ринку праці та послуг</a:t>
            </a: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осліджується відповідями на питання «</a:t>
            </a:r>
            <a:r>
              <a:rPr b="0" i="1" lang="uk-UA" sz="3600" spc="-1" strike="noStrike">
                <a:solidFill>
                  <a:srgbClr val="000000"/>
                </a:solidFill>
                <a:latin typeface="Century Gothic"/>
              </a:rPr>
              <a:t>Чи я зустрічаю вияви конкуренції у власному житті?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»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02:56Z</dcterms:created>
  <dc:creator>Карамушка</dc:creator>
  <dc:description/>
  <dc:language>en-US</dc:language>
  <cp:lastModifiedBy>SamLab.ws</cp:lastModifiedBy>
  <dcterms:modified xsi:type="dcterms:W3CDTF">2017-02-01T06:29:24Z</dcterms:modified>
  <cp:revision>894</cp:revision>
  <dc:subject/>
  <dc:title>TEAM BULDING AS A FACTOR OF HIGH COMPETITIVENESS OF ENTEPRENEURS</dc:title>
</cp:coreProperties>
</file>