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4.gif" ContentType="image/gif"/>
  <Override PartName="/ppt/media/image3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8.png" ContentType="image/png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4AE-124B-47D4-80B8-8298B762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72E-44F4-427A-AEB2-8A98516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B8180-C88B-4F3F-8473-981B7FC0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761C5-A6FD-45EE-BB3C-FFEF36E3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831F6-F6BD-4B79-BC89-6064855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23715-9A1B-4905-9352-BC378A8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90DB-64F3-49C7-9B99-57EE1533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76826-E243-4562-925C-9C0643E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50772-19A6-439B-BEB8-F59EF71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E99A0-B678-484A-8181-4085194B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ED97-20CF-4288-AAD6-23B0970E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C0038-5B97-4028-9020-7CD91F47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048-D83B-4EFD-9487-C4C7EDDF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44FBB-281D-4384-BEDD-D1E41765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15F72-D5DF-4819-9CE9-AB014456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B7A73-A4DE-4F5E-8BD5-E9F85DB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2760E-382E-45A6-A7DE-91BCFB12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28F3-D003-41D5-954B-EECF179C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A656-1267-4390-A666-D19F171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42D87-18FC-4ACD-BD7E-F3C246F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8EF33-751D-41ED-9EC3-0E21B12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E6C99-2679-4281-8048-08377359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4AFA3-C5D5-47B1-99F7-A508BEA9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FB5-D884-4898-B0B7-F63C874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6A92A-1ACD-4352-B996-580CF375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A3F8-51B6-4370-AE29-864A10F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94E8-42D7-4DC5-8CFD-761E5444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89760-4C9B-4FE9-8DD4-C802E9F3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F4277-1885-45EF-B104-ECBEB463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E6A4D-BEDC-46C2-95F9-4D2D310D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1A7CE-B4BA-4167-84D0-6CC3C02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1223B-9FC4-4375-9AE1-EE9E4CB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B3AA8-3C88-4F9D-928E-BC43F37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A6B5E-97EF-4696-8C79-8FD3EE7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50A5-237D-40FB-A75E-62D1ACEA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8CD07-3C1D-4E06-A2F3-D6C0096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99FF7-08C4-41AB-868C-0F143D95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C3AB5-AF16-4334-AD21-7483DFED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D4948-A595-4343-9A50-CD477672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FC807-76D3-4AD3-9A29-5056BE3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A406C-263E-42C8-BAE7-33132C1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A5200-12AE-40DA-803C-3C44EAA5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16453-E75B-4C28-8855-CF95024F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8D4D2-3F93-4358-AEA7-6BE7121A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0AF9-AF50-4853-92F7-05AD929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23B3-D567-4A24-807F-B4A6270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D4746-6A1F-4383-8366-82F0FB8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648DC-2276-454D-AFDF-218E592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D155-3ABD-482F-A0FA-66B7615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3C29A-13C2-4536-A24D-52D2D03F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F03A9-14E4-4078-AD7D-F3345431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2BD84-FDB6-4436-BFA9-1CC3ACC1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A397A-15B4-40A8-97BA-656A3270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888A1-E1A4-4EBC-9138-F5F5E4C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19205-1473-4D32-B87A-9514A46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08148-C8AE-45AF-996F-0A5F098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B1BF-D308-480A-8EE4-8ED48D60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61285-37E4-4682-8FED-A321E60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A3F83-1C09-4104-B077-A114FF6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80FA0-F850-4BD0-A83C-BCCDBA4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F021B-E556-417D-9F9C-14D9445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ACCFC-3233-43CC-A20C-8BFAA393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EAA58-FB0A-4EB2-B75C-ABA581CA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549D0-3C36-4CD5-9427-328AF075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A9A-7CBB-4891-B9AE-2B6E0FF6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AF5E-EED1-440C-B534-B27BCE0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13E-5A00-497A-BD9C-839357A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E9C-53A1-47B3-82DD-4761CC9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760-AC93-4DDA-8D1C-0F63AC5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317-3F31-4295-898F-BBB8F68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187E-1CC2-4AC6-81F8-233A6F4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E1A-59BA-4B91-A304-95250DC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8DBA-D605-4B66-8A62-0400842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77C7-BB01-4440-A6A7-63112529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9598-B487-42EA-B164-6BD3985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CABA-7291-4D15-B1F1-818BE08A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0F0C-DA9B-43F2-8A11-0023882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4ED4-EFAB-47F5-B7B0-2ADCBE8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21F8-478D-488E-A0FF-3D1433D0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94F-1A4D-4595-8C6B-CD5C299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68C5-A3CE-45C6-8992-159786B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096D-38A3-412B-8010-3B25E02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0F9C-AD00-4602-82E0-05200CB9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3A7C-AD1E-4892-99D1-AF3B0339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586E-5155-488D-BFB4-8CAA132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C9E6-2A4E-4EAC-8EA5-79E392F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7EB9-2C72-4763-BD9F-78849E4C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214C-F6BB-4A9C-AD2D-213CF132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EB64-1892-4822-B881-C3ED2C90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FC59C-0871-452B-9EB1-E872544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FF3-20E5-4F3F-93E6-303FF450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A8EE-B810-447B-B75C-3B3101C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5802-67B2-485F-AE8F-34FF784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67E66-2FC4-4F86-B3FA-E6413F3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9F84-181D-4D24-81ED-A731E6F8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9D8C-15A0-4E66-B4AE-E1775D1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935B-39D5-4BA6-996A-10091E0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209A7-2E0D-43E7-A938-B1A0F8A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D19D-8518-4BBF-8B8A-170B808D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B2FA-B854-4583-B329-DB8F21A7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68B5-6AC6-420F-88AB-E5644C8F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478-2940-4779-8FFB-097FCFE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2B94-EDED-4A50-A3AA-FC1488B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9188-0ADE-4C1D-AA6D-5E258ACA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D2212-1114-4D0D-B47D-FE2A5F3E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D1577-080E-4E44-9EA3-5355B9AA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E99C-E49F-459D-B0E3-037ADA5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9474-9118-4EE4-AD96-93ADD93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03E03-6CA1-4A6F-A339-429EDCF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4B1D-F909-450C-B825-CF57F88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B07F-3F74-4A5E-948D-26A33F27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C13F-4284-4E25-AB83-C3006B92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D2D-155C-473E-8870-1558E4B7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6440A-DDC9-40AB-B7D3-3BADD61F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4860-7190-40FB-B0DB-43C425DF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C859D-200E-43CD-9119-A747C6B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1FD5-5895-476B-B65A-5F0A18E8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1572-00F9-4C9E-AB07-68E565BC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FDF7-CDFE-4D1A-A20E-8E35FDA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0B2E-C71E-49EE-BECF-20588088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4CE45-8299-4B79-A8A9-B64F3D6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2B37-C50E-4505-B3D7-1AB0941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BF11-921D-4A3A-8BBF-947943A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792-2152-453A-BEC9-05A0057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6F5C-11F8-42DC-9757-08741E1C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9747-2C5D-46D3-BCF6-5D4A4017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B6AB-8B71-4888-B305-27C4D51B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0D6A6-041C-472F-949D-3988F704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0FA2-ED8C-4D4E-BB66-CBE4450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BD029-02EE-4719-A004-74454B3D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0109-8605-4E77-BA48-0A48A60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D51E-C991-4B16-9566-9C51F21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E0E3-2847-4F60-9C83-653F388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77B5-E410-4607-A29F-CD248D3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8FC-9EAF-4046-9833-3A47FA8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A7B8-42D2-4754-998B-B425F1D4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B858-7008-4EA8-A705-D884052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378C8-CB22-4F74-A269-F4FD97C0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71E9-E4A2-4A4F-80E8-63957307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BCC1-EBAC-4E5B-A269-AE6742BF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F564-9271-494C-9D23-239B8CF4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EB1B4-68AD-42BF-BC83-40485DE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0594-3D16-412A-853D-79EBA0D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25AD-4E60-4A2C-BA5B-1B142A76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4335-C203-449B-A98B-4DBFE47C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143-D030-41C6-BEB1-53FB7DB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BB849-608C-4477-836B-02B7C67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79A6A-68E7-41B6-B627-8F1C069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F57E-5D22-4B8C-A6B3-30DABA8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C01F-EBF0-48F9-B837-46FDCE0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8BD3-C454-41AD-BD7E-1DD924E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04424-0638-4491-BA3F-3CA85148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D29D6-8E30-44AF-8675-7F3B4A10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2B4F4-82F8-484B-A10F-475203B2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DE793-DD66-4247-8651-637F32A4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56513-91F3-453D-9B67-8052F6F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869-917C-43B6-AF3C-7079F5C6E4E4}" type="slidenum">
              <a:rPr b="1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9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1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C62-1E17-42C1-AD25-8B1B841242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8AB8-8A0E-4735-8BC2-30C1CA4A5D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7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8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D73-D3EB-40AA-8BA7-CD65C51078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4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5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5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7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7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FEAB-E046-4715-8041-B267D1534C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7FB-72D2-4688-926E-38339916B8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72D9-DF25-4F29-A445-2B2D06341E7C}" type="slidenum">
              <a:rPr b="1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95D-BE88-46E3-85B4-2D2C6C3DDD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7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F8E-EBFA-4F1F-AFB4-5C54792588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BE6-57EE-42F7-8326-307DFDB364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5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9908-5BC2-449E-980C-A175F8DF76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EE9-D1E6-42FA-8113-3A00032B51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F25-0E85-45B2-B300-729081CA7D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384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uk-UA" sz="2800" spc="-1" strike="noStrike">
                <a:solidFill>
                  <a:srgbClr val="000000"/>
                </a:solidFill>
                <a:latin typeface="Palatino Linotype"/>
              </a:rPr>
              <a:t>Лабораторія проблем педагогіки та психології післядипломної освіти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4200" spc="-1" strike="noStrike">
                <a:solidFill>
                  <a:srgbClr val="2f5897"/>
                </a:solidFill>
                <a:latin typeface="Palatino Linotype"/>
              </a:rPr>
              <a:t>Р</a:t>
            </a:r>
            <a:r>
              <a:rPr b="1" lang="uk-UA" sz="4200" spc="-1" strike="noStrike">
                <a:solidFill>
                  <a:srgbClr val="2f5897"/>
                </a:solidFill>
                <a:latin typeface="Palatino Linotype"/>
              </a:rPr>
              <a:t>езультати виконання науково-дослідної роботи «Підготовка конкурентоздатного фахівця в умовах післядипломної освіти»</a:t>
            </a:r>
            <a:br>
              <a:rPr sz="4200"/>
            </a:br>
            <a:r>
              <a:rPr b="1" lang="uk-UA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uk-UA" sz="22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1" lang="en-US" sz="2200" spc="-1" strike="noStrike">
                <a:solidFill>
                  <a:srgbClr val="2f5897"/>
                </a:solidFill>
                <a:latin typeface="Palatino Linotype"/>
              </a:rPr>
              <a:t>№0116U004869</a:t>
            </a:r>
            <a:r>
              <a:rPr b="1" lang="ru-RU" sz="2200" spc="-1" strike="noStrike">
                <a:solidFill>
                  <a:srgbClr val="2f5897"/>
                </a:solidFill>
                <a:latin typeface="Palatino Linotype"/>
              </a:rPr>
              <a:t> , </a:t>
            </a:r>
            <a:r>
              <a:rPr b="1" lang="uk-UA" sz="2200" spc="-1" strike="noStrike">
                <a:solidFill>
                  <a:srgbClr val="2f5897"/>
                </a:solidFill>
                <a:latin typeface="Palatino Linotype"/>
              </a:rPr>
              <a:t>2016 р.) </a:t>
            </a:r>
            <a:br>
              <a:rPr sz="2200"/>
            </a:b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0" y="468648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uk-UA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000099"/>
                </a:solidFill>
                <a:latin typeface="Tahoma"/>
              </a:rPr>
              <a:t>Філь Олена Анатоліївна</a:t>
            </a:r>
            <a:r>
              <a:rPr b="1" i="1" lang="uk-UA" sz="2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800"/>
            </a:br>
            <a:r>
              <a:rPr b="0" lang="uk-UA" sz="2400" spc="-1" strike="noStrike">
                <a:solidFill>
                  <a:srgbClr val="000099"/>
                </a:solidFill>
                <a:latin typeface="Arial"/>
                <a:ea typeface="Arial"/>
              </a:rPr>
              <a:t>зав. лабораторією, кандидат  психологічних наук, доц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9900"/>
                </a:solidFill>
                <a:latin typeface="Palatino Linotype"/>
              </a:rPr>
              <a:t>1. Чи я зустрічаю вияви конкуренції в своєму житті?</a:t>
            </a:r>
            <a:endParaRPr b="0" lang="en-US" sz="43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2" name="Object 3"/>
          <p:cNvGraphicFramePr/>
          <p:nvPr/>
        </p:nvGraphicFramePr>
        <p:xfrm>
          <a:off x="0" y="1700280"/>
          <a:ext cx="889308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8893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Gothic"/>
              </a:rPr>
              <a:t>Шкала 2. Стратегії конкуренції фахівців на сучасному ринку праці та послуг</a:t>
            </a: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осліджується відповідями на питання «</a:t>
            </a:r>
            <a:r>
              <a:rPr b="0" i="1" lang="uk-UA" sz="3600" spc="-1" strike="noStrike">
                <a:solidFill>
                  <a:srgbClr val="000000"/>
                </a:solidFill>
                <a:latin typeface="Century Gothic"/>
              </a:rPr>
              <a:t>В ситуації конкуренції на ринку сучасні фахівці найчастіше себе поводять...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»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00"/>
                </a:solidFill>
                <a:latin typeface="Palatino Linotype"/>
              </a:rPr>
              <a:t>Здебільшого фахівці в ситуації  конкуренції на сучасному ринку …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47" name="Object 3"/>
          <p:cNvGraphicFramePr/>
          <p:nvPr/>
        </p:nvGraphicFramePr>
        <p:xfrm>
          <a:off x="324000" y="1844640"/>
          <a:ext cx="835164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844640"/>
                    <a:ext cx="8351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7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Palatino Linotype"/>
              </a:rPr>
              <a:t>1.  Деструктивна стратегія :</a:t>
            </a:r>
            <a:r>
              <a:rPr b="0" lang="uk-UA" sz="34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719280" y="179028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Symbol"/>
                <a:ea typeface="Symbol"/>
              </a:rPr>
              <a:t></a:t>
            </a: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                   </a:t>
            </a:r>
            <a:r>
              <a:rPr b="1" lang="uk-UA" sz="2800" spc="-1" strike="noStrike">
                <a:solidFill>
                  <a:srgbClr val="7f7f7f"/>
                </a:solidFill>
                <a:latin typeface="Symbol"/>
                <a:ea typeface="Symbol"/>
              </a:rPr>
              <a:t>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51" name="Picture 4" descr="j0284078"/>
          <p:cNvPicPr/>
          <p:nvPr/>
        </p:nvPicPr>
        <p:blipFill>
          <a:blip r:embed="rId2"/>
          <a:stretch/>
        </p:blipFill>
        <p:spPr>
          <a:xfrm>
            <a:off x="6516720" y="2492280"/>
            <a:ext cx="1800360" cy="1648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j0283834"/>
          <p:cNvPicPr/>
          <p:nvPr/>
        </p:nvPicPr>
        <p:blipFill>
          <a:blip r:embed="rId3"/>
          <a:stretch/>
        </p:blipFill>
        <p:spPr>
          <a:xfrm>
            <a:off x="395280" y="3141720"/>
            <a:ext cx="2158920" cy="113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6" descr="bs02096_"/>
          <p:cNvPicPr/>
          <p:nvPr/>
        </p:nvPicPr>
        <p:blipFill>
          <a:blip r:embed="rId4"/>
          <a:stretch/>
        </p:blipFill>
        <p:spPr>
          <a:xfrm>
            <a:off x="4140360" y="4017960"/>
            <a:ext cx="1726920" cy="1703520"/>
          </a:xfrm>
          <a:prstGeom prst="rect">
            <a:avLst/>
          </a:prstGeom>
          <a:ln w="0">
            <a:noFill/>
          </a:ln>
        </p:spPr>
      </p:pic>
      <p:sp>
        <p:nvSpPr>
          <p:cNvPr id="1054" name="Oval 7"/>
          <p:cNvSpPr/>
          <p:nvPr/>
        </p:nvSpPr>
        <p:spPr>
          <a:xfrm>
            <a:off x="1574640" y="1849320"/>
            <a:ext cx="979560" cy="360360"/>
          </a:xfrm>
          <a:prstGeom prst="ellipse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8" descr="j0157881"/>
          <p:cNvPicPr/>
          <p:nvPr/>
        </p:nvPicPr>
        <p:blipFill>
          <a:blip r:embed="rId5"/>
          <a:stretch/>
        </p:blipFill>
        <p:spPr>
          <a:xfrm>
            <a:off x="7416720" y="4446720"/>
            <a:ext cx="1150920" cy="1817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9" descr="cautious"/>
          <p:cNvPicPr/>
          <p:nvPr/>
        </p:nvPicPr>
        <p:blipFill>
          <a:blip r:embed="rId6"/>
          <a:stretch/>
        </p:blipFill>
        <p:spPr>
          <a:xfrm>
            <a:off x="1425600" y="5270400"/>
            <a:ext cx="201600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Palatino Linotype"/>
              </a:rPr>
              <a:t>Д</a:t>
            </a:r>
            <a:r>
              <a:rPr b="1" i="1" lang="uk-UA" sz="4400" spc="-1" strike="noStrike">
                <a:solidFill>
                  <a:srgbClr val="000000"/>
                </a:solidFill>
                <a:latin typeface="Palatino Linotype"/>
              </a:rPr>
              <a:t>еструктивна стратегія конкуренції 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Palatino Linotype"/>
              </a:rPr>
              <a:t>(агресивно-маніпулятивна)</a:t>
            </a:r>
            <a:r>
              <a:rPr b="0" lang="uk-UA" sz="4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6840" y="2276640"/>
            <a:ext cx="8218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- стратегія конкурентної взаємодії, яка  передбачає «жорстку» боротьбу двох або більше конкурентів за обмежений ресурс / при досягненні значущої для них мети/задоволенні їх власних потреб маіпулятивними методами/методами</a:t>
            </a:r>
            <a:r>
              <a:rPr b="0" i="1" lang="uk-UA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„нечесної (“дикої”) конкуренції”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2f5897"/>
                </a:solidFill>
                <a:latin typeface="Palatino Linotype"/>
              </a:rPr>
              <a:t>2. Конструктивна стратегія</a:t>
            </a:r>
            <a:r>
              <a:rPr b="0" lang="uk-UA" sz="41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41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7f7f7f"/>
                </a:solidFill>
                <a:latin typeface="Century Gothic"/>
              </a:rPr>
              <a:t>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</a:t>
            </a: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          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       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                  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</a:t>
            </a: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uk-UA" sz="3600" spc="-1" strike="noStrike">
                <a:solidFill>
                  <a:srgbClr val="7f7f7f"/>
                </a:solidFill>
                <a:latin typeface="Symbol"/>
                <a:ea typeface="Symbol"/>
              </a:rPr>
              <a:t>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1" name="Picture 4" descr="j0236251"/>
          <p:cNvPicPr/>
          <p:nvPr/>
        </p:nvPicPr>
        <p:blipFill>
          <a:blip r:embed="rId2"/>
          <a:stretch/>
        </p:blipFill>
        <p:spPr>
          <a:xfrm>
            <a:off x="395280" y="2060640"/>
            <a:ext cx="2808360" cy="2601720"/>
          </a:xfrm>
          <a:prstGeom prst="rect">
            <a:avLst/>
          </a:prstGeom>
          <a:ln w="0">
            <a:noFill/>
          </a:ln>
        </p:spPr>
      </p:pic>
      <p:sp>
        <p:nvSpPr>
          <p:cNvPr id="1062" name="Oval 5"/>
          <p:cNvSpPr/>
          <p:nvPr/>
        </p:nvSpPr>
        <p:spPr>
          <a:xfrm>
            <a:off x="6732720" y="3429000"/>
            <a:ext cx="2087280" cy="1008000"/>
          </a:xfrm>
          <a:prstGeom prst="ellipse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Ме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6" descr="j0283839"/>
          <p:cNvPicPr/>
          <p:nvPr/>
        </p:nvPicPr>
        <p:blipFill>
          <a:blip r:embed="rId3"/>
          <a:stretch/>
        </p:blipFill>
        <p:spPr>
          <a:xfrm>
            <a:off x="5076720" y="1989000"/>
            <a:ext cx="1513080" cy="1336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7" descr="j0149852"/>
          <p:cNvPicPr/>
          <p:nvPr/>
        </p:nvPicPr>
        <p:blipFill>
          <a:blip r:embed="rId4"/>
          <a:stretch/>
        </p:blipFill>
        <p:spPr>
          <a:xfrm>
            <a:off x="6659640" y="4859280"/>
            <a:ext cx="19573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онструктивна стратегія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конкуренції</a:t>
            </a:r>
            <a:r>
              <a:rPr b="0" i="1" lang="uk-UA" sz="2800" spc="-1" strike="noStrike">
                <a:solidFill>
                  <a:srgbClr val="000000"/>
                </a:solidFill>
                <a:latin typeface="Century Gothic"/>
              </a:rPr>
              <a:t> (асертивно-гуманістична) –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тратегія конкурентної взаємодії, що передбачає цивілізовану психологічну взаємодію особистостей у процесі досягнення однаково значущої для них мети /  задоволенні їх власних потреб, причому не за рахунок жорсткого «зіткнення» або дискредитації авторитету опонента, а завдяки розвитку та презентації своєї «конкурентної власності»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2f5897"/>
                </a:solidFill>
                <a:latin typeface="Palatino Linotype"/>
              </a:rPr>
              <a:t>3. Ігнорування конкуренції</a:t>
            </a:r>
            <a:r>
              <a:rPr b="0" lang="uk-UA" sz="41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41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8" name="Picture 4" descr="j0233556"/>
          <p:cNvPicPr/>
          <p:nvPr/>
        </p:nvPicPr>
        <p:blipFill>
          <a:blip r:embed="rId2"/>
          <a:stretch/>
        </p:blipFill>
        <p:spPr>
          <a:xfrm>
            <a:off x="6588000" y="4508640"/>
            <a:ext cx="2016360" cy="16812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j0149576"/>
          <p:cNvPicPr/>
          <p:nvPr/>
        </p:nvPicPr>
        <p:blipFill>
          <a:blip r:embed="rId3"/>
          <a:stretch/>
        </p:blipFill>
        <p:spPr>
          <a:xfrm>
            <a:off x="3492360" y="2133720"/>
            <a:ext cx="1368720" cy="1084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j0303480"/>
          <p:cNvPicPr/>
          <p:nvPr/>
        </p:nvPicPr>
        <p:blipFill>
          <a:blip r:embed="rId4"/>
          <a:stretch/>
        </p:blipFill>
        <p:spPr>
          <a:xfrm>
            <a:off x="3419640" y="4149720"/>
            <a:ext cx="1871640" cy="1614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j0312450"/>
          <p:cNvPicPr/>
          <p:nvPr/>
        </p:nvPicPr>
        <p:blipFill>
          <a:blip r:embed="rId5"/>
          <a:stretch/>
        </p:blipFill>
        <p:spPr>
          <a:xfrm>
            <a:off x="7596360" y="2060640"/>
            <a:ext cx="1023840" cy="1359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8" descr="j0334298"/>
          <p:cNvPicPr/>
          <p:nvPr/>
        </p:nvPicPr>
        <p:blipFill>
          <a:blip r:embed="rId6"/>
          <a:stretch/>
        </p:blipFill>
        <p:spPr>
          <a:xfrm>
            <a:off x="5508720" y="2133720"/>
            <a:ext cx="1325520" cy="21351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9" descr="j0230821"/>
          <p:cNvPicPr/>
          <p:nvPr/>
        </p:nvPicPr>
        <p:blipFill>
          <a:blip r:embed="rId7"/>
          <a:stretch/>
        </p:blipFill>
        <p:spPr>
          <a:xfrm>
            <a:off x="539640" y="3933720"/>
            <a:ext cx="2519640" cy="1787760"/>
          </a:xfrm>
          <a:prstGeom prst="rect">
            <a:avLst/>
          </a:prstGeom>
          <a:ln w="0">
            <a:noFill/>
          </a:ln>
        </p:spPr>
      </p:pic>
      <p:sp>
        <p:nvSpPr>
          <p:cNvPr id="1074" name="Rectangle 10"/>
          <p:cNvSpPr/>
          <p:nvPr/>
        </p:nvSpPr>
        <p:spPr>
          <a:xfrm>
            <a:off x="3590280" y="2781000"/>
            <a:ext cx="117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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Symbol"/>
                <a:ea typeface="Symbol"/>
              </a:rPr>
              <a:t>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1" descr="j0397470"/>
          <p:cNvPicPr/>
          <p:nvPr/>
        </p:nvPicPr>
        <p:blipFill>
          <a:blip r:embed="rId8"/>
          <a:stretch/>
        </p:blipFill>
        <p:spPr>
          <a:xfrm>
            <a:off x="971640" y="1989000"/>
            <a:ext cx="1800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Palatino Linotype"/>
              </a:rPr>
              <a:t>стратегія «Ігнорування / уникання» конкуренції</a:t>
            </a:r>
            <a:r>
              <a:rPr b="0" lang="uk-UA" sz="3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Century Gothic"/>
              </a:rPr>
              <a:t>(пасивно-залежна, фрустраційна) – </a:t>
            </a: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стратегія конкурентної взаємодії, що передбачає свідоме або несвідоме уникнення особистістю ситуацій участі в конкуренції та взаємодії з потенційними / реальними конкурентами (відмову від досягнення раніше значущої мети / задоволення власних потреб, пасивність, зниження рівня домагань та ін.)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2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f5897"/>
                </a:solidFill>
                <a:latin typeface="Palatino Linotype"/>
              </a:rPr>
              <a:t>Виконавці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Бондарчук О.І., д. психол. н., проф., зав. кафедрою психології управління ДВНЗ "Університет менеджменту освіти"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Алєксєєва О..І., науковий кореспондент  ДВНЗ "Університет менеджменту освіти, </a:t>
            </a:r>
            <a:r>
              <a:rPr b="0" i="1" lang="uk-UA" sz="2100" spc="-1" strike="noStrike">
                <a:solidFill>
                  <a:srgbClr val="000000"/>
                </a:solidFill>
                <a:latin typeface="Century Gothic"/>
              </a:rPr>
              <a:t>старший викладач кафедри  філософії  освіти та управління КВНЗ КОР «Академія неперервної освіти», кандидат психологічних наук</a:t>
            </a: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Волинськ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Закарпатськ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Запоріз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Івано-Франківс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Полтавський обласний інститут післядипломної педагогічної освіти ім. М. Остроградського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Рівненський обласний інститут післядипломної педагогіч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Харківська академія неперервної освіти; 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entury Gothic"/>
              </a:rPr>
              <a:t>Херсонська академія неперервної освіти.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Підготовлено 3 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публікації з проблеми дослідження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1. Філь О. А. Система психологічного забезпечення управління персоналом як конкурентна перевага компанії на ринку праці, товарів та послуг / О. А. Філь  // Правничий вісник Університету «КРОК» / Вищий навчальний заклад «Університет економіки та права «КРОК». – Вип. 22. – К., 2016. – С. 184– 190. (Міжнародне фахове видання, входить до бази даних Ulrich’sPeriodicalsDirectory, США (internationaldatabaseUlrich’sPeriodicalsDirectory, USA). (1 др. арк.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2. Філь О. А. Психологічне забезпечення конкурентоздатності освітніх організацій в умовах соціальних трансформацій / О. А. Філь // Психолого-педагогічний супровід фахової підготовки та підвищення кваліфікації особистості в умовах трансформації освіти: тези всеукраїнської науково-практичної конференції (м. Київ, 27 травня 2016 р.) – К. : ДВНЗ «Університет менеджменту освіти», 2016. – с. 115–117. [електронний ресурс]. – режим доступу: http://umo.edu.ua/konferenciji-ta-seminari (0,1 др. арк.).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3. Бондарчук О. І., Філь О.А. Психологічне дослідження конкурентоздатності науково-педагогічних працівників: методичний аспект //«Конкурентологія та ринок праці: психологічні аспекти» : Тези І міжнародної науково-практичної конференції (м. Київ, 8-9 грудня 2016 р.) – К. : ДВНЗ «Університет менеджменту освіти», 2016. – 75 с. [Електронний ресурс]. – Режим доступу: http://.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http://umo.edu.ua/konferenciji-ta-seminari 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3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</a:rPr>
              <a:t>Організовано та проведено І міжнародну  науково-практичну конференцію  Конкурентологія та ринок праці: психологічні аспекти»  (м. Київ, 8-9 грудня 2016 р.) 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ttps://www.facebook.com/groups/1247210475360282/?pnref=story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" descr=""/>
          <p:cNvPicPr/>
          <p:nvPr/>
        </p:nvPicPr>
        <p:blipFill>
          <a:blip r:embed="rId3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4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Впровадження.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 Результати науково-дослідної роботи (НДР) упроваджені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в процес підвищення кваліфікації керівних, науково-педагогічних та педагогічних працівників освіти у закладах післядипломної педагогічної освіти України: Центральний інститут післядипломної педагогічної освіти ДВНЗ «Університет менеджменту освіти» НАПН України (довідка про впровадження № 19-03/41 26.12.2016 р.) (О. Філь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електронна бібліотека та депозитарій Державного вищого навчального закладу «Університет менеджменту освіти»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сторінка на Фейсбук «Конкурентологія» (https://www.facebook.com/groups)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Gothic"/>
                <a:ea typeface="Aharoni"/>
              </a:rPr>
              <a:t>сайт Броварського алюмінієвого заводу (http://braz.com.ua/blog/news?post=72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Об’єкт дослідження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особистість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онкурентоздатного фахівця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редмет дослідження</a:t>
            </a:r>
            <a:r>
              <a:rPr b="0" i="1" lang="ru-RU" sz="3600" spc="-1" strike="noStrike">
                <a:solidFill>
                  <a:srgbClr val="000000"/>
                </a:solidFill>
                <a:latin typeface="Century Gothic"/>
              </a:rPr>
              <a:t>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іагностична складова підготовки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онкурентоздатного фахівця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в умовах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іслядипломної  педагогічної осві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Мета дослідження –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розробити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діагностичн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складов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у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підготовки конкурентоздатного фахівця в умовах післядипломної  педагогічної осві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Основні результати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0000"/>
                </a:solidFill>
                <a:latin typeface="Century Gothic"/>
              </a:rPr>
              <a:t>1.</a:t>
            </a:r>
            <a:endParaRPr b="0" lang="en-US" sz="8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1. Діагностичн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 складова підготовки конкурентоздатного фахівця в умовах післядипломної педагогічної освіти –</a:t>
            </a:r>
            <a:r>
              <a:rPr b="0" lang="uk-UA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00cc"/>
                </a:solidFill>
                <a:latin typeface="Century Gothic"/>
              </a:rPr>
              <a:t>Комплекс діагностичних методик «Конкурентоздатність фахівця на сучасному ринку праці, товарів та послуг» 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(автори: О.А. Філь, О.І. Бондарчук, О.І. Алєксєєва)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1. Психологічні проблеми конкуренції фахівців на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2. Психологічна культура конкуренції фахівців на сучасному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Частина 3. Конкурентоздатність фахівців на ринку праці та послуг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Gothic"/>
              </a:rPr>
              <a:t>Частина 1. Психологічні проблеми конкуренції фахівців на ринку праці та послуг: р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езультати апробації комплексу діагностичних методик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Вибірк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42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Gothic"/>
              </a:rPr>
              <a:t>Дослідження проведено серед 100 керівників та працівників освітніх організацій  2016 р. 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entury Gothic"/>
              </a:rPr>
              <a:t>курси перепідготовки керівників освітніх організацій на факультеті підвищення кваліфікації педагогічних кадрів та на курсах підвищення кваліфікації науково-педагогічних кадрів в ДВНЗ «Університет менеджменту освіти» (м. Київ, 2016 р.);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Gothic"/>
              </a:rPr>
              <a:t>Шкала 1. Наявність конкуренції у житті фахівців на ринку праці та послуг</a:t>
            </a:r>
            <a:r>
              <a:rPr b="1" lang="uk-UA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досліджується відповідями на питання «</a:t>
            </a:r>
            <a:r>
              <a:rPr b="0" i="1" lang="uk-UA" sz="3600" spc="-1" strike="noStrike">
                <a:solidFill>
                  <a:srgbClr val="000000"/>
                </a:solidFill>
                <a:latin typeface="Century Gothic"/>
              </a:rPr>
              <a:t>Чи я зустрічаю вияви конкуренції у власному житті?</a:t>
            </a:r>
            <a:r>
              <a:rPr b="0" lang="uk-UA" sz="3600" spc="-1" strike="noStrike">
                <a:solidFill>
                  <a:srgbClr val="000000"/>
                </a:solidFill>
                <a:latin typeface="Century Gothic"/>
              </a:rPr>
              <a:t>»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02:56Z</dcterms:created>
  <dc:creator>Карамушка</dc:creator>
  <dc:description/>
  <dc:language>en-US</dc:language>
  <cp:lastModifiedBy>SamLab.ws</cp:lastModifiedBy>
  <dcterms:modified xsi:type="dcterms:W3CDTF">2017-02-01T06:29:24Z</dcterms:modified>
  <cp:revision>894</cp:revision>
  <dc:subject/>
  <dc:title>TEAM BULDING AS A FACTOR OF HIGH COMPETITIVENESS OF ENTEPRENEURS</dc:title>
</cp:coreProperties>
</file>