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624D-B304-47D1-983A-90028BCB6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4F2B-CD13-465D-B5CA-0CDE18809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DE49-7C6A-42F6-8CE3-CD2F5DD36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969D-867B-47A5-8153-90D835B7A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B298-F571-4677-AD9A-31411CF75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2C8E-0E11-4D91-8951-99C335026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E258-4374-4A07-B6F7-0FB701DEA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31D9-E9FC-45E5-80C4-2E77183B6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8BDF-606E-4F19-88DF-205A1723A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060C-E391-41C4-A78F-EB81424F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7BD7-B3D3-4CA4-BDF3-EA826054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6FB5-A7D1-412C-AE1B-94D91435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83994-8607-410A-917C-35D3830C53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520" y="214200"/>
            <a:ext cx="80722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79646"/>
                </a:solidFill>
                <a:latin typeface="Times New Roman"/>
                <a:ea typeface="Times New Roman"/>
              </a:rPr>
              <a:t>УКРАЇНСЬКИЙ ВІДКРИТИЙ УНІВЕРСИТЕТ ПІСЛЯДИПЛОМНОЇ ОСВІТИ</a:t>
            </a:r>
            <a:br>
              <a:rPr sz="1800"/>
            </a:br>
            <a:r>
              <a:rPr b="0" lang="uk-UA" sz="1800" spc="-1" strike="noStrike">
                <a:solidFill>
                  <a:srgbClr val="f79646"/>
                </a:solidFill>
                <a:latin typeface="Times New Roman"/>
                <a:ea typeface="Times New Roman"/>
              </a:rPr>
              <a:t>ДВНЗ УНІВЕРСИТЕТ МЕНЕДЖМЕНТУ ОСВІТИ НАПН УКРАЇНИ ЛАБОРАТОРІЯ ХРИСТИЯНСЬКОЇ ПЕДАГОГІКИ ТА ПСИХОЛОГІЇ</a:t>
            </a:r>
            <a:br>
              <a:rPr sz="1800"/>
            </a:br>
            <a:r>
              <a:rPr b="0" lang="uk-UA" sz="1600" spc="-1" strike="noStrike">
                <a:solidFill>
                  <a:srgbClr val="f79646"/>
                </a:solidFill>
                <a:latin typeface="Times New Roman"/>
                <a:ea typeface="Times New Roman"/>
              </a:rPr>
              <a:t> ІНСТИТУТ ГЕНЕЗИ ЖИТТЯ І ВСЕСВІТ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8000" y="1428480"/>
            <a:ext cx="9036000" cy="33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Про співпрацю лабораторії християнської педагогіки та психології з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 </a:t>
            </a:r>
            <a:r>
              <a:rPr b="0" lang="uk-UA" sz="32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Інститутом генези життя і Всесві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4bacc6"/>
                </a:solidFill>
                <a:latin typeface="Times New Roman"/>
                <a:ea typeface="Times New Roman"/>
              </a:rPr>
              <a:t>Сіданіч І.Л., д.п.н, професор кафедри педагогік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4bacc6"/>
                </a:solidFill>
                <a:latin typeface="Times New Roman"/>
                <a:ea typeface="Times New Roman"/>
              </a:rPr>
              <a:t> </a:t>
            </a:r>
            <a:r>
              <a:rPr b="0" i="1" lang="uk-UA" sz="2400" spc="-1" strike="noStrike">
                <a:solidFill>
                  <a:srgbClr val="4bacc6"/>
                </a:solidFill>
                <a:latin typeface="Times New Roman"/>
                <a:ea typeface="Times New Roman"/>
              </a:rPr>
              <a:t>управління та адмініструванн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79646"/>
                </a:solidFill>
                <a:latin typeface="Times New Roman"/>
                <a:ea typeface="Times New Roman"/>
              </a:rPr>
              <a:t>Київ – 21 березня 2017 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Науково-організаційний напря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Содержимое 3" descr=""/>
          <p:cNvPicPr/>
          <p:nvPr/>
        </p:nvPicPr>
        <p:blipFill>
          <a:blip r:embed="rId1"/>
          <a:stretch/>
        </p:blipFill>
        <p:spPr>
          <a:xfrm>
            <a:off x="444600" y="1200240"/>
            <a:ext cx="8254800" cy="33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Освітній напря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3" descr=""/>
          <p:cNvPicPr/>
          <p:nvPr/>
        </p:nvPicPr>
        <p:blipFill>
          <a:blip r:embed="rId1"/>
          <a:stretch/>
        </p:blipFill>
        <p:spPr>
          <a:xfrm>
            <a:off x="444600" y="1200240"/>
            <a:ext cx="8254800" cy="33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3454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Науково-методичний напря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4" descr=""/>
          <p:cNvPicPr/>
          <p:nvPr/>
        </p:nvPicPr>
        <p:blipFill>
          <a:blip r:embed="rId1"/>
          <a:stretch/>
        </p:blipFill>
        <p:spPr>
          <a:xfrm>
            <a:off x="444600" y="1200240"/>
            <a:ext cx="8254800" cy="3395520"/>
          </a:xfrm>
          <a:prstGeom prst="rect">
            <a:avLst/>
          </a:prstGeom>
          <a:ln w="0">
            <a:noFill/>
          </a:ln>
        </p:spPr>
      </p:pic>
      <p:sp>
        <p:nvSpPr>
          <p:cNvPr id="64" name="TextBox 5"/>
          <p:cNvSpPr/>
          <p:nvPr/>
        </p:nvSpPr>
        <p:spPr>
          <a:xfrm>
            <a:off x="3059280" y="62712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Розробленн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9646"/>
                </a:solidFill>
                <a:latin typeface="Microsoft YaHei UI"/>
                <a:ea typeface="Microsoft YaHei UI"/>
              </a:rPr>
              <a:t>Результати співпраці (за напрямами</a:t>
            </a:r>
            <a:r>
              <a:rPr b="0" lang="ru-RU" sz="2800" spc="-1" strike="noStrike">
                <a:solidFill>
                  <a:srgbClr val="f79646"/>
                </a:solidFill>
                <a:latin typeface="Microsoft YaHei UI"/>
                <a:ea typeface="Microsoft YaHei UI"/>
              </a:rPr>
              <a:t>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0" y="699840"/>
            <a:ext cx="9036000" cy="38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7030a0"/>
                </a:solidFill>
                <a:latin typeface="Calibri"/>
              </a:rPr>
              <a:t>      </a:t>
            </a:r>
            <a:r>
              <a:rPr b="0" lang="uk-UA" sz="1400" spc="-1" strike="noStrike">
                <a:solidFill>
                  <a:srgbClr val="7030a0"/>
                </a:solidFill>
                <a:latin typeface="Calibri"/>
              </a:rPr>
              <a:t>У зв’язку з відзначенням в Україні 500-річчя Реформації відповідно до Указу Президента України № 357/2016 від 26.08.2016 р. «Про відзначення в Україні 500-річчя Реформації», розпорядження Кабінету Міністрів України від 07 грудня 2016 року № 935-р «Про затвердження плану заходів з підготовки та відзначення в Україні 500-річчя Реформації», листа Міністерства освіти і науки України від 23.02.2017 р. № 1/9-100 «Щодо відзначення в Україні 500-річчя Реформації» проведено 5 регіональних конференцій (Київ, Київська обл., Черкаси, Рівно, Рівненська обл., Полтава) – попереду 10 конференці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Calibri"/>
              </a:rPr>
              <a:t>      </a:t>
            </a:r>
            <a:r>
              <a:rPr b="0" lang="ru-RU" sz="1400" spc="-1" strike="noStrike">
                <a:solidFill>
                  <a:srgbClr val="7030a0"/>
                </a:solidFill>
                <a:latin typeface="Calibri"/>
              </a:rPr>
              <a:t>Громадська рада з питань співпраці з Церквами та релігійними організаціями при МОН України (Наказ МОН від 941 від 20.10.2008). Мета: сприяння всебічному забезпеченню свободи совісті та подальшої гармонізації державно-конфесійних відносин в галузі освіти, підтримання постійного діалогу із Церквами та релігійними організаціями, більш ефективного використання їхнього потенціалу у виховному процесі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Calibri"/>
              </a:rPr>
              <a:t>          </a:t>
            </a:r>
            <a:r>
              <a:rPr b="0" lang="ru-RU" sz="1400" spc="-1" strike="noStrike">
                <a:solidFill>
                  <a:srgbClr val="7030a0"/>
                </a:solidFill>
                <a:latin typeface="Calibri"/>
              </a:rPr>
              <a:t>Указ Президента України «Про Стратегію національно-патріотичного виховання дітей та молоді на 2016 - 2020 роки» від 13.10.2015 № 580 основними складовими національно-патріотичного виховання мають стати громадянсько-патріотичне, військово-патріотичне, духовно-моральне виховання; брак духовності і моральності у суспільстві як одна з актуальних проблем; збереження та розвиток духовно-моральних цінностей Українського народу – одна з основ національно-патріотичного виховання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Calibri"/>
              </a:rPr>
              <a:t>впровадження навчальних дисциплін духовно-морального спрямування як основа формування особистості та підґрунтя для національно-патріотичного виховання (як один з напрямків реалізації Стратегії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50400"/>
            <a:ext cx="9144000" cy="114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9646"/>
                </a:solidFill>
                <a:latin typeface="Microsoft YaHei UI"/>
                <a:ea typeface="Microsoft YaHei UI"/>
              </a:rPr>
              <a:t>Перспективи розвитку науково-освітньої співпраці Лабораторії та Інститут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08000" y="1200240"/>
            <a:ext cx="8974080" cy="38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70c0"/>
                </a:solidFill>
                <a:latin typeface="Calibri"/>
              </a:rPr>
              <a:t>пов’язуємо з розробленням, експериментальною апробацією та впровадженням в освітній процес ННІМП УМО науково-методичного комплексу для підготовки магістрів спеціальності «Науки про освіту» (спеціалізація «Християнська педагогіка у вищій школі»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2040" y="-360"/>
            <a:ext cx="8624880" cy="6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79646"/>
                </a:solidFill>
                <a:latin typeface="Microsoft YaHei UI"/>
                <a:ea typeface="Microsoft YaHei UI"/>
              </a:rPr>
              <a:t>Про </a:t>
            </a:r>
            <a:r>
              <a:rPr b="0" lang="uk-UA" sz="1800" spc="-1" strike="noStrike">
                <a:solidFill>
                  <a:srgbClr val="f79646"/>
                </a:solidFill>
                <a:latin typeface="Microsoft YaHei UI"/>
                <a:ea typeface="Microsoft YaHei UI"/>
              </a:rPr>
              <a:t>співпрацю лабораторії християнської педагогіки та психології з </a:t>
            </a:r>
            <a:br>
              <a:rPr sz="1800"/>
            </a:br>
            <a:r>
              <a:rPr b="0" lang="uk-UA" sz="1800" spc="-1" strike="noStrike">
                <a:solidFill>
                  <a:srgbClr val="f79646"/>
                </a:solidFill>
                <a:latin typeface="Microsoft YaHei UI"/>
                <a:ea typeface="Microsoft YaHei UI"/>
              </a:rPr>
              <a:t>Інститутом генези життя і Всесвіту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699840"/>
            <a:ext cx="9036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Microsoft YaHei UI"/>
                <a:ea typeface="Microsoft YaHei UI"/>
              </a:rPr>
              <a:t>     </a:t>
            </a:r>
            <a:r>
              <a:rPr b="0" lang="uk-UA" sz="1800" spc="-1" strike="noStrike">
                <a:solidFill>
                  <a:srgbClr val="4f81bd"/>
                </a:solidFill>
                <a:latin typeface="Microsoft YaHei UI"/>
                <a:ea typeface="Microsoft YaHei UI"/>
              </a:rPr>
              <a:t>Лабораторія «Християнської педагогіки та психології» створена в 2016 р. на базі Лабораторії «Супервізії професійного розвитку, організації виховної роботи та студентського самоврядування» відповідно до наказу ректору ДВНЗ «УМО» НАПН України від 30.12.2015 № 01-01/527 «Про закриття лабораторій НДІ ДВНЗ «УМО» НАПН України і відкриття лабораторій на громадських засадах» та наказу голови Ради ректорів (директорів) УВУПО від 05.01.2016 № 01-н «Про відкриття лабораторій на громадських засадах». Наступність тематики НДР лабораторій збережено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4f81bd"/>
                </a:solidFill>
                <a:latin typeface="Microsoft YaHei UI"/>
                <a:ea typeface="Microsoft YaHei UI"/>
              </a:rPr>
              <a:t>      </a:t>
            </a:r>
            <a:r>
              <a:rPr b="0" lang="uk-UA" sz="1800" spc="-1" strike="noStrike">
                <a:solidFill>
                  <a:srgbClr val="7030a0"/>
                </a:solidFill>
                <a:latin typeface="Microsoft YaHei UI"/>
                <a:ea typeface="Microsoft YaHei UI"/>
              </a:rPr>
              <a:t>В умовах появи нових типів навчальних закладів, створених релігійними громадами відповідно Закону України від 02.07.2015 р. № 498-</a:t>
            </a:r>
            <a:r>
              <a:rPr b="0" lang="en-US" sz="1800" spc="-1" strike="noStrike">
                <a:solidFill>
                  <a:srgbClr val="7030a0"/>
                </a:solidFill>
                <a:latin typeface="Microsoft YaHei UI"/>
                <a:ea typeface="Microsoft YaHei UI"/>
              </a:rPr>
              <a:t>VIII «</a:t>
            </a:r>
            <a:r>
              <a:rPr b="0" lang="uk-UA" sz="1800" spc="-1" strike="noStrike">
                <a:solidFill>
                  <a:srgbClr val="7030a0"/>
                </a:solidFill>
                <a:latin typeface="Microsoft YaHei UI"/>
                <a:ea typeface="Microsoft YaHei UI"/>
              </a:rPr>
              <a:t>Про внесення змін до деяких законів України щодо заснування релігійними організаціями навчальних закладів» виникла необхідність взаємодії працівників їхніх закладів з педагогічними працівниками державних закладів освіти, які володіють досвідом організації педагогічної діяльності на засадах духовно-моральних цінностей – як наслідок -необхідність появи термінів і розроблення педагогічних і психологічних засад  розвитку християнської педагогі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79646"/>
                </a:solidFill>
                <a:latin typeface="Microsoft YaHei UI"/>
                <a:ea typeface="Microsoft YaHei UI"/>
              </a:rPr>
              <a:t>Співпраця лабораторії християнської педагогіки та психології з Інститутом генези життя і Всесвіт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Содержимое 3" descr=""/>
          <p:cNvPicPr/>
          <p:nvPr/>
        </p:nvPicPr>
        <p:blipFill>
          <a:blip r:embed="rId1"/>
          <a:stretch/>
        </p:blipFill>
        <p:spPr>
          <a:xfrm>
            <a:off x="444600" y="1170000"/>
            <a:ext cx="826128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560" y="205920"/>
            <a:ext cx="8435880" cy="493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79646"/>
                </a:solidFill>
                <a:latin typeface="Microsoft YaHei UI"/>
                <a:ea typeface="Microsoft YaHei UI"/>
              </a:rPr>
              <a:t>Мета співпраці лабораторії християнської педагогіки та психології з Інститутом генези життя і Всесвіту</a:t>
            </a:r>
            <a:br>
              <a:rPr sz="2000"/>
            </a:br>
            <a:br>
              <a:rPr sz="2000"/>
            </a:br>
            <a:r>
              <a:rPr b="0" lang="uk-UA" sz="2000" spc="-1" strike="noStrike">
                <a:solidFill>
                  <a:srgbClr val="0070c0"/>
                </a:solidFill>
                <a:latin typeface="Microsoft YaHei UI"/>
                <a:ea typeface="Microsoft YaHei UI"/>
              </a:rPr>
              <a:t>- дослідження психолого-педагогічних засад формування особистості на християнських цінностях,  розробка та впровадження спільних проектів наукових досліджень у галузі християнської педагогіки, підготовка фахівців у галузі християнської педагогіки вищої школи</a:t>
            </a:r>
            <a:r>
              <a:rPr b="0" lang="ru-RU" sz="2000" spc="-1" strike="noStrike">
                <a:solidFill>
                  <a:srgbClr val="0070c0"/>
                </a:solidFill>
                <a:latin typeface="Microsoft YaHei UI"/>
                <a:ea typeface="Microsoft YaHei UI"/>
              </a:rPr>
              <a:t>,</a:t>
            </a:r>
            <a:r>
              <a:rPr b="0" lang="uk-UA" sz="2000" spc="-1" strike="noStrike">
                <a:solidFill>
                  <a:srgbClr val="0070c0"/>
                </a:solidFill>
                <a:latin typeface="Microsoft YaHei UI"/>
                <a:ea typeface="Microsoft YaHei UI"/>
              </a:rPr>
              <a:t> підтримка на державному рівні співпраці закладів освіти й релігійних освітніх громад.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79646"/>
                </a:solidFill>
                <a:latin typeface="Microsoft YaHei UI"/>
                <a:ea typeface="Microsoft YaHei UI"/>
              </a:rPr>
              <a:t>Завдання співпраці лабораторії християнської педагогіки та психології з Інститутом генези життя і Всесвіт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3" descr=""/>
          <p:cNvPicPr/>
          <p:nvPr/>
        </p:nvPicPr>
        <p:blipFill>
          <a:blip r:embed="rId1"/>
          <a:stretch/>
        </p:blipFill>
        <p:spPr>
          <a:xfrm>
            <a:off x="371520" y="1200240"/>
            <a:ext cx="8358120" cy="33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108000" y="205920"/>
            <a:ext cx="8794800" cy="4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79646"/>
                </a:solidFill>
                <a:latin typeface="Microsoft YaHei UI"/>
                <a:ea typeface="Microsoft YaHei UI"/>
              </a:rPr>
              <a:t>Форми співпраці лабораторії християнської педагогіки та психології з</a:t>
            </a:r>
            <a:br>
              <a:rPr sz="1800"/>
            </a:br>
            <a:r>
              <a:rPr b="0" lang="uk-UA" sz="1800" spc="-1" strike="noStrike">
                <a:solidFill>
                  <a:srgbClr val="f79646"/>
                </a:solidFill>
                <a:latin typeface="Microsoft YaHei UI"/>
                <a:ea typeface="Microsoft YaHei UI"/>
              </a:rPr>
              <a:t> Інститутом генези життя і Всесвіт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771120"/>
            <a:ext cx="8229600" cy="38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4bacc6"/>
                </a:solidFill>
                <a:latin typeface="Calibri"/>
              </a:rPr>
              <a:t>проведення міжнародних, всеукраїнських і регіональних науково-практичних конференцій, семінарів, форумів, наукових і науково-освітніх проектів та просвітницьких заходів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4bacc6"/>
                </a:solidFill>
                <a:latin typeface="Calibri"/>
              </a:rPr>
              <a:t>залучення фахівців Інституту для проведення семінарів і тренінгів для студентів магістратури УМО, а також для слухачів курсів підвищення кваліфікації вчителів предметів духовно-морального спрямування ЦІППО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4bacc6"/>
                </a:solidFill>
                <a:latin typeface="Calibri"/>
              </a:rPr>
              <a:t>проведення зустрічей викладачів, вчених, керівників УМО та Інституту з метою обміну досвідом підготовки фахівців у галузі християнської педагогіки; сприяння організації та вдосконаленню практичної підготовки студенті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4bacc6"/>
                </a:solidFill>
                <a:latin typeface="Calibri"/>
              </a:rPr>
              <a:t>організація стажування викладачів, наукових співробітників Інституту на базі </a:t>
            </a:r>
            <a:r>
              <a:rPr b="0" lang="ru-RU" sz="1800" spc="-1" strike="noStrike">
                <a:solidFill>
                  <a:srgbClr val="4bacc6"/>
                </a:solidFill>
                <a:latin typeface="Calibri"/>
              </a:rPr>
              <a:t>УМО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79646"/>
                </a:solidFill>
                <a:latin typeface="Microsoft YaHei UI"/>
                <a:ea typeface="Microsoft YaHei UI"/>
              </a:rPr>
              <a:t>Напрями співпраці лабораторії християнської педагогіки та психології з Інститутом генези життя і Всесвіт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3" descr=""/>
          <p:cNvPicPr/>
          <p:nvPr/>
        </p:nvPicPr>
        <p:blipFill>
          <a:blip r:embed="rId1"/>
          <a:stretch/>
        </p:blipFill>
        <p:spPr>
          <a:xfrm>
            <a:off x="401760" y="1195560"/>
            <a:ext cx="8297640" cy="34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79646"/>
                </a:solidFill>
                <a:latin typeface="Calibri"/>
              </a:rPr>
              <a:t>Науково-освітня співпраця </a:t>
            </a:r>
            <a:br>
              <a:rPr sz="1800"/>
            </a:br>
            <a:r>
              <a:rPr b="0" lang="uk-UA" sz="1800" spc="-1" strike="noStrike">
                <a:solidFill>
                  <a:srgbClr val="f79646"/>
                </a:solidFill>
                <a:latin typeface="Calibri"/>
              </a:rPr>
              <a:t>Лабораторії християнської педагогіки та психології УВУПО з </a:t>
            </a:r>
            <a:br>
              <a:rPr sz="1800"/>
            </a:br>
            <a:r>
              <a:rPr b="0" lang="uk-UA" sz="1800" spc="-1" strike="noStrike">
                <a:solidFill>
                  <a:srgbClr val="f79646"/>
                </a:solidFill>
                <a:latin typeface="Calibri"/>
              </a:rPr>
              <a:t>Інститутом генези життя і Всесвіту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24000" y="1230120"/>
            <a:ext cx="8686800" cy="39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8064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8064a2"/>
                </a:solidFill>
                <a:latin typeface="Calibri"/>
              </a:rPr>
              <a:t>визначення пріоритетних напрямів спільної діяльності (наукова, освітня, організаційна, методична)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8064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8064a2"/>
                </a:solidFill>
                <a:latin typeface="Calibri"/>
              </a:rPr>
              <a:t>започаткування спільних проектів і наукових досліджень у галузі християнської педагогіки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8064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8064a2"/>
                </a:solidFill>
                <a:latin typeface="Calibri"/>
              </a:rPr>
              <a:t>розроблення стандарту підготовки фахівців у галузі християнської педагогіки у вищій школі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8064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8064a2"/>
                </a:solidFill>
                <a:latin typeface="Calibri"/>
              </a:rPr>
              <a:t>організація спільних експериментальних науково-методичних і педагогічних майданчикі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8064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8064a2"/>
                </a:solidFill>
                <a:latin typeface="Calibri"/>
              </a:rPr>
              <a:t>впровадження наукових та науково-методичних розробок лабораторії та Інституту в практику підготовки майбутніх фахівців з християнської педагогіки</a:t>
            </a:r>
            <a:r>
              <a:rPr b="0" lang="ru-RU" sz="1800" spc="-1" strike="noStrike">
                <a:solidFill>
                  <a:srgbClr val="8064a2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79646"/>
                </a:solidFill>
                <a:latin typeface="Microsoft YaHei UI"/>
                <a:ea typeface="Microsoft YaHei UI"/>
              </a:rPr>
              <a:t>Умови співпраці лабораторії християнської педагогіки і психології з </a:t>
            </a:r>
            <a:br>
              <a:rPr sz="1800"/>
            </a:br>
            <a:r>
              <a:rPr b="0" lang="uk-UA" sz="1800" spc="-1" strike="noStrike">
                <a:solidFill>
                  <a:srgbClr val="f79646"/>
                </a:solidFill>
                <a:latin typeface="Microsoft YaHei UI"/>
                <a:ea typeface="Microsoft YaHei UI"/>
              </a:rPr>
              <a:t>Інститутом генези життя і Всесвіт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7030a0"/>
                </a:solidFill>
                <a:latin typeface="Microsoft YaHei UI"/>
                <a:ea typeface="Microsoft YaHei UI"/>
              </a:rPr>
              <a:t>підписання угоди про співпрацю у програмі підготовки магістрів спеціальності «Науки про освіту» (спеціалізація «Християнська педагогіка у вищій школі»), де перевага надається практичній підготовці, розвитку загальних та формуванню професійних компетентностей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7030a0"/>
                </a:solidFill>
                <a:latin typeface="Microsoft YaHei UI"/>
                <a:ea typeface="Microsoft YaHei UI"/>
              </a:rPr>
              <a:t>започаткування виконання теми НДР «Психолого-педагогічні засади підготовки магістрів спеціальності «Науки про освіту» спеціалізація «Християнська педагогіка у вищій школі» (2017 – 2020 рр. виконання</a:t>
            </a:r>
            <a:r>
              <a:rPr b="0" lang="ru-RU" sz="1800" spc="-1" strike="noStrike">
                <a:solidFill>
                  <a:srgbClr val="7030a0"/>
                </a:solidFill>
                <a:latin typeface="Microsoft YaHei UI"/>
                <a:ea typeface="Microsoft YaHei U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07T12:08:30Z</dcterms:created>
  <dc:creator>IRONMANN (AKA SHAMAN)</dc:creator>
  <dc:description/>
  <dc:language>en-US</dc:language>
  <cp:lastModifiedBy>tana</cp:lastModifiedBy>
  <dcterms:modified xsi:type="dcterms:W3CDTF">2017-03-22T17:43:32Z</dcterms:modified>
  <cp:revision>103</cp:revision>
  <dc:subject/>
  <dc:title>Український відкритий університет післядипломної освіти лабораторія християнської педагогіки та психології</dc:title>
</cp:coreProperties>
</file>