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367-B671-4D7D-9AD2-52E28A33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3B5-7F6F-461F-934F-A3994767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1FA-73F9-4DE8-B981-F55D1847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CF8-0138-4D14-8AD8-CA3AF3C8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88CB-0743-4572-8D58-12EE953A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041-699F-4D87-9BAB-68BE4EDF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12E7-CAC5-4FA1-9692-3E91D4D8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9BB9-4BA6-4847-9168-E9B9B773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27FB-A3E7-4F24-BCC1-21D4E63F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521-8809-40C1-83D1-103C7AFC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A40-E6CB-46EA-81DE-4583BDD3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17F-8760-49A8-9ED5-A5283709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7775-0F2A-471B-A546-EEDA3634E1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520" y="21420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УКРАЇНСЬКИЙ ВІДКРИТИЙ УНІВЕРСИТЕТ ПІСЛЯДИПЛОМНОЇ ОСВІТИ</a:t>
            </a:r>
            <a:br>
              <a:rPr sz="1800"/>
            </a:br>
            <a:r>
              <a:rPr b="0" lang="uk-UA" sz="18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ДВНЗ УНІВЕРСИТЕТ МЕНЕДЖМЕНТУ ОСВІТИ НАПН УКРАЇНИ ЛАБОРАТОРІЯ ХРИСТИЯНСЬКОЇ ПЕДАГОГІКИ ТА ПСИХОЛОГІЇ</a:t>
            </a:r>
            <a:br>
              <a:rPr sz="1800"/>
            </a:br>
            <a:r>
              <a:rPr b="0" lang="uk-UA" sz="16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 ІНСТИТУТ ГЕНЕЗИ ЖИТТЯ І ВСЕСВІТ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000" y="1428480"/>
            <a:ext cx="903600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ро співпрацю лабораторії християнської педагогіки та психології 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Інститутом генези життя і Всесві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bacc6"/>
                </a:solidFill>
                <a:latin typeface="Times New Roman"/>
                <a:ea typeface="Times New Roman"/>
              </a:rPr>
              <a:t>Сіданіч І.Л., д.п.н, професор кафедри педагогі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bacc6"/>
                </a:solidFill>
                <a:latin typeface="Times New Roman"/>
                <a:ea typeface="Times New Roman"/>
              </a:rPr>
              <a:t> </a:t>
            </a:r>
            <a:r>
              <a:rPr b="0" i="1" lang="uk-UA" sz="2400" spc="-1" strike="noStrike">
                <a:solidFill>
                  <a:srgbClr val="4bacc6"/>
                </a:solidFill>
                <a:latin typeface="Times New Roman"/>
                <a:ea typeface="Times New Roman"/>
              </a:rPr>
              <a:t>управління та адмініструв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Київ – 21 березня 2017 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Науково-організаційний напр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"/>
          <p:cNvPicPr/>
          <p:nvPr/>
        </p:nvPicPr>
        <p:blipFill>
          <a:blip r:embed="rId1"/>
          <a:stretch/>
        </p:blipFill>
        <p:spPr>
          <a:xfrm>
            <a:off x="444600" y="1200240"/>
            <a:ext cx="825480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Освітній напр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"/>
          <p:cNvPicPr/>
          <p:nvPr/>
        </p:nvPicPr>
        <p:blipFill>
          <a:blip r:embed="rId1"/>
          <a:stretch/>
        </p:blipFill>
        <p:spPr>
          <a:xfrm>
            <a:off x="444600" y="1200240"/>
            <a:ext cx="825480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34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Науково-методичний напря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4" descr=""/>
          <p:cNvPicPr/>
          <p:nvPr/>
        </p:nvPicPr>
        <p:blipFill>
          <a:blip r:embed="rId1"/>
          <a:stretch/>
        </p:blipFill>
        <p:spPr>
          <a:xfrm>
            <a:off x="444600" y="1200240"/>
            <a:ext cx="8254800" cy="339552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3059280" y="6271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Розробленн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Результати співпраці (за напрямами</a:t>
            </a:r>
            <a:r>
              <a:rPr b="0" lang="ru-RU" sz="28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699840"/>
            <a:ext cx="90360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Calibri"/>
              </a:rPr>
              <a:t>      </a:t>
            </a:r>
            <a:r>
              <a:rPr b="0" lang="uk-UA" sz="1400" spc="-1" strike="noStrike">
                <a:solidFill>
                  <a:srgbClr val="7030a0"/>
                </a:solidFill>
                <a:latin typeface="Calibri"/>
              </a:rPr>
              <a:t>У зв’язку з відзначенням в Україні 500-річчя Реформації відповідно до Указу Президента України № 357/2016 від 26.08.2016 р. «Про відзначення в Україні 500-річчя Реформації», розпорядження Кабінету Міністрів України від 07 грудня 2016 року № 935-р «Про затвердження плану заходів з підготовки та відзначення в Україні 500-річчя Реформації», листа Міністерства освіти і науки України від 23.02.2017 р. № 1/9-100 «Щодо відзначення в Україні 500-річчя Реформації» проведено 5 регіональних конференцій (Київ, Київська обл., Черкаси, Рівно, Рівненська обл., Полтава) – попереду 10 конференці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      </a:t>
            </a: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Громадська рада з питань співпраці з Церквами та релігійними організаціями при МОН України (Наказ МОН від 941 від 20.10.2008). Мета: сприяння всебічному забезпеченню свободи совісті та подальшої гармонізації державно-конфесійних відносин в галузі освіти, підтримання постійного діалогу із Церквами та релігійними організаціями, більш ефективного використання їхнього потенціалу у виховному процесі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          </a:t>
            </a: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Указ Президента України «Про Стратегію національно-патріотичного виховання дітей та молоді на 2016 - 2020 роки» від 13.10.2015 № 580 основними складовими національно-патріотичного виховання мають стати громадянсько-патріотичне, військово-патріотичне, духовно-моральне виховання; брак духовності і моральності у суспільстві як одна з актуальних проблем; збереження та розвиток духовно-моральних цінностей Українського народу – одна з основ національно-патріотичного вихованн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впровадження навчальних дисциплін духовно-морального спрямування як основа формування особистості та підґрунтя для національно-патріотичного виховання (як один з напрямків реалізації Стратегії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50400"/>
            <a:ext cx="9144000" cy="114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Перспективи розвитку науково-освітньої співпраці Лабораторії та Інститут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8000" y="1200240"/>
            <a:ext cx="897408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Calibri"/>
              </a:rPr>
              <a:t>пов’язуємо з розробленням, експериментальною апробацією та впровадженням в освітній процес ННІМП УМО науково-методичного комплексу для підготовки магістрів спеціальності «Науки про освіту» (спеціалізація «Християнська педагогіка у вищій школі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2040" y="-360"/>
            <a:ext cx="862488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Про </a:t>
            </a:r>
            <a:r>
              <a:rPr b="0" lang="uk-UA" sz="18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співпрацю лабораторії християнської педагогіки та психології з </a:t>
            </a:r>
            <a:br>
              <a:rPr sz="1800"/>
            </a:br>
            <a:r>
              <a:rPr b="0" lang="uk-UA" sz="18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Інститутом генези життя і Всесвіту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699840"/>
            <a:ext cx="9036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     </a:t>
            </a:r>
            <a:r>
              <a:rPr b="0" lang="uk-UA" sz="1800" spc="-1" strike="noStrike">
                <a:solidFill>
                  <a:srgbClr val="4f81bd"/>
                </a:solidFill>
                <a:latin typeface="Microsoft YaHei UI"/>
                <a:ea typeface="Microsoft YaHei UI"/>
              </a:rPr>
              <a:t>Лабораторія «Християнської педагогіки та психології» створена в 2016 р. на базі Лабораторії «Супервізії професійного розвитку, організації виховної роботи та студентського самоврядування» відповідно до наказу ректору ДВНЗ «УМО» НАПН України від 30.12.2015 № 01-01/527 «Про закриття лабораторій НДІ ДВНЗ «УМО» НАПН України і відкриття лабораторій на громадських засадах» та наказу голови Ради ректорів (директорів) УВУПО від 05.01.2016 № 01-н «Про відкриття лабораторій на громадських засадах». Наступність тематики НДР лабораторій збережено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f81bd"/>
                </a:solidFill>
                <a:latin typeface="Microsoft YaHei UI"/>
                <a:ea typeface="Microsoft YaHei UI"/>
              </a:rPr>
              <a:t>      </a:t>
            </a:r>
            <a:r>
              <a:rPr b="0" lang="uk-UA" sz="1800" spc="-1" strike="noStrike">
                <a:solidFill>
                  <a:srgbClr val="7030a0"/>
                </a:solidFill>
                <a:latin typeface="Microsoft YaHei UI"/>
                <a:ea typeface="Microsoft YaHei UI"/>
              </a:rPr>
              <a:t>В умовах появи нових типів навчальних закладів, створених релігійними громадами відповідно Закону України від 02.07.2015 р. № 498-</a:t>
            </a:r>
            <a:r>
              <a:rPr b="0" lang="en-US" sz="1800" spc="-1" strike="noStrike">
                <a:solidFill>
                  <a:srgbClr val="7030a0"/>
                </a:solidFill>
                <a:latin typeface="Microsoft YaHei UI"/>
                <a:ea typeface="Microsoft YaHei UI"/>
              </a:rPr>
              <a:t>VIII «</a:t>
            </a:r>
            <a:r>
              <a:rPr b="0" lang="uk-UA" sz="1800" spc="-1" strike="noStrike">
                <a:solidFill>
                  <a:srgbClr val="7030a0"/>
                </a:solidFill>
                <a:latin typeface="Microsoft YaHei UI"/>
                <a:ea typeface="Microsoft YaHei UI"/>
              </a:rPr>
              <a:t>Про внесення змін до деяких законів України щодо заснування релігійними організаціями навчальних закладів» виникла необхідність взаємодії працівників їхніх закладів з педагогічними працівниками державних закладів освіти, які володіють досвідом організації педагогічної діяльності на засадах духовно-моральних цінностей – як наслідок -необхідність появи термінів і розроблення педагогічних і психологічних засад  розвитку християнської педагогі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Співпраця лабораторії християнської педагогіки та психології з Інститутом генези життя і Всесві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"/>
          <p:cNvPicPr/>
          <p:nvPr/>
        </p:nvPicPr>
        <p:blipFill>
          <a:blip r:embed="rId1"/>
          <a:stretch/>
        </p:blipFill>
        <p:spPr>
          <a:xfrm>
            <a:off x="444600" y="1170000"/>
            <a:ext cx="82612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205920"/>
            <a:ext cx="8435880" cy="49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Мета співпраці лабораторії християнської педагогіки та психології з Інститутом генези життя і Всесвіту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0070c0"/>
                </a:solidFill>
                <a:latin typeface="Microsoft YaHei UI"/>
                <a:ea typeface="Microsoft YaHei UI"/>
              </a:rPr>
              <a:t>- дослідження психолого-педагогічних засад формування особистості на християнських цінностях,  розробка та впровадження спільних проектів наукових досліджень у галузі християнської педагогіки, підготовка фахівців у галузі християнської педагогіки вищої школи</a:t>
            </a:r>
            <a:r>
              <a:rPr b="0" lang="ru-RU" sz="2000" spc="-1" strike="noStrike">
                <a:solidFill>
                  <a:srgbClr val="0070c0"/>
                </a:solidFill>
                <a:latin typeface="Microsoft YaHei UI"/>
                <a:ea typeface="Microsoft YaHei UI"/>
              </a:rPr>
              <a:t>,</a:t>
            </a:r>
            <a:r>
              <a:rPr b="0" lang="uk-UA" sz="2000" spc="-1" strike="noStrike">
                <a:solidFill>
                  <a:srgbClr val="0070c0"/>
                </a:solidFill>
                <a:latin typeface="Microsoft YaHei UI"/>
                <a:ea typeface="Microsoft YaHei UI"/>
              </a:rPr>
              <a:t> підтримка на державному рівні співпраці закладів освіти й релігійних освітніх громад.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Завдання співпраці лабораторії християнської педагогіки та психології з Інститутом генези життя і Всесві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"/>
          <p:cNvPicPr/>
          <p:nvPr/>
        </p:nvPicPr>
        <p:blipFill>
          <a:blip r:embed="rId1"/>
          <a:stretch/>
        </p:blipFill>
        <p:spPr>
          <a:xfrm>
            <a:off x="371520" y="1200240"/>
            <a:ext cx="835812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08000" y="205920"/>
            <a:ext cx="879480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Форми співпраці лабораторії християнської педагогіки та психології з</a:t>
            </a:r>
            <a:br>
              <a:rPr sz="1800"/>
            </a:br>
            <a:r>
              <a:rPr b="0" lang="uk-UA" sz="18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 Інститутом генези життя і Всесві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771120"/>
            <a:ext cx="822960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bacc6"/>
                </a:solidFill>
                <a:latin typeface="Calibri"/>
              </a:rPr>
              <a:t>проведення міжнародних, всеукраїнських і регіональних науково-практичних конференцій, семінарів, форумів, наукових і науково-освітніх проектів та просвітницьких заході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bacc6"/>
                </a:solidFill>
                <a:latin typeface="Calibri"/>
              </a:rPr>
              <a:t>залучення фахівців Інституту для проведення семінарів і тренінгів для студентів магістратури УМО, а також для слухачів курсів підвищення кваліфікації вчителів предметів духовно-морального спрямування ЦІППО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bacc6"/>
                </a:solidFill>
                <a:latin typeface="Calibri"/>
              </a:rPr>
              <a:t>проведення зустрічей викладачів, вчених, керівників УМО та Інституту з метою обміну досвідом підготовки фахівців у галузі християнської педагогіки; сприяння організації та вдосконаленню практичної підготовки студенті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bacc6"/>
                </a:solidFill>
                <a:latin typeface="Calibri"/>
              </a:rPr>
              <a:t>організація стажування викладачів, наукових співробітників Інституту на базі </a:t>
            </a:r>
            <a:r>
              <a:rPr b="0" lang="ru-RU" sz="1800" spc="-1" strike="noStrike">
                <a:solidFill>
                  <a:srgbClr val="4bacc6"/>
                </a:solidFill>
                <a:latin typeface="Calibri"/>
              </a:rPr>
              <a:t>УМ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Напрями співпраці лабораторії християнської педагогіки та психології з Інститутом генези життя і Всесві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401760" y="1195560"/>
            <a:ext cx="8297640" cy="34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79646"/>
                </a:solidFill>
                <a:latin typeface="Calibri"/>
              </a:rPr>
              <a:t>Науково-освітня співпраця </a:t>
            </a:r>
            <a:br>
              <a:rPr sz="1800"/>
            </a:br>
            <a:r>
              <a:rPr b="0" lang="uk-UA" sz="1800" spc="-1" strike="noStrike">
                <a:solidFill>
                  <a:srgbClr val="f79646"/>
                </a:solidFill>
                <a:latin typeface="Calibri"/>
              </a:rPr>
              <a:t>Лабораторії християнської педагогіки та психології УВУПО з </a:t>
            </a:r>
            <a:br>
              <a:rPr sz="1800"/>
            </a:br>
            <a:r>
              <a:rPr b="0" lang="uk-UA" sz="1800" spc="-1" strike="noStrike">
                <a:solidFill>
                  <a:srgbClr val="f79646"/>
                </a:solidFill>
                <a:latin typeface="Calibri"/>
              </a:rPr>
              <a:t>Інститутом генези життя і Всесвіт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230120"/>
            <a:ext cx="8686800" cy="39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064a2"/>
                </a:solidFill>
                <a:latin typeface="Calibri"/>
              </a:rPr>
              <a:t>визначення пріоритетних напрямів спільної діяльності (наукова, освітня, організаційна, методична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064a2"/>
                </a:solidFill>
                <a:latin typeface="Calibri"/>
              </a:rPr>
              <a:t>започаткування спільних проектів і наукових досліджень у галузі християнської педагогік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064a2"/>
                </a:solidFill>
                <a:latin typeface="Calibri"/>
              </a:rPr>
              <a:t>розроблення стандарту підготовки фахівців у галузі християнської педагогіки у вищій школі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064a2"/>
                </a:solidFill>
                <a:latin typeface="Calibri"/>
              </a:rPr>
              <a:t>організація спільних експериментальних науково-методичних і педагогічних майданчикі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064a2"/>
                </a:solidFill>
                <a:latin typeface="Calibri"/>
              </a:rPr>
              <a:t>впровадження наукових та науково-методичних розробок лабораторії та Інституту в практику підготовки майбутніх фахівців з християнської педагогіки</a:t>
            </a:r>
            <a:r>
              <a:rPr b="0" lang="ru-RU" sz="1800" spc="-1" strike="noStrike">
                <a:solidFill>
                  <a:srgbClr val="8064a2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Умови співпраці лабораторії християнської педагогіки і психології з </a:t>
            </a:r>
            <a:br>
              <a:rPr sz="1800"/>
            </a:br>
            <a:r>
              <a:rPr b="0" lang="uk-UA" sz="1800" spc="-1" strike="noStrike">
                <a:solidFill>
                  <a:srgbClr val="f79646"/>
                </a:solidFill>
                <a:latin typeface="Microsoft YaHei UI"/>
                <a:ea typeface="Microsoft YaHei UI"/>
              </a:rPr>
              <a:t>Інститутом генези життя і Всесві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Microsoft YaHei UI"/>
                <a:ea typeface="Microsoft YaHei UI"/>
              </a:rPr>
              <a:t>підписання угоди про співпрацю у програмі підготовки магістрів спеціальності «Науки про освіту» (спеціалізація «Християнська педагогіка у вищій школі»), де перевага надається практичній підготовці, розвитку загальних та формуванню професійних компетентносте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Microsoft YaHei UI"/>
                <a:ea typeface="Microsoft YaHei UI"/>
              </a:rPr>
              <a:t>започаткування виконання теми НДР «Психолого-педагогічні засади підготовки магістрів спеціальності «Науки про освіту» спеціалізація «Християнська педагогіка у вищій школі» (2017 – 2020 рр. виконання</a:t>
            </a:r>
            <a:r>
              <a:rPr b="0" lang="ru-RU" sz="1800" spc="-1" strike="noStrike">
                <a:solidFill>
                  <a:srgbClr val="7030a0"/>
                </a:solidFill>
                <a:latin typeface="Microsoft YaHei UI"/>
                <a:ea typeface="Microsoft YaHei U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7T12:08:30Z</dcterms:created>
  <dc:creator>IRONMANN (AKA SHAMAN)</dc:creator>
  <dc:description/>
  <dc:language>en-US</dc:language>
  <cp:lastModifiedBy>tana</cp:lastModifiedBy>
  <dcterms:modified xsi:type="dcterms:W3CDTF">2017-03-22T17:43:32Z</dcterms:modified>
  <cp:revision>103</cp:revision>
  <dc:subject/>
  <dc:title>Український відкритий університет післядипломної освіти лабораторія християнської педагогіки та психології</dc:title>
</cp:coreProperties>
</file>