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1240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96560" y="121932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2824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81240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96560" y="3806280"/>
            <a:ext cx="255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084040" y="177480"/>
            <a:ext cx="690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96240" y="380628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96240" y="1219320"/>
            <a:ext cx="3873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28240" y="3806280"/>
            <a:ext cx="7939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3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70"/>
          <p:cNvSpPr/>
          <p:nvPr/>
        </p:nvSpPr>
        <p:spPr>
          <a:xfrm>
            <a:off x="-12600" y="-144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c4b22"/>
              </a:gs>
              <a:gs pos="50000">
                <a:srgbClr val="ccb374"/>
              </a:gs>
              <a:gs pos="100000">
                <a:srgbClr val="5c4b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274"/>
          <p:cNvGrpSpPr/>
          <p:nvPr/>
        </p:nvGrpSpPr>
        <p:grpSpPr>
          <a:xfrm>
            <a:off x="317520" y="-14400"/>
            <a:ext cx="8826480" cy="6877080"/>
            <a:chOff x="317520" y="-14400"/>
            <a:chExt cx="8826480" cy="6877080"/>
          </a:xfrm>
        </p:grpSpPr>
        <p:sp>
          <p:nvSpPr>
            <p:cNvPr id="2" name="Rectangle 267"/>
            <p:cNvSpPr/>
            <p:nvPr/>
          </p:nvSpPr>
          <p:spPr>
            <a:xfrm>
              <a:off x="3962520" y="-12600"/>
              <a:ext cx="5181480" cy="687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272"/>
            <p:cNvSpPr/>
            <p:nvPr/>
          </p:nvSpPr>
          <p:spPr>
            <a:xfrm>
              <a:off x="317520" y="-14400"/>
              <a:ext cx="6858000" cy="6877080"/>
            </a:xfrm>
            <a:prstGeom prst="octagon">
              <a:avLst>
                <a:gd name="adj" fmla="val 3076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803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grpSp>
        <p:nvGrpSpPr>
          <p:cNvPr id="6" name="Group 291"/>
          <p:cNvGrpSpPr/>
          <p:nvPr/>
        </p:nvGrpSpPr>
        <p:grpSpPr>
          <a:xfrm>
            <a:off x="-4680" y="177840"/>
            <a:ext cx="1191960" cy="480960"/>
            <a:chOff x="-4680" y="177840"/>
            <a:chExt cx="1191960" cy="480960"/>
          </a:xfrm>
        </p:grpSpPr>
        <p:grpSp>
          <p:nvGrpSpPr>
            <p:cNvPr id="7" name="Group 284"/>
            <p:cNvGrpSpPr/>
            <p:nvPr/>
          </p:nvGrpSpPr>
          <p:grpSpPr>
            <a:xfrm>
              <a:off x="431640" y="177840"/>
              <a:ext cx="755640" cy="469800"/>
              <a:chOff x="431640" y="177840"/>
              <a:chExt cx="755640" cy="469800"/>
            </a:xfrm>
          </p:grpSpPr>
          <p:sp>
            <p:nvSpPr>
              <p:cNvPr id="8" name="AutoShape 276"/>
              <p:cNvSpPr/>
              <p:nvPr/>
            </p:nvSpPr>
            <p:spPr>
              <a:xfrm>
                <a:off x="511920" y="190800"/>
                <a:ext cx="675360" cy="451800"/>
              </a:xfrm>
              <a:custGeom>
                <a:avLst/>
                <a:gdLst>
                  <a:gd name="textAreaLeft" fmla="*/ 0 w 675360"/>
                  <a:gd name="textAreaRight" fmla="*/ 675720 w 675360"/>
                  <a:gd name="textAreaTop" fmla="*/ 0 h 451800"/>
                  <a:gd name="textAreaBottom" fmla="*/ 452160 h 45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174" y="0"/>
                    </a:lnTo>
                    <a:lnTo>
                      <a:pt x="21600" y="10800"/>
                    </a:lnTo>
                    <a:lnTo>
                      <a:pt x="16174" y="21600"/>
                    </a:lnTo>
                    <a:lnTo>
                      <a:pt x="0" y="21600"/>
                    </a:lnTo>
                    <a:lnTo>
                      <a:pt x="5426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AutoShape 277"/>
              <p:cNvSpPr/>
              <p:nvPr/>
            </p:nvSpPr>
            <p:spPr>
              <a:xfrm>
                <a:off x="431640" y="177840"/>
                <a:ext cx="675000" cy="46980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469800"/>
                  <a:gd name="textAreaBottom" fmla="*/ 470160 h 46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543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283"/>
            <p:cNvGrpSpPr/>
            <p:nvPr/>
          </p:nvGrpSpPr>
          <p:grpSpPr>
            <a:xfrm>
              <a:off x="216000" y="177840"/>
              <a:ext cx="755640" cy="468360"/>
              <a:chOff x="216000" y="177840"/>
              <a:chExt cx="755640" cy="468360"/>
            </a:xfrm>
          </p:grpSpPr>
          <p:sp>
            <p:nvSpPr>
              <p:cNvPr id="11" name="AutoShape 280"/>
              <p:cNvSpPr/>
              <p:nvPr/>
            </p:nvSpPr>
            <p:spPr>
              <a:xfrm>
                <a:off x="296280" y="182160"/>
                <a:ext cx="675360" cy="450720"/>
              </a:xfrm>
              <a:custGeom>
                <a:avLst/>
                <a:gdLst>
                  <a:gd name="textAreaLeft" fmla="*/ 0 w 675360"/>
                  <a:gd name="textAreaRight" fmla="*/ 675720 w 67536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187" y="0"/>
                    </a:lnTo>
                    <a:lnTo>
                      <a:pt x="21600" y="10800"/>
                    </a:lnTo>
                    <a:lnTo>
                      <a:pt x="16187" y="21600"/>
                    </a:lnTo>
                    <a:lnTo>
                      <a:pt x="0" y="21600"/>
                    </a:lnTo>
                    <a:lnTo>
                      <a:pt x="541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AutoShape 281"/>
              <p:cNvSpPr/>
              <p:nvPr/>
            </p:nvSpPr>
            <p:spPr>
              <a:xfrm>
                <a:off x="216000" y="177840"/>
                <a:ext cx="675000" cy="46836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543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288"/>
            <p:cNvGrpSpPr/>
            <p:nvPr/>
          </p:nvGrpSpPr>
          <p:grpSpPr>
            <a:xfrm>
              <a:off x="-4680" y="190440"/>
              <a:ext cx="755640" cy="468360"/>
              <a:chOff x="-4680" y="190440"/>
              <a:chExt cx="755640" cy="468360"/>
            </a:xfrm>
          </p:grpSpPr>
          <p:sp>
            <p:nvSpPr>
              <p:cNvPr id="14" name="AutoShape 289"/>
              <p:cNvSpPr/>
              <p:nvPr/>
            </p:nvSpPr>
            <p:spPr>
              <a:xfrm>
                <a:off x="75600" y="194760"/>
                <a:ext cx="675360" cy="450720"/>
              </a:xfrm>
              <a:custGeom>
                <a:avLst/>
                <a:gdLst>
                  <a:gd name="textAreaLeft" fmla="*/ 0 w 675360"/>
                  <a:gd name="textAreaRight" fmla="*/ 675720 w 67536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187" y="0"/>
                    </a:lnTo>
                    <a:lnTo>
                      <a:pt x="21600" y="10800"/>
                    </a:lnTo>
                    <a:lnTo>
                      <a:pt x="16187" y="21600"/>
                    </a:lnTo>
                    <a:lnTo>
                      <a:pt x="0" y="21600"/>
                    </a:lnTo>
                    <a:lnTo>
                      <a:pt x="541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AutoShape 290"/>
              <p:cNvSpPr/>
              <p:nvPr/>
            </p:nvSpPr>
            <p:spPr>
              <a:xfrm>
                <a:off x="-4680" y="190440"/>
                <a:ext cx="675000" cy="468360"/>
              </a:xfrm>
              <a:custGeom>
                <a:avLst/>
                <a:gdLst>
                  <a:gd name="textAreaLeft" fmla="*/ 0 w 675000"/>
                  <a:gd name="textAreaRight" fmla="*/ 675360 w 6750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543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" name="Group 297"/>
          <p:cNvGrpSpPr/>
          <p:nvPr/>
        </p:nvGrpSpPr>
        <p:grpSpPr>
          <a:xfrm>
            <a:off x="431640" y="5013360"/>
            <a:ext cx="1766520" cy="1514160"/>
            <a:chOff x="431640" y="5013360"/>
            <a:chExt cx="1766520" cy="1514160"/>
          </a:xfrm>
        </p:grpSpPr>
        <p:sp>
          <p:nvSpPr>
            <p:cNvPr id="17" name="AutoShape 298"/>
            <p:cNvSpPr/>
            <p:nvPr/>
          </p:nvSpPr>
          <p:spPr>
            <a:xfrm>
              <a:off x="431640" y="5013360"/>
              <a:ext cx="1004760" cy="8010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299"/>
            <p:cNvSpPr/>
            <p:nvPr/>
          </p:nvSpPr>
          <p:spPr>
            <a:xfrm>
              <a:off x="431640" y="5726520"/>
              <a:ext cx="1004760" cy="8010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300"/>
            <p:cNvSpPr/>
            <p:nvPr/>
          </p:nvSpPr>
          <p:spPr>
            <a:xfrm>
              <a:off x="1193400" y="5191200"/>
              <a:ext cx="1004760" cy="80388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d1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714"/>
          <p:cNvSpPr/>
          <p:nvPr/>
        </p:nvSpPr>
        <p:spPr>
          <a:xfrm>
            <a:off x="145908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18472f"/>
              </a:gs>
              <a:gs pos="50000">
                <a:srgbClr val="339966"/>
              </a:gs>
              <a:gs pos="100000">
                <a:srgbClr val="184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713"/>
          <p:cNvSpPr/>
          <p:nvPr/>
        </p:nvSpPr>
        <p:spPr>
          <a:xfrm>
            <a:off x="87156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561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556"/>
          <p:cNvSpPr/>
          <p:nvPr/>
        </p:nvSpPr>
        <p:spPr>
          <a:xfrm>
            <a:off x="685800" y="0"/>
            <a:ext cx="6858000" cy="6858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c4b22"/>
              </a:gs>
              <a:gs pos="50000">
                <a:srgbClr val="ccb374"/>
              </a:gs>
              <a:gs pos="100000">
                <a:srgbClr val="5c4b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557"/>
          <p:cNvSpPr/>
          <p:nvPr/>
        </p:nvSpPr>
        <p:spPr>
          <a:xfrm>
            <a:off x="0" y="0"/>
            <a:ext cx="6858000" cy="68580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60"/>
          <p:cNvSpPr/>
          <p:nvPr/>
        </p:nvSpPr>
        <p:spPr>
          <a:xfrm>
            <a:off x="533520" y="15238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d8039"/>
                </a:solidFill>
                <a:latin typeface="Verdana"/>
                <a:ea typeface="굴림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667"/>
          <p:cNvSpPr/>
          <p:nvPr/>
        </p:nvSpPr>
        <p:spPr>
          <a:xfrm>
            <a:off x="5842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669"/>
          <p:cNvSpPr/>
          <p:nvPr/>
        </p:nvSpPr>
        <p:spPr>
          <a:xfrm>
            <a:off x="106992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670"/>
          <p:cNvSpPr/>
          <p:nvPr/>
        </p:nvSpPr>
        <p:spPr>
          <a:xfrm>
            <a:off x="153360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671"/>
          <p:cNvSpPr/>
          <p:nvPr/>
        </p:nvSpPr>
        <p:spPr>
          <a:xfrm>
            <a:off x="20192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672"/>
          <p:cNvSpPr/>
          <p:nvPr/>
        </p:nvSpPr>
        <p:spPr>
          <a:xfrm>
            <a:off x="24940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673"/>
          <p:cNvSpPr/>
          <p:nvPr/>
        </p:nvSpPr>
        <p:spPr>
          <a:xfrm>
            <a:off x="2990880" y="1905120"/>
            <a:ext cx="19512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674"/>
          <p:cNvSpPr/>
          <p:nvPr/>
        </p:nvSpPr>
        <p:spPr>
          <a:xfrm>
            <a:off x="346536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675"/>
          <p:cNvSpPr/>
          <p:nvPr/>
        </p:nvSpPr>
        <p:spPr>
          <a:xfrm>
            <a:off x="39146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705"/>
          <p:cNvSpPr/>
          <p:nvPr/>
        </p:nvSpPr>
        <p:spPr>
          <a:xfrm>
            <a:off x="431784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706"/>
          <p:cNvSpPr/>
          <p:nvPr/>
        </p:nvSpPr>
        <p:spPr>
          <a:xfrm>
            <a:off x="47322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e5d093"/>
              </a:gs>
              <a:gs pos="100000">
                <a:srgbClr val="6a6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707"/>
          <p:cNvSpPr/>
          <p:nvPr/>
        </p:nvSpPr>
        <p:spPr>
          <a:xfrm>
            <a:off x="5189400" y="1905120"/>
            <a:ext cx="195480" cy="195120"/>
          </a:xfrm>
          <a:prstGeom prst="ellipse">
            <a:avLst/>
          </a:prstGeom>
          <a:gradFill rotWithShape="0">
            <a:gsLst>
              <a:gs pos="0">
                <a:srgbClr val="ccb374"/>
              </a:gs>
              <a:gs pos="100000">
                <a:srgbClr val="5e533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728"/>
          <p:cNvGrpSpPr/>
          <p:nvPr/>
        </p:nvGrpSpPr>
        <p:grpSpPr>
          <a:xfrm>
            <a:off x="6362640" y="3994200"/>
            <a:ext cx="2792160" cy="2689200"/>
            <a:chOff x="6362640" y="3994200"/>
            <a:chExt cx="2792160" cy="2689200"/>
          </a:xfrm>
        </p:grpSpPr>
        <p:sp>
          <p:nvSpPr>
            <p:cNvPr id="74" name="AutoShape 2729"/>
            <p:cNvSpPr/>
            <p:nvPr/>
          </p:nvSpPr>
          <p:spPr>
            <a:xfrm>
              <a:off x="6362640" y="3994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2730"/>
            <p:cNvSpPr/>
            <p:nvPr/>
          </p:nvSpPr>
          <p:spPr>
            <a:xfrm>
              <a:off x="6362640" y="512136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731"/>
            <p:cNvSpPr/>
            <p:nvPr/>
          </p:nvSpPr>
          <p:spPr>
            <a:xfrm>
              <a:off x="7567200" y="4274640"/>
              <a:ext cx="1587600" cy="126792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732"/>
            <p:cNvSpPr/>
            <p:nvPr/>
          </p:nvSpPr>
          <p:spPr>
            <a:xfrm>
              <a:off x="7567200" y="5416200"/>
              <a:ext cx="1587600" cy="1267200"/>
            </a:xfrm>
            <a:prstGeom prst="octagon">
              <a:avLst>
                <a:gd name="adj" fmla="val 29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803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43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e5d09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www.wondershar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28600" y="177840"/>
            <a:ext cx="7863120" cy="37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543d18"/>
                </a:solidFill>
                <a:latin typeface="Verdana"/>
              </a:rPr>
              <a:t>ПРО ОРГАНІЗАЦІЮ РОБОТИ </a:t>
            </a:r>
            <a:br>
              <a:rPr sz="2800"/>
            </a:br>
            <a:r>
              <a:rPr b="1" lang="uk-UA" sz="2800" spc="-1" strike="noStrike">
                <a:solidFill>
                  <a:srgbClr val="543d18"/>
                </a:solidFill>
                <a:latin typeface="Verdana"/>
              </a:rPr>
              <a:t>З ВИКОНАННЯ </a:t>
            </a:r>
            <a:br>
              <a:rPr sz="2800"/>
            </a:br>
            <a:r>
              <a:rPr b="1" lang="uk-UA" sz="2800" spc="-1" strike="noStrike">
                <a:solidFill>
                  <a:srgbClr val="543d18"/>
                </a:solidFill>
                <a:latin typeface="Verdana"/>
              </a:rPr>
              <a:t>ПЛАНУ ЗАХОДІВ УВУПО </a:t>
            </a:r>
            <a:br>
              <a:rPr sz="2800"/>
            </a:br>
            <a:r>
              <a:rPr b="1" lang="uk-UA" sz="2800" spc="-1" strike="noStrike">
                <a:solidFill>
                  <a:srgbClr val="543d18"/>
                </a:solidFill>
                <a:latin typeface="Verdana"/>
              </a:rPr>
              <a:t>на 2016-2017 рр.</a:t>
            </a:r>
            <a:endParaRPr b="1" lang="en-US" sz="28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28240" y="4214520"/>
            <a:ext cx="79390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Олійник В.В. –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олова Ради ректорів (директорів) УВУПО, доктор педагогічних наук, професор, дійсний член НАПН України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177480"/>
            <a:ext cx="81648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 algn="ctr">
              <a:buClr>
                <a:srgbClr val="543d18"/>
              </a:buClr>
              <a:buFont typeface="Verdan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43d18"/>
                </a:solidFill>
                <a:latin typeface="Verdana"/>
              </a:rPr>
              <a:t>Організовано й проведено </a:t>
            </a:r>
            <a:br>
              <a:rPr sz="2600"/>
            </a:br>
            <a:r>
              <a:rPr b="1" lang="uk-UA" sz="2600" spc="-1" strike="noStrike">
                <a:solidFill>
                  <a:srgbClr val="543d18"/>
                </a:solidFill>
                <a:latin typeface="Verdana"/>
              </a:rPr>
              <a:t>2 українсько-польських Форуми </a:t>
            </a:r>
            <a:br>
              <a:rPr sz="2600"/>
            </a:br>
            <a:r>
              <a:rPr b="1" lang="uk-UA" sz="2600" spc="-1" strike="noStrike">
                <a:solidFill>
                  <a:srgbClr val="543d18"/>
                </a:solidFill>
                <a:latin typeface="Verdana"/>
              </a:rPr>
              <a:t>у рамках проекту </a:t>
            </a:r>
            <a:br>
              <a:rPr sz="2600"/>
            </a:br>
            <a:r>
              <a:rPr b="1" lang="uk-UA" sz="2600" spc="-1" strike="noStrike">
                <a:solidFill>
                  <a:srgbClr val="543d18"/>
                </a:solidFill>
                <a:latin typeface="Verdana"/>
              </a:rPr>
              <a:t>“Відкрита Польща”</a:t>
            </a:r>
            <a:br>
              <a:rPr sz="2600"/>
            </a:br>
            <a:r>
              <a:rPr b="1" lang="uk-UA" sz="2600" spc="-1" strike="noStrike">
                <a:solidFill>
                  <a:srgbClr val="543d1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28240" y="2133720"/>
            <a:ext cx="79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івпраця українських та польських загальноосвітніх навчальних закладів у рамках проектів, дофінансованих з програм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zmus+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(24-25 лютого, Волинський ОІППО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Інноваційні проекти у новій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українській школі” 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(19 – 23 вересня, Одеський ОІУУ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28600" y="1219320"/>
            <a:ext cx="78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1001"/>
              </a:spcBef>
              <a:buClr>
                <a:srgbClr val="009999"/>
              </a:buClr>
              <a:buSzPct val="120000"/>
              <a:buFont typeface="Verdana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Результати проведених заходів  оприлюднено у педагогічній пресі та на сайтах закладів післядипломної освіти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ОН України та НАПН Україн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st_Oliynyk"/>
          <p:cNvPicPr/>
          <p:nvPr/>
        </p:nvPicPr>
        <p:blipFill>
          <a:blip r:embed="rId1"/>
          <a:stretch/>
        </p:blipFill>
        <p:spPr>
          <a:xfrm>
            <a:off x="-3281400" y="-2004840"/>
            <a:ext cx="15706800" cy="108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st_Otich"/>
          <p:cNvPicPr/>
          <p:nvPr/>
        </p:nvPicPr>
        <p:blipFill>
          <a:blip r:embed="rId1"/>
          <a:stretch/>
        </p:blipFill>
        <p:spPr>
          <a:xfrm>
            <a:off x="-3452760" y="-2124000"/>
            <a:ext cx="16049520" cy="1110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st_Naumenko"/>
          <p:cNvPicPr/>
          <p:nvPr/>
        </p:nvPicPr>
        <p:blipFill>
          <a:blip r:embed="rId1"/>
          <a:stretch/>
        </p:blipFill>
        <p:spPr>
          <a:xfrm>
            <a:off x="-3129120" y="-1914480"/>
            <a:ext cx="15402240" cy="106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st_Kirichenko"/>
          <p:cNvPicPr/>
          <p:nvPr/>
        </p:nvPicPr>
        <p:blipFill>
          <a:blip r:embed="rId1"/>
          <a:stretch/>
        </p:blipFill>
        <p:spPr>
          <a:xfrm>
            <a:off x="-3105000" y="-2219400"/>
            <a:ext cx="15354000" cy="11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5"/>
          <p:cNvSpPr txBox="1"/>
          <p:nvPr/>
        </p:nvSpPr>
        <p:spPr>
          <a:xfrm>
            <a:off x="468360" y="1844640"/>
            <a:ext cx="8404200" cy="25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9d803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якуємо за увагу!</a:t>
            </a:r>
            <a:endParaRPr b="0" lang="en-US" sz="1800" spc="1" strike="noStrike">
              <a:ln w="18360">
                <a:solidFill>
                  <a:srgbClr val="ffffff"/>
                </a:solidFill>
                <a:miter/>
              </a:ln>
              <a:solidFill>
                <a:srgbClr val="9d803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1071720" y="-352080"/>
            <a:ext cx="7748280" cy="72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ЕРДЖУЮ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Ради ректорів (директорі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ого відкрит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післядипломної осві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В. В. Олій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17» червня 2016 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ЗАХОД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ого відкритого університету післядипломної осві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української громадської організа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орціум закладів післядипломної осві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16  - 2017 р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 –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70040" y="469800"/>
            <a:ext cx="64184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СТРУКТУРА ПЛАНУ ЗАХОДІВ УВУП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на 2016 – 2017 рр.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3" descr="Логотип=УВУПО=круг"/>
          <p:cNvPicPr/>
          <p:nvPr/>
        </p:nvPicPr>
        <p:blipFill>
          <a:blip r:embed="rId1"/>
          <a:stretch/>
        </p:blipFill>
        <p:spPr>
          <a:xfrm>
            <a:off x="7900920" y="128520"/>
            <a:ext cx="1224000" cy="1062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258920" y="1413000"/>
            <a:ext cx="75801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ЕРСПЕКТИВНІ НАПРЯМИ ДІЯЛЬНОСТІ УВУ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ТЕМАТИЧНИЙ ПЛАН ЗАХОДІВ УВУПО на 2016 – 2017 р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ЛАН МАСОВИХ НАУКОВО-МЕТОДИЧНИХ ЗАХОДІВ УВУ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2016 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Голова Ради ректорів (директорів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Українського відкритого університет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іслядипломної освіти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–  академік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ОЛІЙНИК В.В.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тел.: 481-38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иконавчий директо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Українського відкритого університет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іслядипломної освіти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ОТИЧ О.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тел.: 481-38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650960" y="469800"/>
            <a:ext cx="6418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ТЕМАТИЧНИЙ ПЛАН ЗАХОДІВ УВУП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на 2016 – 2017 р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Логотип=УВУПО=круг"/>
          <p:cNvPicPr/>
          <p:nvPr/>
        </p:nvPicPr>
        <p:blipFill>
          <a:blip r:embed="rId1"/>
          <a:stretch/>
        </p:blipFill>
        <p:spPr>
          <a:xfrm>
            <a:off x="7900920" y="128520"/>
            <a:ext cx="122400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900000" y="1628640"/>
            <a:ext cx="792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09520" y="1670040"/>
          <a:ext cx="7566120" cy="3959280"/>
        </p:xfrm>
        <a:graphic>
          <a:graphicData uri="http://schemas.openxmlformats.org/drawingml/2006/table">
            <a:tbl>
              <a:tblPr/>
              <a:tblGrid>
                <a:gridCol w="725760"/>
                <a:gridCol w="2808000"/>
                <a:gridCol w="1944720"/>
                <a:gridCol w="2087640"/>
              </a:tblGrid>
              <a:tr h="915120"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зах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ін проведення, вико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, організатори, співорганізат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уков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уково-методичн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вчально-методичн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світня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рганізаційно-методичн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іжнародн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Інформаційно-видавнича діяль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gridSpan="4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Фінансово-господарська діяльність, зміцнення матеріально-технічної ба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884160" y="1773360"/>
            <a:ext cx="7777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58453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Ш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 РЕЗУЛЬТАТИ ВИКОНАННЯ ПЛАНУ ЗАХОДІВ УВУПО:</a:t>
            </a:r>
            <a:endParaRPr b="1" lang="en-US" sz="24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28240" y="1218960"/>
            <a:ext cx="79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99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ідкрито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лабораторій на громадських засадах з проблем розвитку післядипломної педагогічної освіти на базі УМО – 4 та СумОІППО –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творено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9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тимчасових творчих колективів та робочих груп з розроблення нормативно-законодавчого, науково-методичного  та навчально-методичного забезпечення діяльності закладів ППО на базі  УМО, Харківської та Херсонської АНО, Волинського, Донецького, Сумського ОІП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13" descr="Логотип=УВУПО=круг"/>
          <p:cNvPicPr/>
          <p:nvPr/>
        </p:nvPicPr>
        <p:blipFill>
          <a:blip r:embed="rId1"/>
          <a:stretch/>
        </p:blipFill>
        <p:spPr>
          <a:xfrm>
            <a:off x="7813800" y="1285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84040" y="177480"/>
            <a:ext cx="69073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Ш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 РЕЗУЛЬТАТИ ВИКОНАННЯ ПЛАНУ ЗАХОДІВ УВУПО:</a:t>
            </a:r>
            <a:endParaRPr b="1" lang="en-US" sz="24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28240" y="1219320"/>
            <a:ext cx="79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початковано спільний міжнародний проект з розроблення компетентностей для керівників навчальних закладів     (УМО, Одеський ОІУУ, КультурКонтакт (Австрія)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вершується проведення Всеукраїнського конкурсу на кращу науково-методичну розробку в системі ППО. Затверджено критерії оцінювання конкурсних робі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раховано до докторантури УМО на бюджетну форму навчання 1 докторанта із закладу післядипломної освіти – члена УВУП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639800" y="128520"/>
            <a:ext cx="641844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рганізовано й провед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4 Літні школи для науково-педагогічних працівників і молодих науковц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3" descr="Логотип=УВУПО=круг"/>
          <p:cNvPicPr/>
          <p:nvPr/>
        </p:nvPicPr>
        <p:blipFill>
          <a:blip r:embed="rId1"/>
          <a:stretch/>
        </p:blipFill>
        <p:spPr>
          <a:xfrm>
            <a:off x="7900920" y="128520"/>
            <a:ext cx="1224000" cy="106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1120680" y="1844640"/>
            <a:ext cx="73850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сеукраїнська літня школа молодих науковців </a:t>
            </a: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(15–20 червня, м. Херсон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 Міжнародна літня школа для педагогів “Розвиток академічної мобільності педагогічних, науково-педагогічних працівників та керівників навчальних закладів у європейському освітньому просторі” </a:t>
            </a: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(27 – 30 червня, м. Ужгород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іжнародна літня школа для керівників навчальних закладів у рамках Міжнародного фестивалю дитячої творчості «Золотий лелека» </a:t>
            </a: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(1–4 липня, с. Рибаківка Миколаївської обл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9d8039"/>
              </a:buClr>
              <a:buSzPct val="11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Літня школа для дорослих «Світ дитинства: збереження дитячої субкультури та якість освіти» </a:t>
            </a:r>
            <a:r>
              <a:rPr b="0" i="1" lang="uk-UA" sz="2000" spc="-1" strike="noStrike">
                <a:solidFill>
                  <a:srgbClr val="000000"/>
                </a:solidFill>
                <a:latin typeface="Verdana"/>
              </a:rPr>
              <a:t>(6–10 червня, м. Запоріжжя)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650960" y="469800"/>
            <a:ext cx="6418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SzPct val="11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ПРОВЕДЕН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відповідно до Плану заходів УВУПО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3" descr="Логотип=УВУПО=круг"/>
          <p:cNvPicPr/>
          <p:nvPr/>
        </p:nvPicPr>
        <p:blipFill>
          <a:blip r:embed="rId1"/>
          <a:stretch/>
        </p:blipFill>
        <p:spPr>
          <a:xfrm>
            <a:off x="7900920" y="128520"/>
            <a:ext cx="1224000" cy="1062000"/>
          </a:xfrm>
          <a:prstGeom prst="rect">
            <a:avLst/>
          </a:prstGeom>
          <a:ln w="0">
            <a:noFill/>
          </a:ln>
        </p:spPr>
      </p:pic>
      <p:sp>
        <p:nvSpPr>
          <p:cNvPr id="139" name="Объект 5"/>
          <p:cNvSpPr/>
          <p:nvPr/>
        </p:nvSpPr>
        <p:spPr>
          <a:xfrm>
            <a:off x="1187280" y="1700280"/>
            <a:ext cx="7705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сеукраїнську Інтернет-школу новаторства керівних, науково-педагогічних і педагогічних працівників післядипломної педагогічної освіти «Сучасний науково-методичний супровід регіональних та зональних шкіл новаторства керівних, науково-педагогічних і педагогічних працівників із питань дошкільної, загальної, середньої та післядипломної освіти в контексті Закону України «Про освіту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Verdana"/>
              </a:rPr>
              <a:t>(15 червня, м. Рівне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84040" y="177840"/>
            <a:ext cx="690732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28240" y="692280"/>
            <a:ext cx="793908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 algn="ctr">
              <a:spcBef>
                <a:spcPts val="901"/>
              </a:spcBef>
              <a:buClr>
                <a:srgbClr val="009999"/>
              </a:buClr>
              <a:buSzPct val="120000"/>
              <a:buFont typeface="Verdana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ЗАПЛАНОВАНО: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оведенн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Школи молодих науковці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7-11 листопада 2016 р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на базі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 algn="ctr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Івано-Франківського ОІПП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8:34:08Z</dcterms:created>
  <dc:creator>Admin</dc:creator>
  <dc:description/>
  <dc:language>en-US</dc:language>
  <cp:lastModifiedBy>Alena</cp:lastModifiedBy>
  <dcterms:modified xsi:type="dcterms:W3CDTF">2016-11-01T08:29:00Z</dcterms:modified>
  <cp:revision>93</cp:revision>
  <dc:subject/>
  <dc:title>PowerPoint Template</dc:title>
</cp:coreProperties>
</file>